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17D7-EF9E-48E1-B9FE-EEC636CE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AD81-BBD4-40B4-AAEB-F0C5E0DF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0B3-5643-4009-B924-2132F17F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94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48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707-8329-43AA-855F-4898BE6B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FA31-87EA-4F4C-999A-4402277F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D29D-C51E-407F-974F-6E7A7D85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F0A3-1D8B-4C87-B41B-8CF56D9B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5447-FD00-46F4-A45B-B04831B0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0E8E-B425-4738-A5C9-0DD56DDC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7933-FE05-44F1-AEE4-597109AE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D5D9-93B1-4611-A9F8-B48B528C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590-1819-4DEC-B141-3306E5E0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631C-CAF0-4774-912F-4A4FF727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1E51-F7C2-4433-97A1-0A642D4D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088A-84B4-427A-968C-A4FDC069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D28A-DCE6-4D76-9438-DAF975CE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94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48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A976-ED19-47B1-8034-4AC1272F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FDF5-B323-4CC2-9D7E-82BF49AA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526-52AA-48A8-A558-03691EF0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900E-2D48-48A8-A0F1-CD08776C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20F9-F446-4CB5-855C-DCB86F1F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747-0FAB-44D8-B220-D0EFB4A3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7FEA-0068-428A-93E9-41C803E8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4DB-9B41-47CC-AB6C-6919B144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20320"/>
            <a:ext cx="19051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8680-0261-48BE-B3D6-93B89665C87E}" type="slidenum">
              <a:rPr b="1" lang="en-US" sz="1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E8A9-F2EA-4BD4-870B-21887E18EE2E}" type="slidenum">
              <a:rPr b="1" lang="en-US" sz="26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1600200"/>
            <a:ext cx="8001000" cy="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2871360" y="287136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Heavy"/>
              </a:rPr>
              <a:t>Computer Network Techn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9C8A-1F84-4821-A764-95651CB6FD55}" type="slidenum">
              <a:rPr b="1" lang="en-US" sz="26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743200"/>
            <a:ext cx="7696080" cy="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2871360" y="287136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Heavy"/>
              </a:rPr>
              <a:t>Computer Network Techn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NT211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ture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/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network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ollection of hardware and software which interconnects one or more systems for the purpose of sharing inform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u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ICs, hubs, routers, media interfa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b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Ss or applications which implement protoco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volution of networ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970-1982:   Unix machines on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983-1990:   PCs talk to file serv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991-1992:   PC Peer networks eme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993-present:  WWW and email eme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rver based networ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rge machine with many re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st CPU, lots of RAM, many dis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security managed thru server mach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ents store data on server rather than loc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cal “copies” of data and standard apps on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ssion critical data or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ministrator manag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er-to-Peer networ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 PC is a client and a ser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 savings for sma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group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 &lt; 6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 reli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wer problems (UPC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gular backu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icult to apply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administra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munications Medi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dia: copper, fiber-optic, microwave li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: single building or small camp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ly copper wiring, little fiber opt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 performance, low co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nks LANs together thru public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sed lines or public data net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ually lower performance, always higher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twork Operating System (NOS)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er-based networks require reli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undreds of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ry low down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entral secu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ndows NT Ser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vell Netw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kinds of servers or servi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ail ser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m pooling (dial-in or ou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x ser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b ser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xy ser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SI Reference Model (Layer cak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752480"/>
            <a:ext cx="1752480" cy="53352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286000"/>
            <a:ext cx="1752480" cy="53352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esent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2819520"/>
            <a:ext cx="1752480" cy="53316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352680"/>
            <a:ext cx="1752480" cy="53352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3886200"/>
            <a:ext cx="1752480" cy="53352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419720"/>
            <a:ext cx="1752480" cy="53316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ata Lin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952880"/>
            <a:ext cx="1752480" cy="53352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1676520"/>
            <a:ext cx="1752840" cy="53316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2209680"/>
            <a:ext cx="1752840" cy="53352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esent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2743200"/>
            <a:ext cx="1752840" cy="53352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10280" y="3276720"/>
            <a:ext cx="1752840" cy="53316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3809880"/>
            <a:ext cx="1752840" cy="53352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4343400"/>
            <a:ext cx="1752840" cy="53352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ata Lin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4876920"/>
            <a:ext cx="1752840" cy="53316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486400"/>
            <a:ext cx="0" cy="685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6172200"/>
            <a:ext cx="6172200" cy="0"/>
          </a:xfrm>
          <a:prstGeom prst="line">
            <a:avLst/>
          </a:prstGeom>
          <a:ln w="158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5410080"/>
            <a:ext cx="0" cy="7621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2590920"/>
            <a:ext cx="2971800" cy="914400"/>
          </a:xfrm>
          <a:prstGeom prst="leftRightArrow">
            <a:avLst>
              <a:gd name="adj1" fmla="val 50000"/>
              <a:gd name="adj2" fmla="val 64699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3049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reaking down OSI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1752480"/>
            <a:ext cx="1752480" cy="53352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2286000"/>
            <a:ext cx="1752480" cy="53352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esent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2819520"/>
            <a:ext cx="1752480" cy="53316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3352680"/>
            <a:ext cx="1752480" cy="53352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3886200"/>
            <a:ext cx="1752480" cy="53352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4419720"/>
            <a:ext cx="1752480" cy="53316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ata Lin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4952880"/>
            <a:ext cx="1752480" cy="53352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4120" y="5029200"/>
            <a:ext cx="45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mit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data signals on the med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895120" y="5257800"/>
            <a:ext cx="83844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1120" y="601992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iring is not included in this model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5486400"/>
            <a:ext cx="0" cy="533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6019920"/>
            <a:ext cx="51814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5920" y="4495680"/>
            <a:ext cx="41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ragments messages int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m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895120" y="4724280"/>
            <a:ext cx="83844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7360" y="3962520"/>
            <a:ext cx="43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messages thru the networ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895120" y="4191120"/>
            <a:ext cx="83844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1960" y="3352680"/>
            <a:ext cx="41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iable servic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(retransmitting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895120" y="3581280"/>
            <a:ext cx="83844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2320" y="2819520"/>
            <a:ext cx="51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istent connection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and authentic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7000" y="228600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ata conversion and encryp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9160" y="175248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S level serv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895120" y="3048120"/>
            <a:ext cx="83844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895120" y="2514600"/>
            <a:ext cx="83844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895120" y="1981080"/>
            <a:ext cx="83844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pping OSI to the Real Worl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1752480"/>
            <a:ext cx="1752480" cy="53352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2286000"/>
            <a:ext cx="1752480" cy="53352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esent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2819520"/>
            <a:ext cx="1752480" cy="53316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352680"/>
            <a:ext cx="1752480" cy="53352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3886200"/>
            <a:ext cx="1752480" cy="53352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4419720"/>
            <a:ext cx="1752480" cy="53316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ata Lin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4952880"/>
            <a:ext cx="1752480" cy="533520"/>
          </a:xfrm>
          <a:prstGeom prst="rect">
            <a:avLst/>
          </a:prstGeom>
          <a:solidFill>
            <a:srgbClr val="99cc9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10960" y="502920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SMA/CD or token pass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895120" y="5257800"/>
            <a:ext cx="83844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1120" y="601992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iring is not included in this model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5486400"/>
            <a:ext cx="0" cy="533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6019920"/>
            <a:ext cx="51814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080" y="449568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thernet or Token-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895120" y="4724280"/>
            <a:ext cx="83844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10960" y="3962520"/>
            <a:ext cx="38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P, IPX, NetBEUI, AppleTal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895120" y="4191120"/>
            <a:ext cx="83844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13480" y="335268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CP, SP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895120" y="3581280"/>
            <a:ext cx="83844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080" y="2819520"/>
            <a:ext cx="32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ogin, SAM verific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4480" y="1752480"/>
            <a:ext cx="44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etwork drives, file transfer, teln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895120" y="3048120"/>
            <a:ext cx="83844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895120" y="2514600"/>
            <a:ext cx="83844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895120" y="1981080"/>
            <a:ext cx="83844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o am I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o are yo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llabus and course schedu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.1 Understanding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.2 Introducing NT Ser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view ques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.2 Introducing NT Serve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T Workstation vs Ser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tasking / Multith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rocessor (SM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T File System (NTF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ult Tolerance (RAI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ministration Fea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port Protoco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rrors in the textboo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erences between Server and Workstation are somewhat trivialized (p. 2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IX does not cost $1500 (p. 2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SC support has been dropped:  NO Alpha, MIPS, PowerPC for NT 4.0 (p. 2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6 Exabytes = 16,000TB (p. 2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 filenames ARE supported in FAT filesystem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T Workstation vs. Serv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most identical except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T Server costs about twice as mu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ching on NT Server favors network ac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T Workstation is mis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ices for Macinto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main logon valid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T Directory Serv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protocol routing and DNS, DHCP, WI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 admin tools not install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pacity Comparis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43040" y="1828800"/>
          <a:ext cx="797868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828800"/>
                    <a:ext cx="797868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Multitasking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tasking:   The ability of the OS to execute multiple processes apparently as concurr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 program invocation (“running”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emp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S may “preempt” (stop) a process executing in the CPU (Win 95/N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some processes more important (N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process relinquishes control of the CPU to the OS (Windows 3.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Multithreading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threading:  The ability of a process to have multiple functions execute apparently concurrent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nchronous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olled by the initiating pro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 background printing in Wo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ynchronous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ependent of the initiating pro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 file download in Netscap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ymmetrical Multiprocessing (SM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MP:  2 or more identical CPUs executing multiple processes actually concurrent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M, disk, and display freely sh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oretical gain:  “N” processors =  N x fa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ividual apps do not accelerate unless carefully design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base servers (Oracle, SQLServer) do split work evenly between CPU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TFS Comparis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11280" y="1905120"/>
          <a:ext cx="8759880" cy="46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05120"/>
                    <a:ext cx="875988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ault Tolera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dundant Array of Inexpensive Disks (RAI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k Mirroring (RAID 1):  write same data to two physical disks.   If one disk fails, data is still on the other di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3581280"/>
            <a:ext cx="1219320" cy="1219320"/>
          </a:xfrm>
          <a:prstGeom prst="flowChartMagneticDisk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isk 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5105520"/>
            <a:ext cx="1219320" cy="1218960"/>
          </a:xfrm>
          <a:prstGeom prst="flowChartMagneticDisk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isk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419720"/>
            <a:ext cx="160020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5105520"/>
            <a:ext cx="609480" cy="152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429000" y="4190760"/>
            <a:ext cx="2971800" cy="533160"/>
          </a:xfrm>
          <a:prstGeom prst="line">
            <a:avLst/>
          </a:prstGeom>
          <a:ln w="475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4876920"/>
            <a:ext cx="2895480" cy="838080"/>
          </a:xfrm>
          <a:prstGeom prst="line">
            <a:avLst/>
          </a:prstGeom>
          <a:ln w="475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k Striping with Parity (RAID 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written across 3 to 32 disks.  Data is not duplicated bu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ity inform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regenerate missing bl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  one file which is 6 blocks lo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4343400"/>
            <a:ext cx="1905120" cy="1981080"/>
          </a:xfrm>
          <a:prstGeom prst="flowChartMagneticDisk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4343400"/>
            <a:ext cx="1904760" cy="1981080"/>
          </a:xfrm>
          <a:prstGeom prst="flowChartMagneticDisk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4343400"/>
            <a:ext cx="1905120" cy="1981080"/>
          </a:xfrm>
          <a:prstGeom prst="flowChartMagneticDisk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38880" y="4343400"/>
            <a:ext cx="1905120" cy="1981080"/>
          </a:xfrm>
          <a:prstGeom prst="flowChartMagneticDisk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105520"/>
            <a:ext cx="838188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LOCK1              BLOCK2      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PARITY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          BLOCK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5486400"/>
            <a:ext cx="838188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LOCK4          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PARITY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        BLOCK5            BLOCK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ctor R. Volkm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T Administrator since 199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hor of C/C++ programming boo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ributing Editor for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indows Developers Jour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bmaster for six different .COM/.OR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ll-time programmer (14 years experienc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aring RAID solu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15840" y="1797120"/>
          <a:ext cx="7967880" cy="417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797120"/>
                    <a:ext cx="796788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T Secur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 C2:  password required, deleted data cleaned from di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ministrators determine access rights (NTF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ral security classes of users built-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rs and computers must both be authorized to log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main Based Administr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uter accounts managed by designated Domain Control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a set of computers, resources, and us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user/password good for all mach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operable with Workgrou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ministration Features of 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ntralized users profi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rectory repli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sk scheduling (“cron”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ote administration (Win 2000 bett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d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twork API Sup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B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I originally designed for MS-DOS progr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ldest and easiest to adminis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ows Sockets (WINSOCK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I for TCP/IP based on Uni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n-proprietary, standards-bas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th are Interoperable with Win 3.1 execut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port Protocols for 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work Driver Interface Spec (NDIS) allows multiple protocols to use the same N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BEUI:  NetBIOS Extended User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n-routable without help from TCP/I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WLink: Novell Netware IPX/SPX compat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able on WANs, friendly to Netw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CP/IP:  Internet gold stand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 skill needed to set up correctly, WAN friend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LC: Data Link Control (printers, mainfram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tware Interoperabil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ent drivers to access Netware servers via Netware Directory Service (ND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ware gateway enables users to access Netware services as if they were part of the dom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covered in detail in this c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mote Access Service (RA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expensive dial-in solution for LAN ac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S server can provide a pool of outdial mod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orts X.25, ISDN, and Windows 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covered in this class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rnet Information Server (II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WW server (http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6 TCP/IP addresses per ser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ple dotcoms can work from the same addr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TP server (ftp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pher ser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iew Ques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differences between Server-based and peer-to-peer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would you choose Server-bas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differences between a LAN and a W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a Network Operating Syste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difference between multitasking and multithread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SMP and when can it help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would you use NTF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are you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employ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mploy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you 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r experience with N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this class might help yo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stu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ertificate or Degree you are working 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r Dream Jo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iew Questions 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would you choose RAID and 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transport protocol does your network us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can NT Server be used in transitioning out of Novell Netwar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tting the most out of this cla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k about what motivate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y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?   Experimenting with technolog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nce for a better job?  MCSE Certificatio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grad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chapters in advance when poss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ing the book to clas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view the presentations “as homework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 questions immediately, don’t wait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tting the most 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vestigate URLs from lecture AND the bo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are just 16 meetings, each is import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oin the optional class mail discussion 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ke advantage of Win2000 briefings if you have the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5562720"/>
            <a:ext cx="3733560" cy="68580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icrosoft Great Lakes Divis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www.microsoft.com/greatlakes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events are free, always with door priz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-registration highly recommen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2000 Launch at Cobo Hall on 2/1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Acce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riefing on Win20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ns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bruary 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voni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ch 1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rre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ch 1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e copy of  Win2000 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Acce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n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yllabus and course schedu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e handou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 home p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http://www.HAL9K.com/cnt2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.1 - Understanding Networ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a networ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olution of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er-based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er-to-peer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unications me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work Operating System (NO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n Systems Integration (OSI) Reference Mod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17:59:37Z</dcterms:created>
  <dc:creator>Victor R. Volkman</dc:creator>
  <dc:description/>
  <dc:language>en-US</dc:language>
  <cp:lastModifiedBy>Victor R. Volkman</cp:lastModifiedBy>
  <dcterms:modified xsi:type="dcterms:W3CDTF">2000-01-13T01:33:18Z</dcterms:modified>
  <cp:revision>20</cp:revision>
  <dc:subject/>
  <dc:title>OSI Layer Cake Model</dc:title>
</cp:coreProperties>
</file>