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C67-670E-4067-A8DB-86949E98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254-8844-478C-B1F9-386D7C4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C81-4A6B-4885-9FAB-6271B8C2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21B-1664-4609-BB5C-4FB8AB78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3D92-279A-434E-93DB-6753A402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43E-18D1-4CF3-B939-1C6556B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FBD0-2D6D-4345-85DD-991A68F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4D55-0AA7-442A-8212-13EF5D8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39D-0E4F-4B27-9D25-ED0F841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87E-E156-4B04-88D1-7E0FC88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E643-D14A-40B5-8A03-5D122F4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A5C-0E41-4400-9B9F-BC2D62C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EA0-7A58-4B5B-9639-5DC484E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8A28-FE26-43D1-8501-6915C52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ACCE-85AD-43AA-87BD-C09BA6CA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ED5-0A24-49FC-BE03-34139BD6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417B-43CD-4BDF-BCAD-76034386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D48-8C9B-4E49-A012-36E84AEF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10A-8EAE-49F0-A732-A2DFC13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84C-C5D3-42BA-8080-622413E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78A-16F9-483F-ABFE-C76F873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58D-954C-47F2-B08B-0377DE7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FD4-C359-46B2-9119-51500F3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F35-4480-4E32-A411-626B80A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20320"/>
            <a:ext cx="1905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134-C347-4252-86A2-76BE3B2CDE85}" type="slidenum">
              <a:rPr b="1" lang="en-US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CF17-1804-460D-94EC-1417831F4A1E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183-26A1-40E9-9F84-EAFBA6DB6E21}" type="slidenum"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rver Administration Too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e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vs. Off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Ss above 5kVA in size are almost universally on-line in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difficult to produce an on-line economically below around 600VA, so most UPSs below this size are off-lin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S Control Panel Applet (UPS.CPL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629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tility on Un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duler service must be activated in Services applet before first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un jobs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er or any other designated u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un in the background even when nobody is logged on at the cons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jobs with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mand or via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 Schedul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ing jobs with the AT command (p. 62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ommonly used syntax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[\\computer] time /INTERACTIVE /EVER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fy day-of-week or day-of-mo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\\barney  00:05 /every:su c:\jobs\weekly.ba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09:00 /next:Tuesday c:\jobs\report.ba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2 /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using /INTERACTIVE unless you have no cho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rectory Repl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ommon use:  copy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n scrip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fi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rom PDC to BD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on any data shared between computers or dom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a dynamic service th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tinuous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dentifies changed and new files and copies th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will remove files or create subdirectories as necessary to keep them ident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ort and Export Ser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ort Server must be NT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 Server can be NT Serv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NT Server can be both an export and import server at the same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ing an export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designate the following it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direc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all subdirectories and files beneath the directory can be ex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To 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ist of computers and domains which will import the 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exporting to a domain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very compu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figured to import the files will receiv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computer can only expor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ne replication tr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the Directory Replicator serv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n account that is a member of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cal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import and export server must be running Directory Replicat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st relationships must be set up as u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 Manag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onfigure exports and impo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er Administration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S (pp.607-61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duler (pp. 625-6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ory Replication (pp. 630-6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S or Whats wrong with my pow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k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massive voltage impulses that last for a split second, they are often caused by lightning, static, or large machin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higher voltages that last for more than one second.  Smaller increase than spikes.  Surges often happen when large electrical machinery is switche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f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g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re the opposite of surges. The voltage dips suddenly for a moment, usually because large equipment was switche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n more power bu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high frequency signals that travel along the power supply lines. Noise is caused by radio transmission, lightning and computer power suppl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ou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re long-term lower than normal voltages, lasting for minutes or even hours. This usually happens when the power supply in your area is overtaxed.  (e.g. when transformers are dow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more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 loop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re power impulses between                                                linked devic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magnetic interf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generated by radio transmitters, fluorescent lights, even computer accessor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Uninterruptible power supply (UPS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A device that provides immediate battery power to equipment during a power failure or brownout for a limited time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Online UP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Battery backup device that provides power to equipment directly from its batteries at all ti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Arial"/>
              </a:rPr>
              <a:t>Offline UP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Battery backup device that waits until there is a power decrease or sag before switching to battery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VA versus Wat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t-Amps,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is the amount of apparent power supplied to equipment, or volts x am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t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actual amount of the power that is available to do work, and is always less than or equal to the VA rat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atio of watts to VA is the 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fa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 of the equi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me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most reliable method to gauge actual 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fline 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es through incoming mains power to the output sockets while the supply is go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monitors the line constantly for a major voltage drop that signifies power fail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then switches on it'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converts DC to AC) and supplies output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power loss during switchover, but typically of around five milliseconds, which is insignificant to most load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the incoming power is always converted to direct current, which both tops up the batteries and feeds the invert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verter is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-duty inver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so this costs a little mo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lso a fail-safe mechanism known as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Byp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on detecting failure in the inverter will throw the load on the mercy of the mains supply, rather than letting it drop altogether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24:30Z</dcterms:created>
  <dc:creator>Victor R. Volkman</dc:creator>
  <dc:description/>
  <dc:language>en-US</dc:language>
  <cp:lastModifiedBy>Victor R. Volkman</cp:lastModifiedBy>
  <dcterms:modified xsi:type="dcterms:W3CDTF">2000-04-17T23:53:00Z</dcterms:modified>
  <cp:revision>4</cp:revision>
  <dc:subject/>
  <dc:title>Server Administration Tools</dc:title>
</cp:coreProperties>
</file>