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jpeg" ContentType="image/jpeg"/>
  <Override PartName="/ppt/media/image6.wmf" ContentType="image/x-wmf"/>
  <Override PartName="/ppt/media/image7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ACDB-B4AC-4F49-9DF2-2EF33AC31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04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1332-A1FF-464F-AF2A-D2603705C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04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1372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C63D-359E-4CDB-A261-9B56908C0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1944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484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04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1944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484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2D85-3728-489B-A4F8-EAFB7B5F0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C29C4-52F5-41C9-B3DE-F96EEF55E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1D530-11C3-4DFE-8DCC-74F865045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1B247-9CDD-49AA-AE43-1B6B4B638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11A5A-358D-4921-8920-2D22CD9E2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C653B-471A-4021-9B47-A7FBF4307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040" y="3045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D49F0-4B47-4AC3-9712-2E9929752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04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C7648-B330-4C3F-9B15-F775A9349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27B6-BC88-4F39-869B-399471EDA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1372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FBB19-522E-4D7A-B85F-2C52592DC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04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441A5-35C1-41E4-BEB7-499E32FF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1404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F98EE-549D-4E1C-B1DB-4B6F79983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04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372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FFBC1-2327-485F-8F54-A5D0A72D4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1944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2484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1404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1944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2484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AB08D-D739-4EE6-BC35-C882D8FE1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91B1-77F9-4CAE-876F-5788E9148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53BE-4F16-4ECA-B445-B528FEC40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9316-08B3-4655-A14B-15721615F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040" y="3045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237D-2D15-47FC-8D92-E05BC5D55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04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4FDE-A0A3-42B8-B2B0-7B112E58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1372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8284-1359-4356-9967-BE60FEAF8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04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D9B3-49ED-4293-8172-F12F989E8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238880" y="6520320"/>
            <a:ext cx="190512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96EB7-DDB7-41CE-971A-E4EB5CB7A8CF}" type="slidenum">
              <a:rPr b="1" lang="en-US" sz="16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99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8F5FC-2FDE-450D-8602-878A2E4DFB73}" type="slidenum">
              <a:rPr b="1" lang="en-US" sz="26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14400" y="1600200"/>
            <a:ext cx="8001000" cy="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16200000">
            <a:off x="-2871360" y="287136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Heavy"/>
              </a:rPr>
              <a:t>Computer Network Technolog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99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D0554-1D5A-4E76-B002-51A60C657CA5}" type="slidenum">
              <a:rPr b="1" lang="en-US" sz="26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2743200"/>
            <a:ext cx="7696080" cy="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6200000">
            <a:off x="-2871360" y="287136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Heavy"/>
              </a:rPr>
              <a:t>Computer Network Technolog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NT211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cture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/2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naging the Server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now the normal values of performance statistic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sult the current statistics when problems ari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atistics justify capacity planning before disaster sets 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stalling the Network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fessional installation needed for large offices ( &gt;10 station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nufactured cables may be more reliable than hand-roll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derstand the cabling of the existing network before making chang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intaining Securit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rewalls (not covered in this clas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radeoff:  more security, less “friendly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stablish written and understandable polic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t management buy-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tecting Dat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kup must occur nightly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ave a written plan, make sure its execut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kup is not sexy, until disaster strik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ardware failu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r failu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urity failu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ir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ocumenting the Network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n’t rely on your memo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ood documentation makes increasing staff easier and vacations possib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very cable should be identified on both en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ub-level wiring diagram should be kept curr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r manager require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ccurate inventory including serial numb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cords for maintenance contracts and leas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upporting Network Applicati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stalling software over the networ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are the help des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termine user workstation nee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raining us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ranet help pages (local FAQ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.4  Planning and Installing Network Medi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mon Characteristics of Med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ectromagnetic Interference (EMI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ndwidt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s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dia Typ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ax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T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b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rror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00Mbit is about the limit of bandwidth for UTP Cat5” (p. 52)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000BaseT will use Cat5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me Ethernet NICs are less than $100” (p. 75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$20 is the street price for Ethernet NIC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mmon Characteristics of Medi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. Electromagnetic Interference (EMI) Sensitiv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. Bandwidt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3. Co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 single media fits all problems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lectromagnetic Interference (EMI) Sensitivit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y dynamic magnetic field causes static in copper LAN cab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.g. Florescent lights, electric motors, lightn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N cables produce a magnetic field (radio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us a risk exists of clandestine recep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 all-fiber optic network can be substitut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r use of completely encrypted da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mpus safety and secur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uthor Eric S. Raymond on camp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n2000 upda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visit CNT 211 websi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view lecture #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.3  Your Job as Administrat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.4  Planning and Installing Network Med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b shakedown exerci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andwidth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veryone talks about it, nobody does anything about i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TP Cat 4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 20Mbit/sec in full duplex mo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TP Cat 5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 100Mbit sec in half duplex mo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manding applications for bandwidt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ideoconferenc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rver-to-server communications (e.g. cluster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ackup over the networ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ypes of Bandwidth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ban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entire bandwidth is devoted to one data signal (UTP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oadban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bandwidth carries multiple signals simultaneously, receiver “tunes” in (cable TV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s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b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e-made cost 3 to 10 times as much as hand roll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IC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rom $20 to $200 (server rated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ub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ctive (cheap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witched (medium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naged (higher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ypes of Medi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axi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hielded Twisted Pair (STP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shielded Twisted Pair (UTP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ber-opti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axial cab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G-11, RG-8: obsolete “thick” coax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G-58:  thinnet, BNC, 10Base2 (see pictur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G-59:  TV cable, broadband on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6" name="CoaxPatch" descr=""/>
          <p:cNvPicPr/>
          <p:nvPr/>
        </p:nvPicPr>
        <p:blipFill>
          <a:blip r:embed="rId1"/>
          <a:stretch/>
        </p:blipFill>
        <p:spPr>
          <a:xfrm>
            <a:off x="4876920" y="3649680"/>
            <a:ext cx="400032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G-58 “thinnet”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vantag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hielded for EMI resista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liable if not alter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advantag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us topology is difficult to add/remove sta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and-rolled cables can be balk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less at speeds above 10Mbi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hielded Twisted Pair (STP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wo insulated wires twisted togeth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d for token ring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vantag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uilt-in EMI cancell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urdy and durab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advantag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t 100% EMI-proo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ulk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op speed usually 16Mbi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nshielded Twisted Pair (UTP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wo pairs, no shield, RJ-45 connect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ny grades of cable availab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hould be wired professional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TP Cat5 recommended for all new instal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3" name="ColorPatch" descr=""/>
          <p:cNvPicPr/>
          <p:nvPr/>
        </p:nvPicPr>
        <p:blipFill>
          <a:blip r:embed="rId1"/>
          <a:stretch/>
        </p:blipFill>
        <p:spPr>
          <a:xfrm>
            <a:off x="5029200" y="3848040"/>
            <a:ext cx="380988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TP “Categories”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t 1:  Voice-gra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t 3:  10Mbit Ethernet or 16Mbit Token R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t 4:  20Mbit (full duplex) Ethern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t 5:  100Mbit+ bandwidt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t 7:  2.4GBit for ATM equip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TP:  Pros and C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vantag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st inexpensive cabl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ightweight and compac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stallation straightforwar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advantag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igh EMI potential (see Cat 5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igabit standards not fully accept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ampus safety and securit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Escort Service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- Staff, Students and guests may request a security escort from any location on campus to any other location on campus by                    contacting the Office of Campus Safety and Security at extension #3411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Motorist Assist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- Security staff will provide vehicle jump-start assistance.  leave their lights on, etc. The Office of Campus Safety and                      Security will help you call for a tow truck. </a:t>
            </a: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http://www.wccnet.org/admin/security/service.htm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iber-Optic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cables4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8534520" cy="50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iber-Optic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ast:  1GBit+ rat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ar:  100s of mi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MI:  None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st:  most expensive but can be justifi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rver-to-server communica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ong haul campus interconnec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ANs in gener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ound long-term invest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st of Fiber-Optic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ble cost similar to Cat5 in bul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ber NIC cards about $25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mpare to $20 for Cat5 NIC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2-port hub $150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mpare to $100 for Cat5 hub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pper vs. Fib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ber takes less space in the condui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ber is immune to EMI and eavesdropp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ber is corrosion proof and reliab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ber bandwidth considered unlimit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ber is forever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ummary of Cable Characteristic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933480" y="1762200"/>
          <a:ext cx="7969320" cy="420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3480" y="1762200"/>
                    <a:ext cx="7969320" cy="420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ireless Medi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tical Link:  infrared or las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F (“Radio”) Link:  microwave, UHF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st often used when public right-of-way prevents cabl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ptical Link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milar to IR ports used on laptop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rge room optical link uses infrar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int-to-point laser link between building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ndwidth low considering the cost (&lt;5Mbit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F LA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pread Spectru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s multiple frequencies simultaneousl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nlicensed frequencies “free for all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n work through wall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8Ghz Cellula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torola proprietary, licensed nationwid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ybrid of wires/wireles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opologi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ll topologies based on bus or point-to-poi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 all devices hear the sign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nt-to-Poin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two devices on the end of a wi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kind of topology are the following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rallel por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use por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CI, IS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us Network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905120" y="5486400"/>
            <a:ext cx="1447560" cy="106668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Machine 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09880" y="5486400"/>
            <a:ext cx="1447920" cy="106668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Machine 2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715000" y="5486400"/>
            <a:ext cx="1447920" cy="106668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Machine 3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vices connect to the bus in “T” junc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lways terminated on both en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st often used with 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nne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e bus segment shown below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2666880" y="4876560"/>
            <a:ext cx="0" cy="609480"/>
          </a:xfrm>
          <a:prstGeom prst="line">
            <a:avLst/>
          </a:prstGeom>
          <a:ln w="414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572000" y="4876560"/>
            <a:ext cx="0" cy="609480"/>
          </a:xfrm>
          <a:prstGeom prst="line">
            <a:avLst/>
          </a:prstGeom>
          <a:ln w="414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477120" y="4876560"/>
            <a:ext cx="0" cy="609480"/>
          </a:xfrm>
          <a:prstGeom prst="line">
            <a:avLst/>
          </a:prstGeom>
          <a:ln w="414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4876920"/>
            <a:ext cx="6095880" cy="0"/>
          </a:xfrm>
          <a:prstGeom prst="line">
            <a:avLst/>
          </a:prstGeom>
          <a:ln w="414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558200" y="5486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177" name=""/>
          <p:cNvCxnSpPr>
            <a:stCxn id="178" idx="0"/>
          </p:cNvCxnSpPr>
          <p:nvPr/>
        </p:nvCxnSpPr>
        <p:spPr>
          <a:xfrm flipV="1" rot="16200000">
            <a:off x="7566480" y="5005440"/>
            <a:ext cx="915120" cy="656640"/>
          </a:xfrm>
          <a:prstGeom prst="curvedConnector5">
            <a:avLst>
              <a:gd name="adj1" fmla="val 49980"/>
              <a:gd name="adj2" fmla="val 49972"/>
              <a:gd name="adj3" fmla="val 49980"/>
            </a:avLst>
          </a:prstGeom>
          <a:ln w="4428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178" name=""/>
          <p:cNvSpPr/>
          <p:nvPr/>
        </p:nvSpPr>
        <p:spPr>
          <a:xfrm>
            <a:off x="7556040" y="5791320"/>
            <a:ext cx="159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rminat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ric S. Raymond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uthor and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Open Source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Guru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is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Open Sourc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nd how it will affect yo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uthor of “The Cathedral and the Bazaar”, the paper that convinced Netscape to release its source code to the publi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d., Jan. 19th at 7:30PM in Morris Laurence Bldg., WCC camp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ponsored by Washtenaw Linux Users Grou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http://www.lugwash.org/meeting.htm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oint-to-Point Link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lf-duplex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 one device talks then “turns over” the chann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ll-duplex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 both devices can send messages in either direction simultaneously (see pic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 two-pair wiring, this is done by dedicating one pair to transmit each wa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295280" y="4800600"/>
            <a:ext cx="1447920" cy="106668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Machine 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934320" y="4800600"/>
            <a:ext cx="1447560" cy="106668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Machine 2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5029200"/>
            <a:ext cx="4191120" cy="0"/>
          </a:xfrm>
          <a:prstGeom prst="line">
            <a:avLst/>
          </a:prstGeom>
          <a:ln w="792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743200" y="5715000"/>
            <a:ext cx="4114800" cy="0"/>
          </a:xfrm>
          <a:prstGeom prst="line">
            <a:avLst/>
          </a:prstGeom>
          <a:ln w="792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745360" y="45720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250680" y="4572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326640" y="56386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745360" y="5791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uilding Networks with buss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dg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onnects multiple bu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gm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bridge may include 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witch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o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lter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cke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676520" y="5562720"/>
            <a:ext cx="1447560" cy="106668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Machine 1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81280" y="5562720"/>
            <a:ext cx="1447920" cy="106668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Machine 2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6400" y="5562720"/>
            <a:ext cx="1447920" cy="106668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Machine 3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2438280" y="5181120"/>
            <a:ext cx="0" cy="381240"/>
          </a:xfrm>
          <a:prstGeom prst="line">
            <a:avLst/>
          </a:prstGeom>
          <a:ln w="414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343400" y="5181120"/>
            <a:ext cx="0" cy="381240"/>
          </a:xfrm>
          <a:prstGeom prst="line">
            <a:avLst/>
          </a:prstGeom>
          <a:ln w="414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6248520" y="5181120"/>
            <a:ext cx="0" cy="381240"/>
          </a:xfrm>
          <a:prstGeom prst="line">
            <a:avLst/>
          </a:prstGeom>
          <a:ln w="414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219320" y="5181480"/>
            <a:ext cx="6095880" cy="0"/>
          </a:xfrm>
          <a:prstGeom prst="line">
            <a:avLst/>
          </a:prstGeom>
          <a:ln w="414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329600" y="5562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23880" y="2895480"/>
            <a:ext cx="1447920" cy="106704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Machine 4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429000" y="2895480"/>
            <a:ext cx="1447920" cy="106704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Machine 5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34120" y="2895480"/>
            <a:ext cx="1447560" cy="106704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Machine 6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2362320" y="3962520"/>
            <a:ext cx="0" cy="304560"/>
          </a:xfrm>
          <a:prstGeom prst="line">
            <a:avLst/>
          </a:prstGeom>
          <a:ln w="414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3962520"/>
            <a:ext cx="0" cy="304560"/>
          </a:xfrm>
          <a:prstGeom prst="line">
            <a:avLst/>
          </a:prstGeom>
          <a:ln w="414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6172200" y="3962520"/>
            <a:ext cx="0" cy="304560"/>
          </a:xfrm>
          <a:prstGeom prst="line">
            <a:avLst/>
          </a:prstGeom>
          <a:ln w="414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143000" y="4267080"/>
            <a:ext cx="6095880" cy="0"/>
          </a:xfrm>
          <a:prstGeom prst="line">
            <a:avLst/>
          </a:prstGeom>
          <a:ln w="414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743200" y="4495680"/>
            <a:ext cx="1828800" cy="3812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idg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3429000" y="4191120"/>
            <a:ext cx="0" cy="304560"/>
          </a:xfrm>
          <a:prstGeom prst="line">
            <a:avLst/>
          </a:prstGeom>
          <a:ln w="414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3809880" y="4876920"/>
            <a:ext cx="0" cy="304560"/>
          </a:xfrm>
          <a:prstGeom prst="line">
            <a:avLst/>
          </a:prstGeom>
          <a:ln w="414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(Token) Ring Network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ach device can receive from one neighbor and transmit to one neighb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676520" y="5486400"/>
            <a:ext cx="1447560" cy="106668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Machine 1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676520" y="2743200"/>
            <a:ext cx="1447560" cy="106668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Machine 2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334120" y="5562720"/>
            <a:ext cx="1447560" cy="106668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Machine 3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257800" y="2743200"/>
            <a:ext cx="1447920" cy="106668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Machine 4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24080" y="3581280"/>
            <a:ext cx="2133720" cy="0"/>
          </a:xfrm>
          <a:prstGeom prst="line">
            <a:avLst/>
          </a:prstGeom>
          <a:ln w="63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638680" y="3733920"/>
            <a:ext cx="0" cy="1828800"/>
          </a:xfrm>
          <a:prstGeom prst="line">
            <a:avLst/>
          </a:prstGeom>
          <a:ln w="63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123720" y="5715000"/>
            <a:ext cx="2210040" cy="0"/>
          </a:xfrm>
          <a:prstGeom prst="line">
            <a:avLst/>
          </a:prstGeom>
          <a:ln w="63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2819520" y="3809520"/>
            <a:ext cx="0" cy="1676520"/>
          </a:xfrm>
          <a:prstGeom prst="line">
            <a:avLst/>
          </a:prstGeom>
          <a:ln w="63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02560" y="31240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74160" y="31240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821680" y="50292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717160" y="38862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879080" y="52578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717160" y="5029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278880" y="5257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821680" y="3809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tar Network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ll machines connect to a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676520" y="5486400"/>
            <a:ext cx="1447560" cy="106668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Machine 1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676520" y="2743200"/>
            <a:ext cx="1447560" cy="106668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Machine 2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34120" y="5562720"/>
            <a:ext cx="1447560" cy="106668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Machine 3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257800" y="2743200"/>
            <a:ext cx="1447920" cy="106668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Machine 4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124080" y="3581280"/>
            <a:ext cx="914400" cy="762120"/>
          </a:xfrm>
          <a:prstGeom prst="line">
            <a:avLst/>
          </a:prstGeom>
          <a:ln w="63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4343400" y="3733920"/>
            <a:ext cx="1295280" cy="609480"/>
          </a:xfrm>
          <a:prstGeom prst="line">
            <a:avLst/>
          </a:prstGeom>
          <a:ln w="63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 flipV="1">
            <a:off x="4419720" y="4952520"/>
            <a:ext cx="914400" cy="762120"/>
          </a:xfrm>
          <a:prstGeom prst="line">
            <a:avLst/>
          </a:prstGeom>
          <a:ln w="63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2819520" y="4952880"/>
            <a:ext cx="1143000" cy="533520"/>
          </a:xfrm>
          <a:prstGeom prst="line">
            <a:avLst/>
          </a:prstGeom>
          <a:ln w="63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657600" y="4343400"/>
            <a:ext cx="10666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Hub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dvantages of Star Topolog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asy to expand without disrupting serv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d devices can be isolat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aged hub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llow remote contro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ly way to go for UTP Cat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hysical vs. logical topologi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cannot rely on just cabling to guess the topolog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network wired as a star could be functioning as a ring (p. 62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network wired as a star could be functioning as a bus (p. 63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fference is due to the switch wiring </a:t>
            </a:r>
            <a:r>
              <a:rPr b="0" i="1" lang="en-US" sz="2800" spc="-1" strike="noStrike">
                <a:solidFill>
                  <a:srgbClr val="ffff99"/>
                </a:solidFill>
                <a:latin typeface="Arial"/>
              </a:rPr>
              <a:t>inside the hu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ore about hub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siv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 unpowered, useful only for token r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powered and may have some signal processing functions (see list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mplific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shaping/retiming of distorted signal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blem dete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nd performance and error repor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witching hub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ncrease total bandwidt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aged hub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allow remote contro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witching Hubs (p. 73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itching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allows private point-to-point connections between two pe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ach point-to-point connection enjoys 100% of the bandwidth, not just a share of i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90720" y="5791320"/>
            <a:ext cx="1447560" cy="106668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Machine 1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990720" y="3733920"/>
            <a:ext cx="1447560" cy="106668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Machine 2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5791320"/>
            <a:ext cx="1447560" cy="106668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Machine 3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934320" y="3733920"/>
            <a:ext cx="1447560" cy="106668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Machine 4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438280" y="3962520"/>
            <a:ext cx="1524240" cy="761760"/>
          </a:xfrm>
          <a:prstGeom prst="line">
            <a:avLst/>
          </a:prstGeom>
          <a:ln w="63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4800240" y="4038480"/>
            <a:ext cx="2133720" cy="685800"/>
          </a:xfrm>
          <a:prstGeom prst="line">
            <a:avLst/>
          </a:prstGeom>
          <a:ln w="63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 flipV="1">
            <a:off x="5029200" y="5562720"/>
            <a:ext cx="1905120" cy="761760"/>
          </a:xfrm>
          <a:prstGeom prst="line">
            <a:avLst/>
          </a:prstGeom>
          <a:ln w="63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2438280" y="5562360"/>
            <a:ext cx="1676520" cy="609480"/>
          </a:xfrm>
          <a:prstGeom prst="line">
            <a:avLst/>
          </a:prstGeom>
          <a:ln w="63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657600" y="4724280"/>
            <a:ext cx="1600200" cy="838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witching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Hub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23880" y="4952880"/>
            <a:ext cx="457200" cy="762120"/>
          </a:xfrm>
          <a:prstGeom prst="upDownArrow">
            <a:avLst>
              <a:gd name="adj1" fmla="val 50000"/>
              <a:gd name="adj2" fmla="val 33184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906560" y="51055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100%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162920" y="4876920"/>
            <a:ext cx="457200" cy="761760"/>
          </a:xfrm>
          <a:prstGeom prst="upDownArrow">
            <a:avLst>
              <a:gd name="adj1" fmla="val 50000"/>
              <a:gd name="adj2" fmla="val 33169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545240" y="50292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100%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183480" y="6213600"/>
            <a:ext cx="23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200% utilization!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naged Hub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chnologies for controlling Managed Hub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NMP:  Simple Network Management Protoco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eb-based interfaces including jav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ogin via Telnet cli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nagement featu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nable/disable one port at a tim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ather/report statistics in real tim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AN control and routing featur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MON: Remote MONitoring protoco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tel’s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Device View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for Managed Hub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idvstats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746748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in2000 pricing announce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ndows 2000 is $319 (same as NT 4.0 Workstatio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pgrade price from Windows NT is $149 or   $219 from Windows 95 or 98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five-user upgrade version of Windows 2000 Server will cost $499 or $999 for the full retail vers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10-user version will go for $1199 or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$599 as an upgrade from Windows NT or Novell NetWare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ub Technologies Comparis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685800" y="1752480"/>
          <a:ext cx="8136000" cy="5046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8136000" cy="504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AN Cabling Standard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EE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International Electrical and Electronics Engine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EEE LAN Standards Committee (“802”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802.2 Logical Link Control (LLC) lay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802.3 IEEE Etherne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802.3z 1000Base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802.5 IEEE Token R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O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 International Standards Organiz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SO 9314: Fiber Distributed Data Interfac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FDDI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therne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ates back to 1970s at Xerox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andardized a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EEE 802.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riginally used with coax (RG-11, RG-8, RG-58) but now embraces all med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sed o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s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polog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ey technology i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SMA/C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rrier Sense Multiple Access with Collision Dete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Listen Before Talking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arrier Sense Multiple Access with Collision Detection (CSMA/CD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rier Sens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listens to see if network is bus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f it is busy, then it will wait a while and try agai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ple Acces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implies simultaneous liste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ision Detectio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stop talking if someone else starts talk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ise in line voltage indicates “collision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fter a collision, wait a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dom time perio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before re-transmis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ndomness avoids deadloc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y does CSMA/CD work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rames are small: 1,518 bytes (~12Kbit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ndwidth is large:  10Mbits +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raffic load can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nev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reach 100%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n accept constant loads up t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%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capac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n accept traffic bursts up t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%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capac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abilistic access contro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method means there is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no guarante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when you can get thr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ken ring provides predictable delivery rat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thernet Cabl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ck Ethernet (10Base5)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no longer us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n Ethernet (10Base2)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coax with BN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isted-Pair Ethernet (10BaseT)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tar wiring topology which requires hubs and UTP cab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10 means 10Mbit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wer variants ar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0BaseT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100Mbit) an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00Base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(1000Mbit or 1GBit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0Base2 / 10Base5 limi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us topologies always have a max number of devices that can be support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eaters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be used to double maximum length limi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dge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must be used to link segm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f a segment grows too long, it must be spli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f a segment has too many devices, it must be spli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NC T-connectors mean cables must be cut to insert a new dev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mparison of 10Base5 and 10Base2 (p. 70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915840" y="1795320"/>
          <a:ext cx="7986960" cy="423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795320"/>
                    <a:ext cx="7986960" cy="42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wisted-Pair (10BaseT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shielded Twisted Pair (UTP), Cat5 preferr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quires star topology based on hub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uperior reconfiguration and manage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wo types of cabling required (p. 71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aight-thru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:  connects device to hu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ossover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“X”):  connects hub-to-hub or point-to-point (2-station network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00Base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00BaseTX: uses UTP Cat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ision Domain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longest network you can build without switches, bridges, or router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0BaseT can run 2500m (1.5mile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00BaseT can run 250m (820 fee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will probably us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al-speed (10/100) switche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o allow 10BaseT and 100BaseT to coexi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Revisit CNT 211 Website</a:t>
            </a:r>
            <a:br>
              <a:rPr sz="3600"/>
            </a:b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ttp://www.HAL9K.com/cnt211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00VG-AnyLA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P and IEEE 802.12 standar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t an Ethernet in the signalling sen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mand Based Priority Acces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o moderate collis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ceeds size limits of 100Bas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upports Ethernet and token ring fram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t in very widespread u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oken R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BM and IEEE 802.5 standar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y nobody likes Token R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ICs and hubs cost 8x as much as Etherne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n’t escape its proprietary pa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naging token ring requires software tool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6-Mbit speed limi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y you might have to use i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rministic access control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s suitable for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l-tim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(e.g. factory floor) opera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BM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egacy sit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oken-based Access Contro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ke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a special type of data frame that circulates around the logical r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676520" y="5486400"/>
            <a:ext cx="1447560" cy="106668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Machine 1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676520" y="2743200"/>
            <a:ext cx="1447560" cy="106668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Machine 2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334120" y="5562720"/>
            <a:ext cx="1447560" cy="106668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Machine 3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257800" y="2743200"/>
            <a:ext cx="1447920" cy="106668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Machine 4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124080" y="3581280"/>
            <a:ext cx="2133720" cy="0"/>
          </a:xfrm>
          <a:prstGeom prst="line">
            <a:avLst/>
          </a:prstGeom>
          <a:ln w="63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638680" y="3733920"/>
            <a:ext cx="0" cy="1828800"/>
          </a:xfrm>
          <a:prstGeom prst="line">
            <a:avLst/>
          </a:prstGeom>
          <a:ln w="63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3123720" y="5715000"/>
            <a:ext cx="2210040" cy="0"/>
          </a:xfrm>
          <a:prstGeom prst="line">
            <a:avLst/>
          </a:prstGeom>
          <a:ln w="63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2819520" y="3809520"/>
            <a:ext cx="0" cy="1676520"/>
          </a:xfrm>
          <a:prstGeom prst="line">
            <a:avLst/>
          </a:prstGeom>
          <a:ln w="63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202560" y="31240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574160" y="31240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21680" y="50292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717160" y="38862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79080" y="52578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17160" y="5029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278880" y="5257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821680" y="3809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200400" y="3581280"/>
            <a:ext cx="1066680" cy="99072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rot="19456800">
            <a:off x="3051000" y="380916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ke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oken Access Control Rul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device can transmit only when its in possession of the tok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t must wait until the token arriv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fter the device transmits data, its token is released to the networ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re is a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ximum transmission uni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(MTU) to prevent over-utilizat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Ring Error Monitor (REM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s your referee since all stations are equ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andles lost tokens and initial tok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lls what to do if data stops flow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dentifies frames bound for systems which are off-the-network or dow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BM Cabling syst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EEE 802.5 does not specify cabl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BM jacks allow ring to remain unbroken when unplugged (p. 77-8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st token rings use a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ysica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tar topology and the hub implements th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gica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r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228 MSAU (Multi Station Access Unit) is a passive hu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U (Controlled Access Unit) is active hu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oken ring limi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p to 260 devices and 33 MSAUs in a r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gment can be up to 100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peaters can extend the lengt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upports STP (Type 1 and 2) and UT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4Mbit and 16Mbit are only speeds availab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iber Distributed Data Interface (FDDI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DDI drivers included with Windows 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DDI is 100Mbit that functions like token r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DDI networks often use two rings to route frames in opposite directions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al-attache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st often used a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ackbon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because the rings can run up to 100km (60 mile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esn’t handle workstations being turned on and off very wel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e illustration p.8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tructured Cabling System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en more than 3 dozen PCs are involved, cabling becomes a nightmare spaghett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ructured cabling pulls all wires into centralized wiring closets (one per floor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ck panel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re installed in all cubic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ring ends at a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ch pane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nd then is fed into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ck-mounted hub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(24 or more port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lways professionally installed and use miles of cab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centrators and Stackable Hub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entrators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allow several types of media to be integrated in the wiring clos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pandable by adding media-specific plug-in card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ckable Hubs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designed to work togeth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scade por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connects like hubs togeth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nagement information can be accumulated or shar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Review Lecture #1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lanning Network Cabl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 many computers now?  Next year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verall bandwidth requirem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hysical barri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en drop areas for transient us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cations of hubs or terminato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ridges to connect bus segm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licies and procedu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stalling Network Cabl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st time is when building is under construction or before move-in da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sider buying a cable tester and cable making too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aceways can be used where ceilings are not open to cab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n’t try to do fiber installation yourself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. 4 Review questi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methods can be used to improve fault tolerance on a server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situations might require you to restore a backup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type of network is STP media used for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is the difference between baseband and broadband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type of media would you choose if EMI suceptibility is the primary concern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. 4 Review (cont.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media might you use to link two offices in adjacent skyscraper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makes bus topology different than point-to-point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 can two busses talk to each other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en would you choose 100VG-AnyLAN over 100BaseT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wo reasons why not to choose Token Ring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is a backbone and what type of media is appropriate for it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ab shakedown exercis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rmat up Ghost diskettes for every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store default NT Server setups from the networ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erify that the NT Server is restored O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ave the student's work up to the network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Quick tour of NT Administration tool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ask Manag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ndows NT “Diagnostics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.3  Your Job as Administrato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stalling Serv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naging Serv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naging the Networ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intaining Network Secur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tecting Da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cumenting the Networ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upporting and Training Us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stalling Server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makes a “server”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arge amounts of RAM (256MB - 1024MB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arge hard disk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MP suppor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ault Tolera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mproving Fault Tolera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ninterruptable Power Supplies (UP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I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rror Correcting Memory (ECM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etwork aler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7T01:20:53Z</dcterms:created>
  <dc:creator>Marian Volkman</dc:creator>
  <dc:description/>
  <dc:language>en-US</dc:language>
  <cp:lastModifiedBy>Victor R. Volkman</cp:lastModifiedBy>
  <dcterms:modified xsi:type="dcterms:W3CDTF">2000-01-20T02:30:01Z</dcterms:modified>
  <cp:revision>25</cp:revision>
  <dc:subject/>
  <dc:title>CNT211</dc:title>
</cp:coreProperties>
</file>