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E47-DDF9-4E65-83AD-078E4034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5DB-CA4E-4D27-9945-D48A3190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A37-FEEF-4C06-A8CE-3FC4C967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0EA-6985-41CD-8AB4-7A8BDFE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89E-066E-4BFA-87B6-F2EBE843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B91-C463-4755-9E7C-B3754406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E86F-4B06-455B-BF2F-B566945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BE0-02A5-47CB-8017-361B3EBB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009-1328-4156-958B-D12FC1CB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EEE8-65FC-4799-9A73-5FB0D6A1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507A-2C7A-40D1-9D79-279F3CF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C10-A1F3-42AB-B0E2-1648E5FD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5E6E-E035-4CB9-A184-B8C5AB9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EF79-AF11-47AA-9499-1C07766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75D-14CD-48F9-8B83-49AFE85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4918-7E64-4F70-875E-54EB7FBA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E764-236B-4278-AA81-A006CF5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29D-BD3E-4465-BAC8-8E0BB5A8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257-0A82-4A12-AD49-D98FF368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37B-F2CE-49B9-95B9-E8BD5E1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286-86AB-4B90-93CE-D0FECA47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F02-A5CB-4A3D-B6DD-34DB30AA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F09-851C-4923-B24F-B5F9A94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EDD-A897-4ECB-A367-EC80331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20320"/>
            <a:ext cx="1905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431-3594-4E35-A7CF-6FC686FBA63F}" type="slidenum">
              <a:rPr b="1" lang="en-US" sz="1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50CC-910D-4EEB-A262-7FAEE9E84CF6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B5DB-26DA-4CCA-AE3B-E85BFAB3CBC1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NT 21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e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10/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naming a doma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computers in the domain must be modif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PDC first and reb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all BDCs and reboot each 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all servers and NT works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tablish trust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domain ends up with two PDCs, one will become a “lost BDC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ving Server and NT Works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T Server “standalone” and NT Workstation require no special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y edit their domain name and add them to the other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moting Domain Contro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PDC is down, users can still logon using the B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PDC is down the following are disab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/modify/delete user accou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ing user or group ri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/modify/delete global gro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/modify/delete local gro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:  always promote the BDC after downing a P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-class demonst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er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 Vie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nchronizing Domain Contro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rmally NT Server keeps all BDCs synchronized with the P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ay want to synchronize if you know a link is going down between the PDC and the B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ng NT Workstations and “standalone” ser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several ways to do th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 During installation of the workstation/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From the control panel Network appl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From the Server Manager on any 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main planning and WA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ter domain model is typ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remote site needs a B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s browse locally on the B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DC synchronizes over the W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nchronization traffic is always less than browsing would 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-master domains require huge redunda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 sites and 3 domains = 10 D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 sites and M domains = (N x M) + 1 D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ing Domain Synchronizat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edit Registry values di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important concep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LogSiz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how much data accumulates between synchron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ou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how long the PDC will wait for the BDC to acknowle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BDCs wait a random period to avoid flooding the net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designed to prevent WAN swamp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11 Managing Users and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ning for Users and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 Direc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up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ing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on Scrip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d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taining Input from Us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ure user interest in making installation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 set up of server meets user nee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ming conventions for user accou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account poli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of server for home direct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and composition of gro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up poli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rs for server to be avail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  for Lecture 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ect Assignment #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lecture #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 10 Managing Domain and Trust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 11 Managing Users and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Questio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out Assignment #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class work on Assignment #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ting Up Account-naming Conven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account user’s actual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function within organ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r Account Poli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ork administrator establishes general password and logon security stipulations for user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ssword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effective if used prope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 policy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sword expi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sword leng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sword hi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ount lock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r Home Directo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Arial"/>
              </a:rPr>
              <a:t>Home direc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A dedicated location on a file server or a workstation for a specific account holder to store f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33680" y="3962520"/>
            <a:ext cx="5876640" cy="2200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4440" y="6269040"/>
            <a:ext cx="6855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home directories in a small off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r Home Directo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2279520"/>
            <a:ext cx="8001000" cy="3409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25360" y="6269040"/>
            <a:ext cx="689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home directories in a large organ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ment of domain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individual user:  Most labor-intensive meth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resource:  Still labor-inten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group: Saves time by eliminating repetitive steps in managing user and resource ac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up Management Concep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s belong to one or more groups having same access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s of groups in Windows NT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Arial"/>
              </a:rPr>
              <a:t>Local group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Used to manage accounts and resources within a single domain or on a single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Arial"/>
              </a:rPr>
              <a:t>Global group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Used to enable resource sharing across doma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help manage rights and permissions on a server within a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 accounts can be members of local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main resources can be assigned to local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al groups can belong to local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groups can be used to make domain resources available to trusted dom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dows NT Predefin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2560" y="1143000"/>
          <a:ext cx="779148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14300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bal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rights access across domains by linking rights from trusting domains to groups in trusted dom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al groups can have domain user accounts as members but not local groups, to avoid circular group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al groups can be members of local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al groups cannot have resources as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10 Managing Domains and Trust Relationshi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Domain Contro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ng and renaming dom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dows NT Predefin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bal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2560" y="1447920"/>
          <a:ext cx="779148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44792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ing Administrator Groups in Multiple Domai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14680" y="1805040"/>
            <a:ext cx="571500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ng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local and global groups can be added at any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92840" y="1900080"/>
            <a:ext cx="3922560" cy="3376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16240" y="5697360"/>
            <a:ext cx="493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iness group composi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ing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py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et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bl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nam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accounts are created when Windows NT Server was instal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Arial"/>
              </a:rPr>
              <a:t>Administrator accou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Provides complete access and control over the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Arial"/>
              </a:rPr>
              <a:t>Guest accou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Can be set up with controlled access for guest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ting New Accoun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08040" y="1876320"/>
            <a:ext cx="612792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igning Users to a Grou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s that have same security and access requirements can be assigned as members of a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stomizing User Ac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 account environment can be customized throug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profi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n scrip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direc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ing User Profi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User Profile can specify most startup features such as Program Groups and ap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managed by users or Administr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ral types of prof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Profi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users have a different profile on each mach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ming Profi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users have the same profile on each mach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Roaming Profi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er profile (NTUSER.DA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al profile assigned to each us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s can modify their pro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file changes preserved after log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er profile (NTUSER.MA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 assign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can modify their pro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file chang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iscard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fter log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ed to ensure a common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Domain Contro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DC/BDC can be created only during Set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choices during Set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Domain Controller (PD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up Domain Controller (BD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 (aka. “standalone”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C must be in the PC prior to Set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r Environment Pro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467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file database exampl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local profil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Directory of C:\WINNT\Profiles\Administrat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10/24/99  02:59p        &lt;DIR&gt;         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10/24/99  02:59p        &lt;DIR&gt;          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10/24/99  02:59p        &lt;DIR&gt;          .hotja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9/21/96  01:49p        &lt;DIR&gt;          Application 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11/06/99  05:40p        &lt;DIR&gt;          Deskto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5/23/99  11:06a        &lt;DIR&gt;          Favori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2/16/00  08:35p               950,272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TUSER.DA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2/16/00  08:35p                 1,024 ntuser.dat.LO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2/14/99  08:26p        &lt;DIR&gt;          Person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1/20/99  08:28p        &lt;DIR&gt;          Send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8/14/99  08:42a        &lt;DIR&gt;          Start Menu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11 File(s)        951,296 by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117,959,680 bytes fre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gon Scrip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ch files that are executed for users in NT and non-NT environments (including OS/2 and WFW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red in C:\winnt\system32\repl\import\scrip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on can be changed in Server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on scripts must be replicated so that users can log in to other DCs besides their P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managed by user or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dows N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gon Script Variab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2560" y="1295280"/>
          <a:ext cx="779148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9528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me Directo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on a local hard dr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on the network so personal files are accessible everywh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ve letter can be automatically mapp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ileges for user home directories are configured so that only the specified user has a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ly only matters for NT computer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used by Win95/98, WFWG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ing a Drive Mapping Perman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28480" y="2162160"/>
            <a:ext cx="80773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ing the Server Hou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 administrator can set up user accounts so they cannot access server at designated times (e.g, during backups and other system wo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908600" y="1963800"/>
            <a:ext cx="4006800" cy="3281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30720" y="5640480"/>
            <a:ext cx="481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n Hours dialog bo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uring Account Access from Designated Workst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er administrator can limit where a user can log on to the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s that certain accounts can only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ccessed from designated works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count Expiration and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iration date is useful for an account that is needed for a specific time period (e.g., guests or temporary employe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designated global or lo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mote Dial-in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remote access to the dom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l back security option enables server to verify that the call is from a known lo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2476440"/>
            <a:ext cx="4594320" cy="312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54400" y="5754600"/>
            <a:ext cx="481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al-in security for an accou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the PD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main names may not contain sp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up will deny your choice if domain already ex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rd the password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pying an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s can be modeled after a maste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es time when there are many accounts to cre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leting an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ly erases account from security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fore deleting an account, consider disabling it for a period of time in case there is a need to reactivate it for access at a later 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abling an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security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isabled account cannot be used to log on to the system but all other settings and configuration options remain int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naming an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revent intruders familiar with the default account names from gaining access to th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an account name if an account is associated with a specific job is assigned to another 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mply with changes in organization’s naming con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flect a user’s name ch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count Audi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Arial"/>
              </a:rPr>
              <a:t>Audi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Tracking success or failure of events by recording selected types of events in an event log or a server or a works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ents that Can Be Audit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on and logoff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to files and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often user rights are exerci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 and group management f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policy chan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tarting, shutting down, othe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ing processes or software appl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Gro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ational units, workgroups, or de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orized users of network resources or appl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s, projects, or special assign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graphical or locational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job descriptions or f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a Global Grou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11360" y="1895400"/>
            <a:ext cx="771192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ting Group Poli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ghts grant privileges to perform f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ing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workstations to the dom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ing system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ing up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ting Group Poli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Arial"/>
              </a:rPr>
              <a:t>Standard righ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Apply to everyday users and groups (see next sli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Arial"/>
              </a:rPr>
              <a:t>Advanced righ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For programmers and system developers who have technical access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bugging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ining access to operating system inter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ling memory swapp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a BD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mputer account is needed to join a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Server Manager to add the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ing Setup an administrator can add the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specify the domain name that a BDC belongs to during Set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DCs cannot be moved from one domain to another without reinstalling 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pe and loa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ault NT Server User Righ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2560" y="1219320"/>
          <a:ext cx="779148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1932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315200" y="6524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ault NT Server User Righ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2560" y="1066680"/>
          <a:ext cx="779148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06668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7391520" y="6524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ault NT Server User Righ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76440" y="1219320"/>
          <a:ext cx="779112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219320"/>
                    <a:ext cx="779112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nting Rights to a Grou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38400" y="1873080"/>
            <a:ext cx="6657840" cy="45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Windows NT Security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Users Must Be Granted Permission to Access Any Resourc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NT can directly access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s cannot “bypass” the operating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user must be identified to th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datory log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resource is associated with a list of users able to access it and permitted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Control Li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AC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nents of Windows NT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Security Authority (L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Account Manager (SA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Reference Monitor (SR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 Security Authority (LSA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enticates users during the logon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tes access tokens during lo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s the 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s the Audit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s audit messages to the event 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urity Account Manager (SAM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s the SAM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information about all users and gro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 is used by LSA to authenticate user lo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 generates Security IDentifiers (SI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Ds are unique and cannot be reproduced if deleted (user, group, or compu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urity Reference Monitor (SRM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forces access validation and audit policy established by the L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attempts to access resources must go through the SRM (files, directories, printers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RM has the only copy of account validation co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RM examines the ACL and checks the Access Control Entries (ACE) to determine whether the user has permission for the op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s and Access Tok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login, the access token controls access to all secured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k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clu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user’s S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s of groups to which the user belo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ghts assigned to the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tokens ar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t upda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ynam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must log out to receive user permission upg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urity IDs (SID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D is randomly generated as PDC is cr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attached to all computers in the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D is the true identifier of the domain, not the human-readabl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installing a PDC will generate a different SID and no computers will be able to find the PDC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ver install a BDC when the PDC is d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al:  always have a BD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3rd party tools can modify S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tokens are used to validate users access to objects in 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object has characteris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:  e.g. file or pri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ributes:  data stored about the 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tions:  operations that can be performed (e.g. “open” or “print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bsence of an ACL indicates that all users are permitted access to the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ng Permis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Ls for objects are managed by File Manager and Printer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subsystem looks for ACEs that deny access to the object for the user or for any group the user belongs to fir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quest is denied if any ACE denies a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not denied, it searches for ACEs that al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denied if no suitable ACE f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some preliminary research before setting up accounts and grou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feedback helps to ensure accounts match user nee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guidelines for account na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account policies for setting up passwords and account lockout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NT domains are a tool to help manage a serv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nd global gro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ce time spent managing individual accou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an account is multiple step pro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and password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up assig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 directory assig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rs to access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urity o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New Domains (p.238-24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Install a new PDC and give it a new domain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- or 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“Moving the PDC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.  Create a new domain on an existing PDC using the Control Panel/Network/Ident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.  Promote one of your BDCs to be the new PDC on the old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: Moving DCs to a different doma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ng DCs to a new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DC can be moved only if domain does not ex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DC cannot be mo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ng DCs to an existing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DC cannot be moved, must reinstall as BD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DC cannot be moved, must reinstall as BD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16:50:29Z</dcterms:created>
  <dc:creator>Marian Volkman</dc:creator>
  <dc:description/>
  <dc:language>en-US</dc:language>
  <cp:lastModifiedBy>Victor R. Volkman</cp:lastModifiedBy>
  <dcterms:modified xsi:type="dcterms:W3CDTF">2000-02-17T02:19:17Z</dcterms:modified>
  <cp:revision>8</cp:revision>
  <dc:subject/>
  <dc:title>CNT 211</dc:title>
</cp:coreProperties>
</file>