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media/image13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802E-9B62-4364-8EE7-198DF4320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1895-F7E8-4283-BCC7-4D2404904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EAC6-FFBF-4CC9-9B6B-33EDA0EF7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6D64-F75A-44A8-85E9-A9DE6BEE3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C3D61-4D70-4515-B55A-C087DA65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6C84C-F755-4F00-B178-4A7B6BF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CC1A-B2A9-45E1-B58C-E3FB8908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2D726-A58B-470C-8BAC-F722214C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65B9-62D6-40F9-84A6-78740145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1A209-549C-443B-BBC9-C193C953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FF6A9-1EA5-4C16-A009-92B9E13D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A1AC-3C13-4228-AC26-40B5D4CE3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93576-0AAD-4683-8DF4-DD57609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BC66-81BD-4496-BD68-4971A09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0749C-3042-43B6-9E2E-1590B3FB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898CD-EDF6-4825-B78E-C80FCCFB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9C472-9767-4967-AF3C-2B2D0DC1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6DDF-E277-491C-A254-990F55D16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7E98-31D5-4886-BF49-491D07B04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23D4-0BBF-49EC-8C41-9A35A75DB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53D7-5CE5-4490-AA41-2CDA6A816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19DE-8723-4518-805A-6B0F83959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6D4A-A18A-4220-AF89-D090A2E97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1A3B-5DA1-4E06-937F-F9ED47111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AD34-C1D6-43BE-8E71-CEC2804C2551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ACB8-18EC-4116-B769-507072357CA3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Franklin Gothic Medium"/>
              </a:rPr>
              <a:t>CNT211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Lecture 6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2/24/2000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E336-170E-4325-9B5B-578372070D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Viewing Server Fold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90920" y="1903320"/>
            <a:ext cx="3951000" cy="440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838C-1905-4298-9182-B7902D7967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reating a New Fold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76520" y="1979640"/>
            <a:ext cx="3973680" cy="44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B207-4103-406B-BD5F-9D0E5202B8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Folder Properti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General properti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lder and permission securit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udit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Ownership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520D-0862-4D71-B3F3-7EE51A2186E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General Properti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scriptive inform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ype of objec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Loc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iz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Number of files/fold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lder name and creation dat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lder attribut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A942-0F99-497F-B8D1-B73026C3BC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ttribut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characteristic associated with a folder or file, used to help mange access and backup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argely ignored by NT administrators (except for backup purposes) in favor of rights and 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D244-698B-4AB9-B4C1-19F0DCFED62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Attribut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2560" y="1143000"/>
          <a:ext cx="779148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14300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CA8F-4AC8-4B35-8C40-BAF1338B0C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reating a Directory Shar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nless a folder is shared,  it is unavailable to network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orks with FAT and NTFS file system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Security on the share is implemented through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rectory and File Permissions extend share 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44FC-F0C9-43DB-9FAA-2053C2138C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1219320"/>
            <a:ext cx="8229600" cy="68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270320" cy="4876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3000" y="2286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Folder Proper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E951-1718-4679-A47C-5515C735E7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hare Fact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hare name can be a maximum of 12 charact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hare names that end in $ are hidden in Network Neighborhood and Connect Network Driv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hares control user access only for remote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hares have no effect on local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AT (and HPFS) files systems have no security for local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rectory and file permissions apply to local users for NTFS file system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5E24-E895-45DF-863C-420BF296A5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hare Fact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hare permissions flow down the directory tre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rectory and file permissions may used to restrict access to a sub-tre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hare permissions establish the maximum set of 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 &amp; F permissions can further restrict access but cannot add to the share 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6DEF-D37F-45EE-B74B-243F7A9F96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genda for Week 10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turn Home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view Lecture 6 (slides 1-23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inish Lecture 6 (slides 24-67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structor evaluation 7:00-7:15P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ssignment #3 7:20-8:55P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49D1-907F-4C58-AE18-AE135763E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dministrative Shar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ADMIN$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: created for the directory that contains the operating system usually C:\WINN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Driveletter$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: created for every volume, e.g. C$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IPC$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: used by named pipes for inter process communica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PRINT$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: supports sharing print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REPL$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: used to support replic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LOGON : share that contains the user login scripts C:\WINNT\system32\Repl\Import\Scrip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BE7E-CDDC-4B5B-B431-3C22BD723D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pecial Groups (Identities)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veryone : includes all users in a domain, guest, users from other domai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YSTEM : represents the O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: users accessing the file system through the net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TERACTIVE : users logged on locall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OR OWNER : the user who creates the directory or fil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CEC4-A540-479E-87C7-4E3D4F1D9D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hare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o Acces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No permissions are grant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splay filenames and subdirectory nam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Open subdirectori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splay file data and attribut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xecute program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E2DA-2841-4AA5-AAF8-89F71F2E8A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hare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hang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Includes Rea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reate files and subdirectori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hange subdirectory and file attribut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elete files and subdirectori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ull Contro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ll directory permission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hange directories and attribut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aking ownership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C569-8670-4800-BBAC-DFE794FF8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1219320"/>
            <a:ext cx="8229600" cy="68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915080" cy="3589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19320" y="3808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Share Permiss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3A24-1ECE-45FA-A117-DFC685707C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219320"/>
            <a:ext cx="8229600" cy="68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5014800" cy="5062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19320" y="3808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Share Permiss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9819-7340-4A79-9928-EF5B3F5CCE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lder and Permission Securit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ree security op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Permission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Control access to the folder and its conten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Audit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Enables administrator to audit activities on a folder or fil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Ownership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Designates the folder owner who has full control of that fold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9390-650F-46C0-AD6A-92F8BC2C790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dividual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1752480"/>
          <a:ext cx="8001000" cy="480060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Franklin Gothic Medium"/>
                        </a:rPr>
                        <a:t>Permiss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Franklin Gothic Medium"/>
                        </a:rPr>
                        <a:t>Directory Effec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Franklin Gothic Medium"/>
                        </a:rPr>
                        <a:t>File Effec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ead (R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View name of files and director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ead file da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Write (W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Add files and subdirector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Change file dat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Execute (X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Navigate to subdirector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Execute program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Delete (D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the director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the fi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Change permissions (P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for director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for fi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Take Ownership (O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of director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of fi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9FBF-0459-4D44-AC39-678ACB26BC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tandard Permission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14400" y="1752480"/>
          <a:ext cx="8001000" cy="44197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Franklin Gothic Medium"/>
                        </a:rPr>
                        <a:t>Standard Permission 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Franklin Gothic Medium"/>
                        </a:rPr>
                        <a:t>Individual Permissions for Director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Franklin Gothic Medium"/>
                        </a:rPr>
                        <a:t>Individual Permissions for Fi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No Acces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Not specifi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W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Not specifi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Add &amp; Rea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W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WX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RWX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Full Contro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Franklin Gothic Medium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4DEA-3504-4C94-B5D4-7FE2EA7859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NTFS Folder and File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1225440"/>
          <a:ext cx="7791480" cy="753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91480" cy="75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8BA8-AA0F-4AE2-9FF6-7E7C12FDDCB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arning Objectiv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anage folders on a server, including: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lanning a folder structur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Viewing and creating fold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tting folder properties such as attributes, permissions, auditing, and ownership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tting up shared fold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Moving and copying files and fold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stall and manage application softwa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10FD-080D-48EB-B494-F4E14B139DE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rectory Permiss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alog Box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71560" y="1978200"/>
            <a:ext cx="556272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FF1D-6741-461A-8C2C-58F14D90453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icrosoft Guidelines f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otect the Winnt folder that contains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operating system files</a:t>
            </a: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rom general users (No Access or Read) but give Administrators Full Control acces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otect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server utility folders</a:t>
            </a: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ith access permissions only for Administrators, and Server and Backup Operato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55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5609-B310-4A72-B176-8B4BDC2D93F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icrosoft Guidelines f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otect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software application folder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with Add &amp; Rea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e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publicly used folder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with Change acces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ovide users Full Control of their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own home directori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move the group Everyone from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confidential folder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462D-254B-4CA1-A324-302ADBC1A3B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pecial Folder and Special File Access Op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nable customization of folders or file access beyond standard 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303E-6C2D-408E-88A5-7450AE2C6AB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ving and Copying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iles and Fold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ing, moving, or copying a file can affect the file and folder 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Moving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File is deleted from the original location placed in a different fold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ranklin Gothic Medium"/>
              </a:rPr>
              <a:t>Copying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Original file remains intact and a copy is made in another fold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0EB2-6D5A-414A-BF96-2A3BE56B65D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mission Retention Rul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</a:t>
            </a:r>
            <a:r>
              <a:rPr b="0" i="1" lang="en-US" sz="2800" spc="-1" strike="noStrike">
                <a:solidFill>
                  <a:srgbClr val="003366"/>
                </a:solidFill>
                <a:latin typeface="Franklin Gothic Medium"/>
              </a:rPr>
              <a:t>new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file inherits permissions from the fold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file copied into a folder on the same volume inherits permissions from the target fold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file or folder moved to another on the same volume retains the original permiss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file or folder moved or copied to another folder on a different volume inherits permissions from the target fold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7DC3-E8B3-450B-89BC-A7CDBC9FCC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mission Retention Rul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file/folder moved/copied from an NTFS volume to a FAT volume loses permissions but inherits any share permissions of the targe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file/folder moved/copied from a FAT volume to an NTFS volume has no permissions other than the own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66CA-8CDD-40F8-97D5-AE28561D62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udi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racks access to folders and fil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rectory Auditing dialog box enables auditing of a variety of successful and failed even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68" name=""/>
          <p:cNvSpPr/>
          <p:nvPr/>
        </p:nvSpPr>
        <p:spPr>
          <a:xfrm>
            <a:off x="5324400" y="1981080"/>
            <a:ext cx="381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F5F5-60B1-4F09-93DF-D6513ABB798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219320"/>
            <a:ext cx="8229600" cy="685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857480" cy="5333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19320" y="3808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uditing Ac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0D36-0824-4BAC-AD38-64241DC11A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Ownership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lder owners have Full Control permissions for the folders they creat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6191280"/>
            <a:ext cx="49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6269040"/>
            <a:ext cx="493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king ownership of a fol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52600" y="3381480"/>
            <a:ext cx="623880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4A21-1959-4046-A1FA-ACA600132C3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arning Objectiv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 the Registry to configure Windows NT Server and application software, and use Windows NT Diagnostics to view Registry conten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t system policies using the System Policy Edi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figure and use License Manag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figure and use Directory Replica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49F1-01FE-4DBA-AEDA-6CC4A335ED2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roubleshooting a Security Conflic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view folder permissions and share permissions for the account and for the groups to which the account user belong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areful planning of folder structure and user groups in light of server security needs saves time and user aggrav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A928-AF61-4A4A-932A-5ACD76929CA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and Managing Application Softwar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oftware licens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compatibilit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performanc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ocation of temporary fil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oftware test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oading software from the net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strictions for MS-DOS-based softwa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60D1-80A0-4875-A30E-E9FC5B4E4BD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oftware Licens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ad and follow licensing agreement before loading softwa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py protect the software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License</a:t>
            </a: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monitor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process used to ensure that the number of software licenses in use does not exceed the number for which the network is authoriz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C8A4-421A-48AE-AD23-67D921DD94F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Network Compatibilit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heck all applications to be certain they are network-compatible, i.e., designed for multiuser access, often with network capabilities such as options to send files through e-mai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3CC3-C356-408E-A43E-C28219AE202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Network Performan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losely monitor network activity and traffic associated with software applica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C8A3-9444-4BD3-9062-30B223D0C59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ocation of Temporary Fil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termine what extra files are needed to run an application and where to store th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each software users how to deploy temporary and backup files created by software, and how to delete them when no longer need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C3F6-BD7F-42D8-83D5-33984093C1E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oftware Tes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est each software installation before releasing it to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n important way to determine that the software is working, is network compatible, and that the permissions are correctly se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6620-9472-4F6D-9A69-8F035D5BCC3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oading Softwar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rom the Network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One option:  Install software application files from network onto each client workst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nother option: Install client software so that application files are loaded from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dvantage:  Save workstation disk spac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sadvantage:  Extra network traffic 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925C-8EA0-42FC-979B-85A587A9F6A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Restrictions f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S-DOS-based Softwar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otential difficulti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Memory management problem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wap space requirement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Lock files that lock the application to one user at a tim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rivers that are not compatible with Windows 95 or Windows N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void networking these applica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C9ED-4DB6-4A1F-86EA-BC9C56569B6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Software Using Add/Remove Program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oftware configuration is stored in Windows NT Registry; configuration is easier and configuration information can be updated to an Emergency Repair Dis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gistry tracks location of all files associated with software; easier to remove all program piec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C250-02AD-4374-AA4F-8B787247145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anaging Fold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signing a folder structu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Viewing and creating fold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tting folder properti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tting up a shared fold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roubleshooting a security conflic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ving and copying files and fold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3264-5305-4F0D-B832-05B19CA3CF6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Running Software Applications in User Mod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User mod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d for running programs in a memory area kept separate from that used by the kernel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he program cannot directly access the kernel or operating system services except through an API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Kernel mod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otected environment in which Windows NT operating system kernel run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onsists of protected memory area and privileges to directly execute system services, access CPU, run I/O operations, etc.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425A-6977-4F0B-B29F-6ED0444B462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Using the Registry to Configure System Setup and Softwar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Registry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Very complex database that contains all information the operating system needs about the entire server (configuration, program setup, devices, drivers, etc.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wo editors to view Registry conten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egedi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egedit32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0ABD-2EE9-4377-AC41-EB98BA9A516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Five Root Key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Root key (or subtree):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 Highest category of data contained in the Registr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e five root key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HKEY_LOCAL_MACHIN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HKEY_CURRENT_US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HKEY_US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HKEY_CLASSES_ROO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HKEY_CURRENT_CONFIG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EF2F-BC12-4F8E-8121-6E9A7CF4AD3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Five Root Key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2560" y="1295280"/>
          <a:ext cx="7791480" cy="75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9528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83F2-1599-48C8-A1DD-96ACFD0B336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Backing Up the Regist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e Registry is vitally important to Windows NT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lan to back it up regularly when you back up other fil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52FD-F293-4012-A8C0-CA9E99A397D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Viewing Registry Information Using the Windows Diagnostics Utility</a:t>
            </a: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indows Diagnostics Utility reports information on what services are installed, the server’s network setup, and other server environment data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oblems can be quickly and safely identified by viewing the data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FFD0-49A9-4AE0-9999-90B900431FE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Diagnostics Utilit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spla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riv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nvironmen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emor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9284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source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rvice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yst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Vers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C3E3-33CE-4D42-8995-7C9CEDD5388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System Polici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Override Registry settings in Windows NT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d to set up special conditions for individual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d to set up restrictions for all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1E76-5B6A-40AA-8408-27D4A3A3655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ystem Policie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o Govern All Us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trol Panel display op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sktop wallpaper and color schem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Operating system shell restric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ystem restric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indows NT Shell op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indows NT System op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BC92-0C6F-4D4C-A7C5-763D59B8229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ystem Polic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o Govern Individual Us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mote access setting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ion of hidden drive shar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printer scheduling and error control op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ustomized shared folder setup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ogon security and logon banner control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ile-naming op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r profile network time-out periods for slow network connec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0413-8F6C-4024-9BF1-6EA34528488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esigning a Folder Structur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chaotic file structure makes it difficult to run or remove program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void confusion by having a place for: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oftware application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onfidential files shared by certain group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ublic files shared by everyon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oftware utilities for all us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rver management utiliti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BA5B-2F91-4CA8-A3BF-58DE979509F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Up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Using License Manag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Per seat licens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Requires that there be enough licensees for all network client worksta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Per server licens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Based on maximum number of clients that use an application at one time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8F0F-0A13-4563-BA05-1462A666ED7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Up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Using Directory Replicat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rectory replication services enable designated directories on one server to be copied to another server(s) or workstation(s) on the net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Export serv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erver with the original directori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Import serv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Computer that receives the directories and file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3E85-15A3-4BBC-AA2D-DF7BF402DA1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Directory Replication Us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 copy an update database on a member server in a client/server system to a reporting database on a different member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 create a backup copy of account-related information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A4B3-DB93-485A-BD02-A8298F628B7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Up Expor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nd Import Paramet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809720" y="1944720"/>
            <a:ext cx="5524560" cy="44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68DB-F10F-454E-BEDD-45F84CA4A93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lan folder structure in advance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reate distinct folders for user directories, software applications, server utilities, etc.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t up folder properti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Set up permissions according to purpose of folder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29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1F8C-EE61-4BA6-8742-29BC37980FE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Before installing application software in a folder, make sure the software is network-compatible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 Add/Remove Programs tool to install software so that installation is coordinated with the Windows NT Registry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32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5BD2-6202-45A5-8980-2CA2DD77E44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ystem policies offer another way to change Registry settings and to customize how users access Windows NT Server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icense Manager records and monitors the number of licenses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rectory Replicator copies folders from a server to other network computers.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734A-12ED-400F-B12B-0BFBC2A8AC4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c3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930A-A955-4AAA-8B8B-8A70D6130455}" type="slidenum">
              <a:t>67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older Structure Design Considera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oot folder should not be cluttered with files or too many fold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ach software application should have its own folder or subfold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imilar information should be grouped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lders should have names that clearly reflect their purpos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2D50-CD05-484E-A360-8338F995CF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46320" y="1819440"/>
            <a:ext cx="6642000" cy="4581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 Sample Folder Structur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3E82-9D8E-4DDD-839D-5C5DE803E7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Viewing and Creating Fold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View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 My Computer or Windows NT Explorer 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splay can be customiz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 My Computer or Windows NT Explor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E928-DB8E-4074-99F6-7729CFAA1D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7T21:32:24Z</dcterms:created>
  <dc:creator>Anne D. Ketchen</dc:creator>
  <dc:description/>
  <dc:language>en-US</dc:language>
  <cp:lastModifiedBy>Victor R. Volkman</cp:lastModifiedBy>
  <cp:lastPrinted>1998-04-28T21:55:48Z</cp:lastPrinted>
  <dcterms:modified xsi:type="dcterms:W3CDTF">2000-03-14T01:05:16Z</dcterms:modified>
  <cp:revision>41</cp:revision>
  <dc:subject>Chapter 9:  Managing Server Folders, Permissions, and Software Installation</dc:subject>
  <dc:title>A Guide to Windows NT Server</dc:title>
</cp:coreProperties>
</file>