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DEF-2DBC-4CB9-A6A3-5CF1710F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6E2-F0F7-4FC6-ABA9-05B4EFF8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950-3F25-4016-80B9-80DE9BBF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F93-0CAB-476C-825F-3F65F490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849D-1950-4860-A714-F990B09B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AEC9-7757-44BC-845E-745E44BA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63F7-FFE4-4C04-B284-1AED3F01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3AA0-67D9-49A5-ACC0-79F23E74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ACD5-01C7-4CC9-B1EC-B0D6A716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DE2B-94BC-4289-BA80-5D06CC56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A409-1266-4911-94E7-63693E71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EA1-7F31-46EA-94A4-DEE0B71E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DE39-8612-447A-9121-A6757A8E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F010-C672-49FC-AD54-1BA77D91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35DE-3C6A-4EC5-956D-EDA682E4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C9C8-3BBA-4025-8963-53F1FE72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94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484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BDF2-0755-4760-874B-518AF06A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F3C-6B2C-4108-9E17-CB6E0377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599-386C-429E-9E78-53635586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F55-8E70-41EE-8B81-AE25F7C0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868-63C5-4545-BA2B-8AEC730E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9EB-64E3-487F-8C31-E8BA536D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372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DFF-BC75-414E-B6EF-D7C59FE6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DCE-22B5-40E8-9F26-043B014A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4DFA-C0E4-4530-8DF0-A7AEDC996F5D}" type="slidenum">
              <a:rPr b="1" lang="en-US" sz="26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1600200"/>
            <a:ext cx="800100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ACE1-EF3D-4F7E-9FC2-A9F2223A3264}" type="slidenum">
              <a:rPr b="1" lang="en-US" sz="26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743200"/>
            <a:ext cx="7696080" cy="0"/>
          </a:xfrm>
          <a:prstGeom prst="line">
            <a:avLst/>
          </a:prstGeom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2871360" y="28713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Heavy"/>
              </a:rPr>
              <a:t>Computer Network Technolog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Franklin Gothic Medium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Franklin Gothic Medium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Franklin Gothic Medium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Franklin Gothic Medium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Franklin Gothic Medium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Franklin Gothic Medium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Franklin Gothic Medium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Franklin Gothic Medium"/>
              </a:rPr>
              <a:t>Printer Management</a:t>
            </a:r>
            <a:endParaRPr b="1" lang="en-US" sz="36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Lecture 7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3/23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onfiguring serial port setting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Baud rate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75 to 115,200 bau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Data bits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4 to </a:t>
            </a: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arity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None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, Even, Odd, Mark, Spac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Stop bits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1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 to 2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Flow Control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hardware, XON/XOFF, non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Most common settings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“8-N-1”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6880" y="4935600"/>
            <a:ext cx="39243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dvanced COM port setting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COM port numbe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sequentially assigne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Base I/O Port Address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2E0h thru 3FFh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Interrupt Request (</a:t>
            </a: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IRQ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): 2 thru 15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FIFO Enabled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internal buffering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57400" y="4114800"/>
            <a:ext cx="50292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ho can create printers?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ny Windows NT computer can be configured as a print serv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You must be a member of one of these group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Administrators (NT Workstation and Server)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erver Operators (NT Server)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rint Operators (NT Server)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ower Users (NT Workstation)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ndows NT Print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rint client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Client computer that generates a print job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rint serve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Network computer/server device that connects printers to network for sharing and receives/processes print requests from print client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rint device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Device (printer or fax) that uses Spooler services in Windows N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Examples of Print Server Devic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2338560"/>
            <a:ext cx="730584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ndows NT Print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Network-interface printe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A printer with its own print server card, which enables it to be connected directly to a network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Spooling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A process working in the background to enable several print files to go to a single print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ndows NT Print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rinter driver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Holds configuration information for a print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rinter graphics driv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haracterization data file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rinter interface driv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rinting Stag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int file is generated at user’s workstation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User’s print file is sent to network printer shar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int file is spooled at the printer share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When its turn comes, print file is sent to the printer along with configuration information from print driv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40" name=""/>
          <p:cNvSpPr/>
          <p:nvPr/>
        </p:nvSpPr>
        <p:spPr>
          <a:xfrm>
            <a:off x="8008920" y="6497640"/>
            <a:ext cx="11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rinting Stag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File is printed after first page is received or after all of file is receive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 Technical Printing Proces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ocesses handled by network print client: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oftware application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Graphics device interface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rinter driv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pool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Remote print provid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arning Objectiv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escribe the printing process used by Windows N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Install a local printer in Windows NT Serv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Explain and install printer pooling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Mange printer services and configure print devic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92" name=""/>
          <p:cNvSpPr/>
          <p:nvPr/>
        </p:nvSpPr>
        <p:spPr>
          <a:xfrm>
            <a:off x="8008920" y="6497640"/>
            <a:ext cx="11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 Technical Printing Proces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Graphics Device Interface (GDI)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An interface on a Windows network print client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Works with a local software application and a local printer driver to format a file to be sent to a local printer or network print serv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47" name=""/>
          <p:cNvSpPr/>
          <p:nvPr/>
        </p:nvSpPr>
        <p:spPr>
          <a:xfrm>
            <a:off x="8008920" y="6497640"/>
            <a:ext cx="11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 Technical Printing Proces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Rendering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Graphically creating a print job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Spool file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A print file written to disk until it can be transmitted to a print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The Technical Printing Proces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ocesses used by network print server to receive and process a print file: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Rout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rint provid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rint processo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rint monito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rint Job Data Typ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Data type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Means by which information is formatted in a print fil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RAW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RAW with FF appended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RAW with FF auto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Enhanced metafile (EMF)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SCRIPT1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ndows NT Print Monitor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Located in the folder \Winnt\System32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Used for local printing and to print using specialized print serv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Franklin Gothic Medium"/>
              </a:rPr>
              <a:t>Local printing</a:t>
            </a: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:  Printing on the same computer to which print devices are attached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Windows NT Print Monitor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2560" y="1447920"/>
          <a:ext cx="7791480" cy="75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44792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Installing a Local Printer in Windows NT Serve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0" name=""/>
          <p:cNvSpPr/>
          <p:nvPr/>
        </p:nvSpPr>
        <p:spPr>
          <a:xfrm>
            <a:off x="2106720" y="6269040"/>
            <a:ext cx="4930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ters used on a networ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82800" y="1819440"/>
            <a:ext cx="7169040" cy="42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Installing a Local Printe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3" name=""/>
          <p:cNvSpPr/>
          <p:nvPr/>
        </p:nvSpPr>
        <p:spPr>
          <a:xfrm>
            <a:off x="687240" y="6269040"/>
            <a:ext cx="776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ing My Computer in the Add Printer Wiza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76240" y="1905120"/>
            <a:ext cx="559152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Installing a Local Printe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6" name=""/>
          <p:cNvSpPr/>
          <p:nvPr/>
        </p:nvSpPr>
        <p:spPr>
          <a:xfrm>
            <a:off x="687240" y="6269040"/>
            <a:ext cx="776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ting the printer port and port timeou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3880" y="1990800"/>
            <a:ext cx="6086520" cy="40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Installing a Local Printe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9" name=""/>
          <p:cNvSpPr/>
          <p:nvPr/>
        </p:nvSpPr>
        <p:spPr>
          <a:xfrm>
            <a:off x="687240" y="6269040"/>
            <a:ext cx="776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tering the type of print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0640" y="1924200"/>
            <a:ext cx="555300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earning Objectiv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ontrol print jobs and printing statu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Install and manage a non-local print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olve a common Windows NT Spooler service printing problem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Installing a Local Printe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Guidelines for printer and a printer share name: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ompose names easily understood and spelled by those who will use the print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Include a room number, floor, workstation name to help identify printer location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Include descriptive information about the printer (type, manufacturer, model)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Installing a Local Printe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4" name=""/>
          <p:cNvSpPr/>
          <p:nvPr/>
        </p:nvSpPr>
        <p:spPr>
          <a:xfrm>
            <a:off x="687240" y="6269040"/>
            <a:ext cx="776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ing a printer sha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843200" y="1952640"/>
            <a:ext cx="545760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Allocating Virtual Memory for PostScript Printer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ostScript print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Has special firmware or cartridges to print using page-description language (PDL)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ometimes slows down when printing files containing several fonts and font size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Windows NT Server includes an option to make virtual memory available to PostScript printer to circumvent purchase of extra RAM for that print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etting Printer Share Permission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ermissions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Sets printer share permissions only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Auditing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Used to record printer event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Ownership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:  Used to take ownership of the printer shar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rinter Share Permission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2560" y="1066680"/>
          <a:ext cx="7791480" cy="75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066680"/>
                    <a:ext cx="7791480" cy="75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rinter Pool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Involves configuring two or more identical printers with one printer setup or printer shar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anaging Printer Service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General printer information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inter port setup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inter scheduling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inter sharing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evice setting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General Printer Specification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13160" y="1847880"/>
            <a:ext cx="410832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ort Specification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90840" y="1874880"/>
            <a:ext cx="4152960" cy="47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Printer Schedul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496960" y="1820880"/>
            <a:ext cx="413100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Errata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Most mice use a serial port” (not true) p.350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Most PCs include two parallel port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One parallel port is the norm in new motherboard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haring Printer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495520" y="1874880"/>
            <a:ext cx="4152960" cy="47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ecurit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uditing tracks successful or failed attempts at: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rinting job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Using Full Control permission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Deleting job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hanging permissions on the printer share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Taking ownership of the print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197" name=""/>
          <p:cNvSpPr/>
          <p:nvPr/>
        </p:nvSpPr>
        <p:spPr>
          <a:xfrm>
            <a:off x="8008920" y="6497640"/>
            <a:ext cx="11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ecurit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Ownership of a printer is usually held by administrators; enables anyone with Full Control permissions to take ownership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anaging Print Job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Users with Print permission can: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Send print jobs to the printer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Pause, resume, restart their own print jobs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Delete their own print jobs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Printer Operators and Server Operators having Manage Documents permission can: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Send print jobs to the printer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Pause, resume, restart any user’s print jobs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Franklin Gothic Medium"/>
              </a:rPr>
              <a:t>Delete any user’s print jobs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ontrolling the Status of Print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3" name=""/>
          <p:cNvSpPr/>
          <p:nvPr/>
        </p:nvSpPr>
        <p:spPr>
          <a:xfrm>
            <a:off x="687240" y="5888160"/>
            <a:ext cx="776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ignating a default print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54120" y="2127240"/>
            <a:ext cx="7816680" cy="28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ontrolling Specific Print Job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6" name=""/>
          <p:cNvSpPr/>
          <p:nvPr/>
        </p:nvSpPr>
        <p:spPr>
          <a:xfrm>
            <a:off x="687240" y="5869080"/>
            <a:ext cx="776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uming a paused docum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85800" y="2116080"/>
            <a:ext cx="7753320" cy="27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Moving Print Job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An unfinished print job can be moved to another shared printer that is working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Add a new port on the broken printer’s setup that points to the working print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pecify the path to that printer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onnecting to a Non-local Printer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Very useful when you manage a large network with network printers located in distant building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You can change the properties of the shared printer you just installed, even though you are not logged on to its host comput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reating Separator Files (“banners”)</a:t>
            </a: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Use standard separator pages (.SEP) or create your own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parator page files must be stored on the print serv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Microsoft-defined </a:t>
            </a: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escape codes</a:t>
            </a: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 allow generic layouts of separator page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ee p. 373 for table 13.1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UNC names and printer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Universal Naming Convention (UNC): applies to both disk and printer resource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    \\computer\sharenam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Exampl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net use lpt1 "\\marian_pc\HP officejet”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an be issued from MS-DOS window on any type of machine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pooled Print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4191120"/>
            <a:ext cx="1447920" cy="838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4191120"/>
            <a:ext cx="1828800" cy="8380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indows 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chi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4114800"/>
            <a:ext cx="1600200" cy="1066680"/>
          </a:xfrm>
          <a:prstGeom prst="flowChartDocument">
            <a:avLst/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int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828800"/>
            <a:ext cx="838440" cy="914400"/>
          </a:xfrm>
          <a:prstGeom prst="flowChartMagneticDisk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791320"/>
            <a:ext cx="807732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600200" y="5028840"/>
            <a:ext cx="0" cy="7621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648320" y="5028840"/>
            <a:ext cx="0" cy="7621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724280"/>
            <a:ext cx="1447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5334120"/>
            <a:ext cx="2514600" cy="457200"/>
          </a:xfrm>
          <a:prstGeom prst="rightArrow">
            <a:avLst>
              <a:gd name="adj1" fmla="val 50000"/>
              <a:gd name="adj2" fmla="val 137500"/>
            </a:avLst>
          </a:prstGeom>
          <a:solidFill>
            <a:srgbClr val="eaec5e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ocument to prin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4191120"/>
            <a:ext cx="1676520" cy="4572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eaec5e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nt to print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819520"/>
            <a:ext cx="304920" cy="1295280"/>
          </a:xfrm>
          <a:prstGeom prst="upArrow">
            <a:avLst>
              <a:gd name="adj1" fmla="val 50000"/>
              <a:gd name="adj2" fmla="val 106198"/>
            </a:avLst>
          </a:prstGeom>
          <a:solidFill>
            <a:srgbClr val="eaec5e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2819520"/>
            <a:ext cx="304920" cy="1371600"/>
          </a:xfrm>
          <a:prstGeom prst="downArrow">
            <a:avLst>
              <a:gd name="adj1" fmla="val 50000"/>
              <a:gd name="adj2" fmla="val 112456"/>
            </a:avLst>
          </a:prstGeom>
          <a:solidFill>
            <a:srgbClr val="eaec5e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560" y="312408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pool to dis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4724280"/>
            <a:ext cx="117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arallel por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7800" y="617220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e Fig 13.1 on p. 347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Solving a Common Printing Problem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When the Windows NT Spooler service experiences a temporary problem, gets out of synchronization, or hangs, print jobs are not processed until the problem is solve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Stop and restart the Spooler service (warn users first; queued print jobs will be deleted)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hapter Summar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Network printing is as important as file access and file management for many users.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Complex area involving clients, print servers, and printer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inting involves particular data types used to enable a document formatted by a software application to print.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sp>
        <p:nvSpPr>
          <p:cNvPr id="220" name=""/>
          <p:cNvSpPr/>
          <p:nvPr/>
        </p:nvSpPr>
        <p:spPr>
          <a:xfrm>
            <a:off x="8008920" y="6497640"/>
            <a:ext cx="112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continue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hapter Summary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ifferent print monitors communicate with specialized printing devices and network-interfaced printers.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Installing a local or nonlocal printer is handled by the Add Printer Wizard.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inters and print jobs can be managed according to your needs. 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c3c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Features of centrally controlled printing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Delayed printing of low-priority jobs (e.g. overnight)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Restriction of users access to print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inting of identification pages to identify jobs (“banners”)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inting of spooled jobs on the first available printer in a </a:t>
            </a:r>
            <a:r>
              <a:rPr b="0" lang="en-US" sz="2800" spc="-1" strike="noStrike">
                <a:solidFill>
                  <a:srgbClr val="eaec5e"/>
                </a:solidFill>
                <a:latin typeface="Franklin Gothic Medium"/>
              </a:rPr>
              <a:t>printer poo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Logical vs. Physical Printer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Three models of how printers can be used: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1.  One logical printer / one physical print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Default for shared printer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2.  One logical printer / many physical printer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Jobs are printed on first available printer in printer pool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3.  Multiple logical printers / one physical printer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Different queues for different purpose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See Fig. 13.3 on p. 349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Installing Printer Hardware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rinters can be attached to Serial (COM) port or Parallel (LPT) por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NT supports up to 256 COM ports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New motherboards include one LPT port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Franklin Gothic Medium"/>
              </a:rPr>
              <a:t>Two more LPTs can be added by expansion card for a total of three LPT ports</a:t>
            </a:r>
            <a:endParaRPr b="0" lang="en-US" sz="24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COM ports are configured by Control Panel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LPT ports are predefined and thus need no configuration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Medium"/>
              </a:rPr>
              <a:t>COM Ports</a:t>
            </a:r>
            <a:endParaRPr b="1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Ports applet shows COM ports that were available when NT was first installed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Franklin Gothic Medium"/>
              </a:rPr>
              <a:t>If a COM board is added later, you must add the ports yourself</a:t>
            </a:r>
            <a:endParaRPr b="0" lang="en-US" sz="2800" spc="-1" strike="noStrike">
              <a:solidFill>
                <a:srgbClr val="003366"/>
              </a:solidFill>
              <a:latin typeface="Franklin Gothic Medium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3733920"/>
            <a:ext cx="44197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7T21:33:34Z</dcterms:created>
  <dc:creator>Anne D. Ketchen</dc:creator>
  <dc:description/>
  <dc:language>en-US</dc:language>
  <cp:lastModifiedBy>Victor R. Volkman</cp:lastModifiedBy>
  <cp:lastPrinted>1998-04-29T18:19:44Z</cp:lastPrinted>
  <dcterms:modified xsi:type="dcterms:W3CDTF">2000-03-20T02:00:23Z</dcterms:modified>
  <cp:revision>37</cp:revision>
  <dc:subject>Chapter 10:  Printer Management</dc:subject>
  <dc:title>A Guide to Windows NT Server</dc:title>
</cp:coreProperties>
</file>