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80540-5081-4BBB-B897-6C1F05600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69C3A-06BC-4298-97F4-4E5E00AE6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C12AC-BB25-4DE8-9B88-0E9B4171D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94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248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D131-F23B-4609-A599-41EF01182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8281E-1582-4839-9BC5-B20C0708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5FC51-579C-43BB-B0FE-85A06013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02498-DE02-4702-B91A-09E0EA4B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373C4-8A7B-4A9B-9A5C-4F666455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87854-7021-449C-A530-1C2133D7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7961C-5A18-4EE0-9E3A-8D248025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EB327-5D0C-4068-8DC6-9EFAA3A9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27C4B-5415-4AA1-AF20-2A93E697B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B9094-5566-49CE-B646-1120FCB9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3E433-4CF5-442C-B472-7F23BF30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CC453-7C4C-4675-A103-D0C06CCA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41CF4-74E2-4C51-A6A3-D79B7557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194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48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79958-654E-4341-A4F9-BDBC8C6C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64883-E42E-4145-AC1F-E8E992B46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C3B48-088A-491D-B958-ECE3927E1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249A7-17A0-44CC-AE72-5627A019F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D647F-ADCE-4629-BA7B-4136991F2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90497-07C2-4AED-8FE3-322407C05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E1C41-D1FD-42DD-9B0B-8097602E7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47D54-068C-4608-9F69-7C6DCCFEE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36C8-9F2C-4A33-8CC5-4B71A59334ED}" type="slidenum">
              <a:rPr b="1" lang="en-US" sz="26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1600200"/>
            <a:ext cx="8001000" cy="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-2871360" y="287136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Heavy"/>
              </a:rPr>
              <a:t>Computer Network Techn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BC89-E5DF-4688-B9C4-75357EFA8125}" type="slidenum">
              <a:rPr b="1" lang="en-US" sz="26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Franklin Gothic Medium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2743200"/>
            <a:ext cx="7696080" cy="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2871360" y="287136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Heavy"/>
              </a:rPr>
              <a:t>Computer Network Techn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Franklin Gothic 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Franklin Gothic Medium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Franklin Gothic Medium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Franklin Gothic Medium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Franklin Gothic Medium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Franklin Gothic Medium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Franklin Gothic Medium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Franklin Gothic Medium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hapter 19:  Monitoring and Managing the Network</a:t>
            </a:r>
            <a:endParaRPr b="1" lang="en-US" sz="36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Lecture 8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4/6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indows NT Server Servic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Computer Browser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Keeps listing of computers and domain resources to be accessed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Directory Replicator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Creates a duplicate of specified directories on different computer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EventLog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Enables server events to be logged for later review or diagnosis in case problems occu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09" name=""/>
          <p:cNvSpPr/>
          <p:nvPr/>
        </p:nvSpPr>
        <p:spPr>
          <a:xfrm>
            <a:off x="8002440" y="6491160"/>
            <a:ext cx="1133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indows NT Server Servic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Messenger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Handles messages sent for administrative purpos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Net Logon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Maintains logon services 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Network DDE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Enables dynamic data exchange on network for object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Network DDE DSDM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Enables conversion of object formats across network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12" name=""/>
          <p:cNvSpPr/>
          <p:nvPr/>
        </p:nvSpPr>
        <p:spPr>
          <a:xfrm>
            <a:off x="8002440" y="6491160"/>
            <a:ext cx="1133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indows NT Server Servic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NTML Security Support Provider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Provides security on remote procedure calls from UNIX and other system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Remote Procedure call locator service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Locates available programs to run; used in communications with clients using remote procedure call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Remote Procedure Call service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Provides remote procedure call servic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15" name=""/>
          <p:cNvSpPr/>
          <p:nvPr/>
        </p:nvSpPr>
        <p:spPr>
          <a:xfrm>
            <a:off x="8002440" y="6491160"/>
            <a:ext cx="1133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indows NT Server Servic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Server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Supports shared objects, logon services, and remote procedure calls; critical to server 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Spooler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Enables print spooling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UPS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Used with a UPS to supply power to server during power failur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Workstation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Enables workstation activities at serv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Monitoring Server Servic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Started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Service is running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Paused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Service is started, but on hold to user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Blank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Service has been stopped or has not been started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Monitoring Logged-on Users and Server Access Information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To develop an indication of how many  users are typically logged on at given points of tim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To determine when a shutdown will have least impact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To be aware of security or misuse problem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Monitoring Applications with Task Manager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Applications tab 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isplays all software applications running from server consol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Processes tab 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lists processes being used by all running applicat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Performance tab 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hows vital CPU and memory performance information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ask Manag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Information on Process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2560" y="1523880"/>
          <a:ext cx="7791480" cy="75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523880"/>
                    <a:ext cx="7791480" cy="75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ask Manager Performance Tab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40040" y="1752480"/>
            <a:ext cx="414828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ask Manager Performance Statistic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76440" y="1295280"/>
          <a:ext cx="7791120" cy="75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295280"/>
                    <a:ext cx="7791120" cy="75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8002440" y="6491160"/>
            <a:ext cx="1133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earning Objectiv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Understand the benefits of performance monitoring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Establish server performance benchmark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Monitor server performance using Windows NT Server services, Task Manager, and Performance Monitor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Monitor the network using Network Monitor Agent, the SNMP service, Performance Monitor, and Network Monitor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ask Manager Performance Statistic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2560" y="1295280"/>
          <a:ext cx="7791480" cy="75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295280"/>
                    <a:ext cx="7791480" cy="75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Performance Monitor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Most vital tool used to detect and fix problems on a Windows NT comput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Used to track system or application object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For each object type there are one or more counters that can be logged for later analysis, or tracked in real time for immediate system monitoring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Performance Monitor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81120" y="2038320"/>
            <a:ext cx="581976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Performance Monitor Object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Browser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Activity of browser service that enables communication and information exchange with other computers on network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Cache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Performance information on data caching for hard disks 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LogicalDisk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Information about physical disks linked as a single logical disk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43" name=""/>
          <p:cNvSpPr/>
          <p:nvPr/>
        </p:nvSpPr>
        <p:spPr>
          <a:xfrm>
            <a:off x="8002440" y="6491160"/>
            <a:ext cx="1133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Performance Monitor Object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Memory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Information about RAM us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Objects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Activities of special object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Paging File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Data on page file performanc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PhysicalDisk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Data on each hard disk driv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Process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Performance data on specific process that is running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46" name=""/>
          <p:cNvSpPr/>
          <p:nvPr/>
        </p:nvSpPr>
        <p:spPr>
          <a:xfrm>
            <a:off x="8002440" y="6491160"/>
            <a:ext cx="1133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Performance Monitor Object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8023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Processor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Demands on processo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Redirector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Network connection info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Server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Information about Server servic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System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File access, system calls, operating system activities, percentage of processor used by system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Thread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A specific thread running within a proces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ample Processor Counters in Performance Monitor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2560" y="1219320"/>
          <a:ext cx="7791480" cy="75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219320"/>
                    <a:ext cx="7791480" cy="75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Monitoring Page File and Memory Performance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electing an object and its count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04800" y="2828880"/>
            <a:ext cx="5972400" cy="30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Monitoring Page File Performance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9225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Status bar shows: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Last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Average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Min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Max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Graph Time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67080" y="2155680"/>
            <a:ext cx="4511880" cy="33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Performance Monit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Report Mode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947960" y="1752480"/>
            <a:ext cx="593244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hat we are NOT covering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These techniques are for Windows 3.x clients only -- not very useful in 21st century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reating a Client Installation Disk Set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reating a Network Installation Startup Disk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etting an Alert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881360" y="1752480"/>
            <a:ext cx="606708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Monitoring the Processor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ercentage of time processor is in us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Length of the queue containing processes waiting to run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Frequency of interrupt requests from hardwar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Monitoring Disk Performance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ources of disk activity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LogicalDisk or PhysicalDisk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Page file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ummary of Significant PM Objects and Counter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9225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Logical Disk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Current Disk Queue Length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% Disk Time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Disk Bytes/sec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Memory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Available Bytes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Cache Faults/sec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Page Faults/sec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Pages/sec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54440" y="1981080"/>
            <a:ext cx="4337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Physical Disk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Current Disk Queue Length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% Disk Time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Disk Bytes/sec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Processor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% Processor Time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Interrupts/sec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System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Processor Queue Length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Monitoring the Network with Microsoft Tool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Network Monitor Agent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NMP Service (Simple Network Management Protocol)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erformance Monito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Network Monito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Network Monitor Agent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 utility that enables a Microsoft workstation or server NIC to gather network performance data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Information Collected Through Network Monitor Agent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2560" y="1219320"/>
          <a:ext cx="7791480" cy="75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219320"/>
                    <a:ext cx="7791480" cy="75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he SNMP Service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 protocol that enables computers and network equipment to gather standardized data about network performanc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art of the TCP/IP suite of protocol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Information Collected Through the SNMP Service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82560" y="1219320"/>
          <a:ext cx="7791480" cy="75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219320"/>
                    <a:ext cx="7791480" cy="75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Using Performance Monitor to Monitor Network Performance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an use to examine load on network at peak, average, and slow period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Monitor following counters for Network Segment object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% Broadcast Framed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% Network utilization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an use to view specifics about protocol traffic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hy Monitor the Server?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To become familiar with your server’s performance so that you know how to interpret a problem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To prevent problems before they occur and to diagnose existing problems to resolve them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Network Monitor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Included with Windows NT Server CD-ROM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Tracks information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Percent network utilization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Frames and bytes transported per second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Network statistics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Statistics captured during given time period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Transmissions per second information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NIC statistics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Error data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Addresses of network nodes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hapter Summary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Monitoring services and related network performance is one of the best ways to identify problems early.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Establish </a:t>
            </a:r>
            <a:r>
              <a:rPr b="0" lang="en-US" sz="2400" spc="-1" strike="noStrike">
                <a:solidFill>
                  <a:srgbClr val="eaec5e"/>
                </a:solidFill>
                <a:latin typeface="Franklin Gothic Medium"/>
              </a:rPr>
              <a:t>benchmarks</a:t>
            </a: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 of server performance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Monitor server services, the number of users on the server, and how resources are deployed.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87" name=""/>
          <p:cNvSpPr/>
          <p:nvPr/>
        </p:nvSpPr>
        <p:spPr>
          <a:xfrm>
            <a:off x="8002440" y="6491160"/>
            <a:ext cx="1133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hapter Summary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Task Manag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Provides an instant look at server functions of great interest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Programs and processes that are running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CPU and memory usage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Enables server administrator to stop a hung program or monitor how CPU is being used while specific software function in under way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90" name=""/>
          <p:cNvSpPr/>
          <p:nvPr/>
        </p:nvSpPr>
        <p:spPr>
          <a:xfrm>
            <a:off x="8002440" y="6491160"/>
            <a:ext cx="1133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hapter Summary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Performance Monito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Versatile and widely used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Enables server administrator to monitor key component functions such as memory, CPU, and disk performance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Able to gather statistics in several modes for immediate or later analysi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Can be used as a network monitoring tool (with the right services loaded)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93" name=""/>
          <p:cNvSpPr/>
          <p:nvPr/>
        </p:nvSpPr>
        <p:spPr>
          <a:xfrm>
            <a:off x="8002440" y="6491160"/>
            <a:ext cx="1133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hapter Summary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Network Monito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Can provide general network monitoring or be set up to monitor only specific activitie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Can be equipped to view network traffic from other network servers or workstations (with the right software) 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c3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Monitoring the Server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Establishing server benchmark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Using Windows NT server servic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Monitoring server servic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Monitoring logged-on users and server access information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Monitoring applications with Task Manag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Using Performance Monito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erver Activities to Monitor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2560" y="1219320"/>
          <a:ext cx="7791480" cy="75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219320"/>
                    <a:ext cx="7791480" cy="75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Establishing Server Benchmark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Benchmarks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Baselines that provide a basis for comparing data collected during problem situations with data showing normal performance condition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reates a way to diagnose problems and identify components that need to be upgraded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How to Acquire Benchmark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Generate statistics about CPU, disk, memory, and I/O with no users on the system to establish a baseline for comparison with more active period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Use performance monitoring to establish slow, average, and peak period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Gather performance statistics each time new software application is installed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Establish benchmarks to track growth in use of server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indows NT Server Servic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Alerter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Sends notification of alerts or problems on server to users designated by network administrato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AT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Schedules NT Server to run designated programs or commands at a specified tim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ClipBook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 </a:t>
            </a: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Server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Acts as server for remote clipbook viewer, enabling clipbook pages to be shared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06" name=""/>
          <p:cNvSpPr/>
          <p:nvPr/>
        </p:nvSpPr>
        <p:spPr>
          <a:xfrm>
            <a:off x="8002440" y="6491160"/>
            <a:ext cx="1133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6T01:31:00Z</dcterms:created>
  <dc:creator>Anne D. Ketchen</dc:creator>
  <dc:description/>
  <dc:language>en-US</dc:language>
  <cp:lastModifiedBy>Victor R. Volkman</cp:lastModifiedBy>
  <cp:lastPrinted>1998-04-29T19:59:36Z</cp:lastPrinted>
  <dcterms:modified xsi:type="dcterms:W3CDTF">2000-03-14T02:14:55Z</dcterms:modified>
  <cp:revision>40</cp:revision>
  <dc:subject>Chapter 14:  Server and Network Monitoring</dc:subject>
  <dc:title>A Guide to Windows NT Server</dc:title>
</cp:coreProperties>
</file>