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8567-9852-4AF6-BA02-A71A09FB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F01-493B-47C6-9757-5B2A7E99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338B-FB8E-4073-921E-84F61717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94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48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190-24A6-4219-BA2B-A306CCCB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7FE5-86E6-4055-98A3-9378D21B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B235-7F9E-4F0E-AFA3-15458C06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ADE3-47DC-47D6-A333-95AB5F2A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74F3-2E6A-4A4C-BDE2-B0246680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8B81-D7CB-4355-A9F6-963093C5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6940-8DC3-4783-9A48-3D3B7D24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63C2-9CE0-4928-A08E-AB6FADA2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F7E-7BF7-4219-8876-8D5552EA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BF87-9DA9-40C0-A322-895A3733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D302-4A9C-40B8-942C-68E1DFA0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EA5A-0FE2-4E44-8C39-E13378FA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858F-7419-4EFE-9115-4E754624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94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48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6DD4-FBF8-4F39-A125-4D60E75F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6A9F-7132-409F-9D08-FE75D7E7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7CD-9258-4CA0-A273-36780097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07A-B75E-4334-AFDD-0B8D5C6F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478-E890-4715-BE44-7B45E9DC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AEA0-C6C1-4CC3-B050-443252DC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E7EB-8E4E-4621-9CD8-5F82AC1B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6A01-DD14-460E-8FE5-48E5A130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975B-DD8F-405F-9E4F-5DF09818092A}" type="slidenum">
              <a:rPr b="1" lang="en-US" sz="26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1600200"/>
            <a:ext cx="800100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2871360" y="28713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Heavy"/>
              </a:rPr>
              <a:t>Computer Network Techn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E0F0-C628-448F-A9F6-8BED52C645D1}" type="slidenum">
              <a:rPr b="1" lang="en-US" sz="26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Franklin Gothic Medium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743200"/>
            <a:ext cx="769608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2871360" y="28713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Heavy"/>
              </a:rPr>
              <a:t>Computer Network Techn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Franklin Gothic 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Franklin Gothic Medium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Franklin Gothic Medium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Franklin Gothic Medium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Franklin Gothic Medium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Franklin Gothic Medium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Franklin Gothic Medium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Franklin Gothic Medium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Franklin Gothic Medium"/>
              </a:rPr>
              <a:t>Configuring Server Storage, Backup, and Performance Options</a:t>
            </a:r>
            <a:endParaRPr b="1" lang="en-US" sz="36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Chapter 14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4/13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Primary and Extended Partition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Primary partition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Partition or portion of a hard disk that is bootabl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System partition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Partition that contains boot fil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Extended partition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Partition that is created from unpartitioned disk space and is linked to a primary partition in order to increase available disk spac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Entering the Partition Size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47960" y="1752480"/>
            <a:ext cx="593388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Primary and Extended Partition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Boot partition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Partition that holds the Windows NT\Winnt folder containing the system fil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Active partition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Partition from which a computer boots, or starts 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Formatting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Formatting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A process that prepares a hard disk partition for a specific file system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Volume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A partition that has been formatted for a particular file system, a primary partition, a volume set, and extended volume, a stripe set, a stripe set with parity, or a mirrored set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Formatting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Formatting a hard drive position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0440" y="3403440"/>
            <a:ext cx="8223120" cy="15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Formatting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ssigning a drive lett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6197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reating Volume Set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c5e"/>
                </a:solidFill>
                <a:latin typeface="Franklin Gothic Medium"/>
              </a:rPr>
              <a:t>Volume set</a:t>
            </a: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:  Two or more formatted partitions (volumes) that are combined to look like one volume with a single drive lette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Advantage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Ability to manage several small disk drives more easily or to maximize the use of scattered pockets of disk space across several disks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Disadvantage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If one disk in the volume set fails, the entire volume is inaccessible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Extending a Volume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dd another disk until larger disk drives are purchased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ame risks as volume set 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Files Needed at Startup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2560" y="1066680"/>
          <a:ext cx="7791480" cy="75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066680"/>
                    <a:ext cx="7791480" cy="75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Implementing Disk Redundancy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Operating system disk protection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isk striping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triping with parity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isk mirroring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arning Objectiv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artition and format hard disk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Explain primary and extended disk partit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reate volume set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Extend a disk volum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escribe the files needed to start Windows NT Serv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92" name=""/>
          <p:cNvSpPr/>
          <p:nvPr/>
        </p:nvSpPr>
        <p:spPr>
          <a:xfrm>
            <a:off x="8008920" y="6497640"/>
            <a:ext cx="1120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Operating System Disk Protection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Hot fix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A data recovery method that automatically stores data when a damaged area of disk prevents that data from being written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Sector sparing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A fault-tolerance method that reserves certain hard disk sectors so that they can be used when a bad sector is discovered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Operating System Disk Protection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Cluster remapping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A fault-tolerance technique that flags a damaged cluster and finds an undamaged cluster on which to write data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Disk Striping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Stripe set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Two or more disks set up so that files are spread in blocks across the disk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8920" y="3676680"/>
            <a:ext cx="608616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Stripe set with parity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Three or more disks in which files are spread across the disks in blocks, and a parity block is written on each disk to enable data recovery should one disk in the set fai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triping with Parity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57400" y="4635360"/>
            <a:ext cx="502920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Disk Mirroring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Involves creating a shadow copy of data on a backup disk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dvantag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Most guaranteed form of disk fault tolerance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Well suited for mission-critical data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isadvantag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Doubles time needed to create or update information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Increasing Disk Performanc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 and Longevity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Make sure that one disk is not accessed and working harder than other disks in a multiple-disk serv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Use striping or striping with parity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Relocate files to distribute disk access more evenly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Use defragmenting to reorganize files to reduce the number of empty spaces between fil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Disk Security Through Backup Techniqu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dvantages to tape drive backup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Causes no extra load on network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Can perform backups on a multiple server network even if one tape drive fail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Provides more assurance that the Registry is backed up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Disk Security Through Backup Techniqu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Full backup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Backs up all volumes, directories, and files 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Incremental backup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Backs up only those files that have changed since the previous backup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Backup Options on NT Server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Normal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Same as full file-by-file backup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Copy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Only files or directories selected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Incremental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Only files with archive attribut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Differential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Same as incremental but does not remove archive attribut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Daily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Only files that have been changed/updated on the day of backup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ape Rotation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Ensures alternatives in case there is a bad or worn tap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Tower of Hanoi procedure:  Rotates tapes so that some are used more frequently than other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arning Objectiv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Implement disk redundancy through striped sets, striped sets with parity, and mirrored set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erform disk backup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evelop a tape rotation schem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onfigure server memory to improve performanc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onfigure Windows NT Server for a UP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onfiguring a Server to Improve Performance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onfiguring virtual memory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onfiguring memory to match the user load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onfiguring Virtual Memory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c5e"/>
                </a:solidFill>
                <a:latin typeface="Franklin Gothic Medium"/>
              </a:rPr>
              <a:t>Virtual memory</a:t>
            </a: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:  Disk space allocated to link with memory to temporarily hold data when there is not enough free RAM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c5e"/>
                </a:solidFill>
                <a:latin typeface="Franklin Gothic Medium"/>
              </a:rPr>
              <a:t>Paging</a:t>
            </a: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: Moving blocks of information from RAM to virtual memory on disk 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c5e"/>
                </a:solidFill>
                <a:latin typeface="Franklin Gothic Medium"/>
              </a:rPr>
              <a:t>Page file</a:t>
            </a: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:  Disk space reserved for use when memory requirements exceed available RAM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General rule for sizing = Amount of installed RAM + 12 MB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onfiguring Memory to Match the User Load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erver funct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Software application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Printing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Currently running service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Use RAM and paging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Network connectivity funct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Number of user connection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Use RAM only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onfiguring Server RAM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2560" y="1143000"/>
          <a:ext cx="7791480" cy="75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143000"/>
                    <a:ext cx="7791480" cy="75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UPS Fault Tolerance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c5e"/>
                </a:solidFill>
                <a:latin typeface="Franklin Gothic Medium"/>
              </a:rPr>
              <a:t>Uninterruptible power supply (UPS)</a:t>
            </a: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:  A device that provides immediate battery power to equipment during a power failure or brownout for a limited time period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c5e"/>
                </a:solidFill>
                <a:latin typeface="Franklin Gothic Medium"/>
              </a:rPr>
              <a:t>Online UPS</a:t>
            </a: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:  Battery backup device that provides power to equipment directly from its batteries at all time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c5e"/>
                </a:solidFill>
                <a:latin typeface="Franklin Gothic Medium"/>
              </a:rPr>
              <a:t>Offline UPS</a:t>
            </a: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:  Battery backup device that waits until there is a power decrease or sag before switching to battery powe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hapter Summary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Properly setting up disk storage is as important as selecting it. 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Partition disk drives through the Disk Administrator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After partitions are set up and formatted, implement a fault-tolerance method.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Disk striping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Striping with parity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Disk mirroring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65" name=""/>
          <p:cNvSpPr/>
          <p:nvPr/>
        </p:nvSpPr>
        <p:spPr>
          <a:xfrm>
            <a:off x="8008920" y="6497640"/>
            <a:ext cx="1120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hapter Summary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isk performance affected by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Fragmentation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Distribution of files across multiple disk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RAM configuration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Virtual memory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68" name=""/>
          <p:cNvSpPr/>
          <p:nvPr/>
        </p:nvSpPr>
        <p:spPr>
          <a:xfrm>
            <a:off x="8008920" y="6497640"/>
            <a:ext cx="1120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hapter Summary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Establish a tape backup method to guard against data loss.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Full and partial backup technique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Tape rotation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Attach the server to a UP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c3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Hard Disk Basic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Low-level format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A software process that marks tracks and sectors on a disk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Necessary before a disk can be partitioned and formatted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Track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Concentric rings that cover an entire disk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Each ring is divided into sectors in which data is stored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Hard Disk Basic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Sector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A portion of a disk track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Disk tracks are divided into equal segments, or sector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A Disk Divid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into Tracks and Sector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4864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Disk Partition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Partitioning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The process of marking a group of tracks and sectors in preparation for a file system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Free space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Disk space not yet partitioned for use by a file or operating system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Disk Partition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Master boot record (MBR)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Data created in the first sector of a disk, including startup information and information about disk partit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Partition tabl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Table containing information about each partition on a disk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Provides information to the computer about how to access the disk 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Opening the Disk Administrator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860480"/>
            <a:ext cx="6238800" cy="465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7T21:28:12Z</dcterms:created>
  <dc:creator>Anne D. Ketchen</dc:creator>
  <dc:description/>
  <dc:language>en-US</dc:language>
  <cp:lastModifiedBy>Victor R. Volkman</cp:lastModifiedBy>
  <cp:lastPrinted>1998-04-28T18:27:26Z</cp:lastPrinted>
  <dcterms:modified xsi:type="dcterms:W3CDTF">2000-03-27T00:55:53Z</dcterms:modified>
  <cp:revision>31</cp:revision>
  <dc:subject>Chapter 6:  Configuring Server Storage, Backup, and Performance Options</dc:subject>
  <dc:title>A Guide to Windows NT Server</dc:title>
</cp:coreProperties>
</file>