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AE6-0AB0-4ECA-B75F-97235B22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32F-EF65-4E6E-B7B8-22D15237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F99-6B32-46AF-9A0B-89F513AA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9AC-E906-4CB5-8D74-6A02F89D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5A38-4A92-4D2E-9AD7-806682A1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8E89-C744-467C-A192-89844E70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1CEC-5C05-4D05-93EE-51E99A83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B06B-937D-444A-B109-6AA72A50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B1FE-413A-4283-AD5B-CC93D85B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EF90-044E-45F3-BA1D-602BC108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809E-DACD-4B8B-B9DE-AC9F197D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695-40E4-4C6C-BE8D-DE4B0343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917E-FABA-4295-B711-1F205A4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D3F5-C2F5-4936-94C9-4EFD5E7B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52F9-DA4D-4C6D-9796-F1F0F5C6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A4CC-3079-4F13-9991-3493CEC1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1492-2A1D-4EEF-9217-724A4C8A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611-FEB6-43B2-A0DA-51B64A99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225-5580-464E-95D3-C5D64F0C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7A3-5EEA-42F0-BA51-FB185B4A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7F2-3B00-49A4-B673-ACB07F1E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849-9607-49EA-B4DD-F39D51B6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780-8851-4D0F-AA2F-CDBE3F8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13B-06CF-44DF-BC23-6671CED4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66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66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A114-AC35-44AE-AF14-F632F0D9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4F40-9682-45CE-AE25-71C4849CA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0033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0066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PS 171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1/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tp020" descr=""/>
          <p:cNvPicPr/>
          <p:nvPr/>
        </p:nvPicPr>
        <p:blipFill>
          <a:blip r:embed="rId1"/>
          <a:stretch/>
        </p:blipFill>
        <p:spPr>
          <a:xfrm>
            <a:off x="2901960" y="4897440"/>
            <a:ext cx="3673440" cy="18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D1E5-DBDD-423D-8429-F21F5A00B6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5724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ta Type </a:t>
            </a:r>
            <a:r>
              <a:rPr b="1" lang="en-US" sz="4400" spc="-1" strike="noStrike">
                <a:solidFill>
                  <a:srgbClr val="003366"/>
                </a:solidFill>
                <a:latin typeface="Courier New"/>
              </a:rPr>
              <a:t>bool</a:t>
            </a: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0120" y="2406240"/>
            <a:ext cx="7651800" cy="16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domain contains only 2 values, true and fals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llowable operation are the logical ( !,  &amp;&amp;,  ||)  and relational operations </a:t>
            </a: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361-208F-4229-83E0-E16662C261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480" y="4249800"/>
            <a:ext cx="8869320" cy="17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Operator</a:t>
            </a:r>
            <a:r>
              <a:rPr b="1" lang="en-US" sz="44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Courier New"/>
              </a:rPr>
              <a:t>sizeof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31480" y="1658520"/>
            <a:ext cx="8661240" cy="49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has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nary operator named </a:t>
            </a:r>
            <a:r>
              <a:rPr b="1" lang="en-US" sz="2400" spc="-1" strike="noStrike">
                <a:solidFill>
                  <a:srgbClr val="cc0000"/>
                </a:solidFill>
                <a:latin typeface="Arial Rounded MT Bold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yields the size on your machine, in bytes, of its single operand.  The operand can be a variable name, or it can be the name of a data type enclosed in parenth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ag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 &lt;&lt;  “Size in bytes of variable age is “  &lt;&lt;  sizeof  age   &lt;&lt; 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 &lt;&lt;  “Size in bytes of type float is “  &lt;&lt;  sizeof ( float )   &lt;&lt; 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021-18D2-4026-BF3D-51F03B0EAF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9920" y="2252520"/>
            <a:ext cx="8802720" cy="379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156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only guarantees made by C++ are . . .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9680" y="2100240"/>
            <a:ext cx="9004320" cy="43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=  sizeof( char )  &lt;=  sizeof( short )  &lt;=  sizeof( int )  &lt;=  sizeof( lo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&lt;= sizeof ( bool ) &lt;= sizeof ( lo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of ( float ) &lt;=  sizeof ( double ) &lt;=  sizeof ( long doub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 is at least 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is at least 1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is at least 3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804-7683-48D6-902B-364C57321A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0960" y="1676520"/>
            <a:ext cx="7385040" cy="2259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8360" y="4113360"/>
            <a:ext cx="7385040" cy="2314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ponential (Scientific) Not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09320" y="1773360"/>
            <a:ext cx="6813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7E4   means   2.7 x 10</a:t>
            </a:r>
            <a:r>
              <a:rPr b="1" lang="en-US" sz="3600" spc="-1" strike="noStrike" baseline="50000">
                <a:solidFill>
                  <a:srgbClr val="003366"/>
                </a:solidFill>
                <a:latin typeface="Arial"/>
              </a:rPr>
              <a:t> 4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  =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7000   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00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7E-4   means   2.7 x 10</a:t>
            </a:r>
            <a:r>
              <a:rPr b="1" lang="en-US" sz="3600" spc="-1" strike="noStrike" baseline="50000">
                <a:solidFill>
                  <a:srgbClr val="003366"/>
                </a:solidFill>
                <a:latin typeface="Arial"/>
              </a:rPr>
              <a:t> - 4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2.7      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0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730040" y="1694160"/>
            <a:ext cx="1938240" cy="4193640"/>
            <a:chOff x="4730040" y="1694160"/>
            <a:chExt cx="1938240" cy="4193640"/>
          </a:xfrm>
        </p:grpSpPr>
        <p:sp>
          <p:nvSpPr>
            <p:cNvPr id="182" name=""/>
            <p:cNvSpPr/>
            <p:nvPr/>
          </p:nvSpPr>
          <p:spPr>
            <a:xfrm rot="3180000">
              <a:off x="5349600" y="1738440"/>
              <a:ext cx="878760" cy="153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8440">
              <a:solidFill>
                <a:srgbClr val="cc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3180000">
              <a:off x="5118480" y="4200840"/>
              <a:ext cx="1136520" cy="15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844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A6E-A703-4D15-B5DA-176E8DC1D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loating Point Types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1800" y="2044800"/>
            <a:ext cx="8560080" cy="4035240"/>
            <a:chOff x="361800" y="2044800"/>
            <a:chExt cx="8560080" cy="4035240"/>
          </a:xfrm>
        </p:grpSpPr>
        <p:grpSp>
          <p:nvGrpSpPr>
            <p:cNvPr id="186" name=""/>
            <p:cNvGrpSpPr/>
            <p:nvPr/>
          </p:nvGrpSpPr>
          <p:grpSpPr>
            <a:xfrm>
              <a:off x="368280" y="2044800"/>
              <a:ext cx="8553600" cy="4035240"/>
              <a:chOff x="368280" y="2044800"/>
              <a:chExt cx="8553600" cy="4035240"/>
            </a:xfrm>
          </p:grpSpPr>
          <p:sp>
            <p:nvSpPr>
              <p:cNvPr id="187" name=""/>
              <p:cNvSpPr/>
              <p:nvPr/>
            </p:nvSpPr>
            <p:spPr>
              <a:xfrm>
                <a:off x="368280" y="2044800"/>
                <a:ext cx="8429760" cy="40352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42800" y="2165400"/>
                <a:ext cx="8479080" cy="37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Type  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         Size in Bytes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Minimum 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            Maximum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Positive Value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            Positive Val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4E-38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4E+3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8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.7E-308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.7E+30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ong doubl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1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4E-493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.1E+49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66"/>
                    </a:solidFill>
                    <a:latin typeface="Arial"/>
                  </a:rPr>
                  <a:t>NOTE:  Values given for one machine.  Actual sizes are machine-dependen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0880" y="5464080"/>
                <a:ext cx="842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61800" y="2898720"/>
              <a:ext cx="842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1784520" cy="163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DF3-5131-4A2F-92F9-1898C19A22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56196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about Floating Point Typ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622160"/>
            <a:ext cx="796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 constants in C++ lik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94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out a suffix are of typ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uble by defa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btain another floating point type constant a suffix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ffix F or f denotes float type, as in 94.6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ffix L or l denotes long double, as in 94.6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A0C-2A12-4EF0-BC71-1F26ED75CE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46160" y="3736800"/>
            <a:ext cx="6964200" cy="25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620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eader Files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climits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nd</a:t>
            </a: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 cflo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90480" y="1663200"/>
            <a:ext cx="7446960" cy="16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ontain constants whose values are the maximum and minimum for your machin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uch constants are FLT_MAX, FLT_MIN, LONG_MAX, LONG_MIN </a:t>
            </a: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73240" y="3894120"/>
            <a:ext cx="67579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 climits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“Maximum long is “  &lt;&lt; LONG_MAX  &lt;&lt; end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“Minimum long is “  &lt;&lt; LONG_MIN  &lt;&lt; end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61F-4A46-448B-8CB4-FF62B71C5E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352520" y="1700280"/>
            <a:ext cx="5994360" cy="4703760"/>
            <a:chOff x="1352520" y="1700280"/>
            <a:chExt cx="5994360" cy="4703760"/>
          </a:xfrm>
        </p:grpSpPr>
        <p:sp>
          <p:nvSpPr>
            <p:cNvPr id="199" name=""/>
            <p:cNvSpPr/>
            <p:nvPr/>
          </p:nvSpPr>
          <p:spPr>
            <a:xfrm>
              <a:off x="1352520" y="5376960"/>
              <a:ext cx="5994360" cy="102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52520" y="3948120"/>
              <a:ext cx="5994360" cy="102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52520" y="1700280"/>
              <a:ext cx="5994360" cy="1419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920" y="420480"/>
            <a:ext cx="848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++ Has Combined Assignment Operato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871280"/>
            <a:ext cx="7213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 ag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&gt;&gt;  ag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rite a statement to add 3 to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  =   age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Monaco"/>
              </a:rPr>
              <a:t>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3 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857-73E7-44D3-9BCE-137B437159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352520" y="1776240"/>
            <a:ext cx="5994360" cy="4303800"/>
            <a:chOff x="1352520" y="1776240"/>
            <a:chExt cx="5994360" cy="4303800"/>
          </a:xfrm>
        </p:grpSpPr>
        <p:sp>
          <p:nvSpPr>
            <p:cNvPr id="205" name=""/>
            <p:cNvSpPr/>
            <p:nvPr/>
          </p:nvSpPr>
          <p:spPr>
            <a:xfrm>
              <a:off x="1352520" y="5052960"/>
              <a:ext cx="5994360" cy="102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52520" y="3567240"/>
              <a:ext cx="5994360" cy="102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2520" y="1776240"/>
              <a:ext cx="5994360" cy="141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518760"/>
            <a:ext cx="841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rite a statement to subtract 10 from </a:t>
            </a: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weigh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64920" y="1944360"/>
            <a:ext cx="7848360" cy="37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 weigh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&gt;&gt;  weigh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  =  weight  - 1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Monaco"/>
              </a:rPr>
              <a:t>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10 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53D-80B7-4221-8BF4-2E5D7DF6D3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352520" y="1776240"/>
            <a:ext cx="5994360" cy="4303800"/>
            <a:chOff x="1352520" y="1776240"/>
            <a:chExt cx="5994360" cy="4303800"/>
          </a:xfrm>
        </p:grpSpPr>
        <p:sp>
          <p:nvSpPr>
            <p:cNvPr id="211" name=""/>
            <p:cNvSpPr/>
            <p:nvPr/>
          </p:nvSpPr>
          <p:spPr>
            <a:xfrm>
              <a:off x="1352520" y="5052960"/>
              <a:ext cx="5994360" cy="102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52520" y="3567240"/>
              <a:ext cx="5994360" cy="102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52520" y="1776240"/>
              <a:ext cx="5994360" cy="141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5360" y="56160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Write a statement to divide </a:t>
            </a:r>
            <a:r>
              <a:rPr b="1" lang="en-US" sz="3600" spc="-1" strike="noStrike">
                <a:solidFill>
                  <a:srgbClr val="003366"/>
                </a:solidFill>
                <a:latin typeface="Courier New"/>
              </a:rPr>
              <a:t>money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by 5.0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4960" y="1888920"/>
            <a:ext cx="7848720" cy="37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  money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&gt;&gt;  money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 =  money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/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0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Monaco"/>
              </a:rPr>
              <a:t>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0 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5A4-F7FB-476A-B191-19EFA7F753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heet for Tes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0 - Misc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3" descr=""/>
          <p:cNvPicPr/>
          <p:nvPr/>
        </p:nvPicPr>
        <p:blipFill>
          <a:blip r:embed="rId1"/>
          <a:stretch/>
        </p:blipFill>
        <p:spPr>
          <a:xfrm>
            <a:off x="0" y="5113440"/>
            <a:ext cx="1744560" cy="17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0BC-2EB5-45B0-9D9B-5CC0F6F11E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352520" y="1776240"/>
            <a:ext cx="5994360" cy="4303800"/>
            <a:chOff x="1352520" y="1776240"/>
            <a:chExt cx="5994360" cy="4303800"/>
          </a:xfrm>
        </p:grpSpPr>
        <p:sp>
          <p:nvSpPr>
            <p:cNvPr id="217" name=""/>
            <p:cNvSpPr/>
            <p:nvPr/>
          </p:nvSpPr>
          <p:spPr>
            <a:xfrm>
              <a:off x="1352520" y="5052960"/>
              <a:ext cx="5994360" cy="102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52520" y="3567240"/>
              <a:ext cx="5994360" cy="102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52520" y="1776240"/>
              <a:ext cx="5994360" cy="141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87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Write a statement to double</a:t>
            </a:r>
            <a:r>
              <a:rPr b="1" lang="en-US" sz="3600" spc="-1" strike="noStrike">
                <a:solidFill>
                  <a:srgbClr val="003366"/>
                </a:solidFill>
                <a:latin typeface="Monaco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Courier New"/>
              </a:rPr>
              <a:t>profi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37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  profit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&gt;&gt;  profit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s  =  profits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*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0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Monaco"/>
              </a:rPr>
              <a:t>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s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2.0 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19" descr=""/>
          <p:cNvPicPr/>
          <p:nvPr/>
        </p:nvPicPr>
        <p:blipFill>
          <a:blip r:embed="rId1"/>
          <a:stretch/>
        </p:blipFill>
        <p:spPr>
          <a:xfrm>
            <a:off x="0" y="5486400"/>
            <a:ext cx="133344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8D9-1B61-42CA-B7A3-A329BC72EF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52520" y="5452920"/>
            <a:ext cx="5994360" cy="102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52520" y="4119480"/>
            <a:ext cx="5994360" cy="102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2520" y="1643040"/>
            <a:ext cx="5994360" cy="20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6880" y="599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Write a statement to raise</a:t>
            </a:r>
            <a:r>
              <a:rPr b="1" lang="en-US" sz="3600" spc="-1" strike="noStrike">
                <a:solidFill>
                  <a:srgbClr val="003366"/>
                </a:solidFill>
                <a:latin typeface="Monaco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Courier New"/>
              </a:rPr>
              <a:t>cost</a:t>
            </a:r>
            <a:r>
              <a:rPr b="1" lang="en-US" sz="3600" spc="-1" strike="noStrike">
                <a:solidFill>
                  <a:srgbClr val="003366"/>
                </a:solidFill>
                <a:latin typeface="Monaco"/>
              </a:rPr>
              <a:t> 15%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6040" y="1650600"/>
            <a:ext cx="7037640" cy="505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  c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&gt;&gt;  c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 =  cost  +  cost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*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1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Monaco"/>
              </a:rPr>
              <a:t>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 = 1.15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*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Monaco"/>
              </a:rPr>
              <a:t>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1.15 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41D-0F3A-4B87-83C8-97D634C6B5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ich form to use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increment (or decrement) operator is used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 a “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stand alon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” statement</a:t>
            </a:r>
            <a:r>
              <a:rPr b="1" lang="en-US" sz="2800" spc="-1" strike="noStrike">
                <a:solidFill>
                  <a:srgbClr val="51d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ely to add one  (or subtract one) from a variable’s value, it can be used in either prefix or postfix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84320" y="4654440"/>
            <a:ext cx="2806920" cy="596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75600" y="5653080"/>
            <a:ext cx="706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g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g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400" y="474660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USE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752120" y="5105520"/>
            <a:ext cx="4953600" cy="457200"/>
            <a:chOff x="1752120" y="5105520"/>
            <a:chExt cx="4953600" cy="457200"/>
          </a:xfrm>
        </p:grpSpPr>
        <p:sp>
          <p:nvSpPr>
            <p:cNvPr id="234" name=""/>
            <p:cNvSpPr/>
            <p:nvPr/>
          </p:nvSpPr>
          <p:spPr>
            <a:xfrm flipH="1">
              <a:off x="1752120" y="5105520"/>
              <a:ext cx="11430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15000" y="5105520"/>
              <a:ext cx="9907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752480" y="525744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52480" y="5410080"/>
              <a:ext cx="2286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6629400" y="5257440"/>
              <a:ext cx="763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476760" y="5486400"/>
              <a:ext cx="2286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0" name="18" descr=""/>
          <p:cNvPicPr/>
          <p:nvPr/>
        </p:nvPicPr>
        <p:blipFill>
          <a:blip r:embed="rId1"/>
          <a:stretch/>
        </p:blipFill>
        <p:spPr>
          <a:xfrm>
            <a:off x="7035840" y="136440"/>
            <a:ext cx="2108160" cy="14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C7A-492F-4822-9158-B26533C029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BUT...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increment (or decrement) operator is used in a statement with other operators, the prefix and postfix forms can yield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different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45600" y="4815000"/>
            <a:ext cx="365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LET’S  SEE  HOW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2" descr=""/>
          <p:cNvPicPr/>
          <p:nvPr/>
        </p:nvPicPr>
        <p:blipFill>
          <a:blip r:embed="rId1"/>
          <a:stretch/>
        </p:blipFill>
        <p:spPr>
          <a:xfrm>
            <a:off x="5191200" y="5292720"/>
            <a:ext cx="108252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FF0-B625-41A4-AF82-63C02B276F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30200" y="1623960"/>
            <a:ext cx="4145040" cy="472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27120" y="1724040"/>
            <a:ext cx="4292640" cy="32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alpha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num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 = 1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lpha = ++num</a:t>
            </a:r>
            <a:r>
              <a:rPr b="1" lang="en-US" sz="2800" spc="-1" strike="noStrike">
                <a:solidFill>
                  <a:srgbClr val="990033"/>
                </a:solidFill>
                <a:latin typeface="Bookman Old Style"/>
              </a:rPr>
              <a:t> *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3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937040" y="2444760"/>
            <a:ext cx="3438720" cy="4246200"/>
            <a:chOff x="4937040" y="2444760"/>
            <a:chExt cx="3438720" cy="4246200"/>
          </a:xfrm>
        </p:grpSpPr>
        <p:sp>
          <p:nvSpPr>
            <p:cNvPr id="248" name=""/>
            <p:cNvSpPr/>
            <p:nvPr/>
          </p:nvSpPr>
          <p:spPr>
            <a:xfrm>
              <a:off x="5111640" y="2444760"/>
              <a:ext cx="105408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94440" y="4098960"/>
              <a:ext cx="40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37040" y="4052880"/>
              <a:ext cx="677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7200" y="252900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41960" y="470844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11640" y="3968640"/>
              <a:ext cx="97812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41960" y="4114800"/>
              <a:ext cx="777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41960" y="326088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9560" y="2444760"/>
              <a:ext cx="173988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19200" y="3260880"/>
              <a:ext cx="9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p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35880" y="5416560"/>
              <a:ext cx="173988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19200" y="6232680"/>
              <a:ext cx="9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p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47080" y="557676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4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11640" y="5416560"/>
              <a:ext cx="97812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18280" y="557676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41960" y="623268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20640" y="37476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EFIX FORM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“First increment, then use 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29A-B1BE-4947-8E5A-62F7413C9A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30200" y="1811160"/>
            <a:ext cx="4145040" cy="453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111640" y="2444760"/>
            <a:ext cx="3264120" cy="4398480"/>
            <a:chOff x="5111640" y="2444760"/>
            <a:chExt cx="3264120" cy="4398480"/>
          </a:xfrm>
        </p:grpSpPr>
        <p:grpSp>
          <p:nvGrpSpPr>
            <p:cNvPr id="267" name=""/>
            <p:cNvGrpSpPr/>
            <p:nvPr/>
          </p:nvGrpSpPr>
          <p:grpSpPr>
            <a:xfrm>
              <a:off x="5111640" y="2444760"/>
              <a:ext cx="3264120" cy="3873600"/>
              <a:chOff x="5111640" y="2444760"/>
              <a:chExt cx="3264120" cy="3873600"/>
            </a:xfrm>
          </p:grpSpPr>
          <p:sp>
            <p:nvSpPr>
              <p:cNvPr id="268" name=""/>
              <p:cNvSpPr/>
              <p:nvPr/>
            </p:nvSpPr>
            <p:spPr>
              <a:xfrm>
                <a:off x="5111640" y="2444760"/>
                <a:ext cx="1054080" cy="7491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11640" y="4197240"/>
                <a:ext cx="978120" cy="7495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59560" y="2444760"/>
                <a:ext cx="1739880" cy="7491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635880" y="4197240"/>
                <a:ext cx="1739880" cy="7495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111640" y="5568840"/>
                <a:ext cx="978120" cy="7495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165640" y="493704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41960" y="318456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19200" y="3184560"/>
              <a:ext cx="9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p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42880" y="4937040"/>
              <a:ext cx="9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p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41960" y="638496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3998880" cy="32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alpha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num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 = 1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lpha = num++</a:t>
            </a: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  *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;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17200" y="252900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41960" y="4357800"/>
            <a:ext cx="77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47080" y="435780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18280" y="572940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22080" y="448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OSTFIX FORM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“Use, then increment”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D86-0ABE-498F-A3F7-6F0358239D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85640" y="2708280"/>
            <a:ext cx="8178840" cy="239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 Cast Operator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1668600"/>
            <a:ext cx="8659800" cy="33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++ cast operator is used to explicitly request a type conversion.  The cast operation has two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intV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floatVar  =  104.8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Var  =  int ( floatVar ) ;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// functional notation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Var  = ( int ) floatVar ;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// prefix notation uses 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54360" y="5232240"/>
            <a:ext cx="5056200" cy="1352520"/>
            <a:chOff x="1854360" y="5232240"/>
            <a:chExt cx="5056200" cy="1352520"/>
          </a:xfrm>
        </p:grpSpPr>
        <p:grpSp>
          <p:nvGrpSpPr>
            <p:cNvPr id="288" name=""/>
            <p:cNvGrpSpPr/>
            <p:nvPr/>
          </p:nvGrpSpPr>
          <p:grpSpPr>
            <a:xfrm>
              <a:off x="1854360" y="5232240"/>
              <a:ext cx="5056200" cy="809640"/>
              <a:chOff x="1854360" y="5232240"/>
              <a:chExt cx="5056200" cy="809640"/>
            </a:xfrm>
          </p:grpSpPr>
          <p:sp>
            <p:nvSpPr>
              <p:cNvPr id="289" name=""/>
              <p:cNvSpPr/>
              <p:nvPr/>
            </p:nvSpPr>
            <p:spPr>
              <a:xfrm>
                <a:off x="5237280" y="5232240"/>
                <a:ext cx="1673280" cy="8049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54360" y="5237280"/>
                <a:ext cx="1672920" cy="804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078640" y="5334120"/>
              <a:ext cx="4490280" cy="12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4.8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10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atVa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intV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CAB-00C0-40CF-A6C9-DEFA949DF7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62160" y="2538360"/>
            <a:ext cx="6834240" cy="957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39560" y="1860120"/>
            <a:ext cx="8234640" cy="49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?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rue (nonzero), then the value of the entire expression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Otherwise, the value of the entire expression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OR EXAMPLE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188640" y="758520"/>
            <a:ext cx="895500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ernary (three-operand) Operator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 ?  :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149-466B-4630-9464-2462C05225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66560" y="1494000"/>
            <a:ext cx="8067960" cy="504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ing Conditional Operator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2600" y="1316160"/>
            <a:ext cx="773028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 Smaller ( float  x,  float  y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Finds the smaller of two floa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// Precondition:        x assigned  &amp;&amp;  y 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 Postcondition:      Function value  ==   x, if x &lt;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       ==  y,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 m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  = ( x &lt; y )  ?   x :  y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 min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5D9-4605-4A02-B86D-D36A126E11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439560" y="1649520"/>
            <a:ext cx="8251920" cy="4878360"/>
            <a:chOff x="439560" y="1649520"/>
            <a:chExt cx="8251920" cy="4878360"/>
          </a:xfrm>
        </p:grpSpPr>
        <p:sp>
          <p:nvSpPr>
            <p:cNvPr id="299" name=""/>
            <p:cNvSpPr/>
            <p:nvPr/>
          </p:nvSpPr>
          <p:spPr>
            <a:xfrm>
              <a:off x="439560" y="1649520"/>
              <a:ext cx="8245800" cy="48783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9280" y="2089080"/>
              <a:ext cx="824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63480" y="4554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++ Operator Precedence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(highest to lowest)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4920" y="168264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Operator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     Associ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ry: ++   --   !   +   -   (cast)   size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Right to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     /      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   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    &lt;=     &gt;     &gt;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   !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Right to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  +=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  *=     /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Right to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3440" y="254016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9560" y="302112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6040" y="339408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3440" y="382104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8120" y="426564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5520" y="469260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1640" y="513720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6680" y="562140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8640" y="606420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B6C-EE95-4D19-BF6C-71E6328167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1558800"/>
            <a:ext cx="66484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ata Types:  Built-In and User-Defined</a:t>
            </a:r>
            <a:r>
              <a:rPr b="0" lang="en-US" sz="3200" spc="-1" strike="noStrike">
                <a:solidFill>
                  <a:srgbClr val="0066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e/Weems/Head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4DD-7910-4D8F-94EE-17D9FCE8F4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6356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++ 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382840" y="1523880"/>
            <a:ext cx="104616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7840" y="1447920"/>
            <a:ext cx="122076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34040" y="1467000"/>
            <a:ext cx="1303560" cy="10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11920" y="238428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64960" y="3421080"/>
            <a:ext cx="347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  struct   union  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332040" y="2800440"/>
            <a:ext cx="2362680" cy="704880"/>
            <a:chOff x="6332040" y="2800440"/>
            <a:chExt cx="2362680" cy="704880"/>
          </a:xfrm>
        </p:grpSpPr>
        <p:sp>
          <p:nvSpPr>
            <p:cNvPr id="319" name=""/>
            <p:cNvSpPr/>
            <p:nvPr/>
          </p:nvSpPr>
          <p:spPr>
            <a:xfrm>
              <a:off x="800892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80320" y="2800440"/>
              <a:ext cx="1522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113240" y="2800440"/>
              <a:ext cx="3621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33204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15400" y="5051520"/>
            <a:ext cx="2475720" cy="1281240"/>
            <a:chOff x="5315400" y="5051520"/>
            <a:chExt cx="2475720" cy="1281240"/>
          </a:xfrm>
        </p:grpSpPr>
        <p:sp>
          <p:nvSpPr>
            <p:cNvPr id="324" name=""/>
            <p:cNvSpPr/>
            <p:nvPr/>
          </p:nvSpPr>
          <p:spPr>
            <a:xfrm>
              <a:off x="5700960" y="5051520"/>
              <a:ext cx="143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640480" y="5448240"/>
              <a:ext cx="45720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30840" y="5448240"/>
              <a:ext cx="5335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15400" y="5935320"/>
              <a:ext cx="2475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inter    re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737360" y="238428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220400" y="2781360"/>
            <a:ext cx="762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2360" y="2781360"/>
            <a:ext cx="1447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7800" y="3421080"/>
            <a:ext cx="269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tegral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2160" y="4335480"/>
            <a:ext cx="337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har</a:t>
            </a:r>
            <a:r>
              <a:rPr b="1" lang="en-US" sz="2000" spc="-1" strike="noStrike">
                <a:solidFill>
                  <a:srgbClr val="99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hort   int  long  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11280" y="377208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068120" y="377208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3040" y="377208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1640" y="377208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402280" y="3421080"/>
            <a:ext cx="3347280" cy="2169360"/>
            <a:chOff x="2402280" y="3421080"/>
            <a:chExt cx="3347280" cy="2169360"/>
          </a:xfrm>
        </p:grpSpPr>
        <p:sp>
          <p:nvSpPr>
            <p:cNvPr id="338" name=""/>
            <p:cNvSpPr/>
            <p:nvPr/>
          </p:nvSpPr>
          <p:spPr>
            <a:xfrm>
              <a:off x="3793320" y="342108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fl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02280" y="5193000"/>
              <a:ext cx="334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at  double   long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896920" y="3772080"/>
              <a:ext cx="15235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3440" y="3772080"/>
              <a:ext cx="1519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582360" y="3772080"/>
              <a:ext cx="91404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754280" y="377208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66920" y="2781360"/>
            <a:ext cx="49536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22" descr=""/>
          <p:cNvPicPr/>
          <p:nvPr/>
        </p:nvPicPr>
        <p:blipFill>
          <a:blip r:embed="rId1"/>
          <a:stretch/>
        </p:blipFill>
        <p:spPr>
          <a:xfrm>
            <a:off x="7896240" y="4471920"/>
            <a:ext cx="1138320" cy="17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AC8-8476-41CB-A7D0-D5FE421364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SCII  and  EBCDIC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6040" y="1835280"/>
            <a:ext cx="7588080" cy="47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II  (pronounced ask-key) and EBCDIC are the two character sets commonly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used to represent characters internally as inte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II is used on most personal computers, and EBCDIC is used mainly on IBM mainfra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using ASCII the character ‘A’ is internally stored as integer 6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Using EBCDIC the ‘A’ is stored as 193.  In both sets, the successive alphabet letters are stored as successive integers.  This enables character comparisons with ‘A’ less than ‘B’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938-EA43-4632-B142-69113F00F4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2000" y="1603440"/>
            <a:ext cx="8074080" cy="5246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34040" y="3338640"/>
            <a:ext cx="466560" cy="47916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7280" y="3338640"/>
            <a:ext cx="463680" cy="47916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6000" y="76320"/>
            <a:ext cx="8749800" cy="6595920"/>
            <a:chOff x="36000" y="76320"/>
            <a:chExt cx="8749800" cy="6595920"/>
          </a:xfrm>
        </p:grpSpPr>
        <p:sp>
          <p:nvSpPr>
            <p:cNvPr id="352" name=""/>
            <p:cNvSpPr/>
            <p:nvPr/>
          </p:nvSpPr>
          <p:spPr>
            <a:xfrm>
              <a:off x="36000" y="1089000"/>
              <a:ext cx="8749800" cy="54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git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!           “          #        $        %         &amp;         ‘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          (          )          *          +           ,          -         .          /           0   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           2        3          4         5          6          7        8         9           :         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          &lt;        =          &gt;         ?         @         A        B        C          D      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           F       G          H         I           J          K        L        M         N      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           P       Q          R        S          T          U        V        W         X      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           Z        [            \         ]           ^          _         `         a          b       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           d        e           f         g          h          I          j         k           l       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           n        o          p         q          r          s         t          u          v       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           x         y          z         {           |           }        ~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55520" y="681120"/>
              <a:ext cx="0" cy="599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8720" y="76320"/>
              <a:ext cx="905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Righ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Dig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099040" y="841320"/>
            <a:ext cx="466560" cy="4795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58680" y="76320"/>
            <a:ext cx="7848720" cy="134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SCII (Printable) Character Set</a:t>
            </a:r>
            <a:br>
              <a:rPr sz="3200"/>
            </a:br>
            <a:br>
              <a:rPr sz="1000"/>
            </a:b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0     1      2      3      4      5     6      7      8      9 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444-7DA1-489C-97CC-4DF2B2640F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39880" y="4033800"/>
            <a:ext cx="7562880" cy="252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menting </a:t>
            </a:r>
            <a:r>
              <a:rPr b="1" lang="en-US" sz="4400" spc="-1" strike="noStrike">
                <a:solidFill>
                  <a:srgbClr val="003366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Variable</a:t>
            </a:r>
            <a:r>
              <a:rPr b="1" lang="en-US" sz="44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63120" y="1725480"/>
            <a:ext cx="779004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char variables are stored internally as integers, they can be incremented and compa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 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 loop to print out letters A thru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ch = ‘A’ ; ch &lt;= ‘Z’ ;  ch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ch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EEB-AAA3-48FD-99EE-FF11E7EA91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trol Character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6160" y="2145960"/>
            <a:ext cx="7837560" cy="37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the printable characters, character sets also have nonprintable control characters to control the screen, printer, and other hard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++ programs, control characters are represented by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escape seque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Each escape sequence is formed by a backslash followed by one or more additional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3E6-FA15-4E24-B83E-5E91E69050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133200"/>
            <a:ext cx="8356680" cy="122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ome Escape Sequenc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57160" y="1638000"/>
            <a:ext cx="784872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line (Line feed in ASC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ta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rt (bell or bee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\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quote (apostrop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quote (quotation ma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ll character (all zero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d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al equivalent (3 octal dig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xd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xadecimal equivalent (1 or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x digits for integer value of charac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21" descr=""/>
          <p:cNvPicPr/>
          <p:nvPr/>
        </p:nvPicPr>
        <p:blipFill>
          <a:blip r:embed="rId1"/>
          <a:stretch/>
        </p:blipFill>
        <p:spPr>
          <a:xfrm>
            <a:off x="615960" y="577800"/>
            <a:ext cx="930240" cy="9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56E-793B-4CFE-8F54-B72CA6AB86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04720" y="4859280"/>
            <a:ext cx="7431120" cy="17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064040" y="3790800"/>
            <a:ext cx="3101760" cy="571680"/>
            <a:chOff x="4064040" y="3790800"/>
            <a:chExt cx="3101760" cy="571680"/>
          </a:xfrm>
        </p:grpSpPr>
        <p:sp>
          <p:nvSpPr>
            <p:cNvPr id="367" name=""/>
            <p:cNvSpPr/>
            <p:nvPr/>
          </p:nvSpPr>
          <p:spPr>
            <a:xfrm>
              <a:off x="4064040" y="3790800"/>
              <a:ext cx="903240" cy="571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51520" y="3790800"/>
              <a:ext cx="1214280" cy="571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16080"/>
            <a:ext cx="784872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verting </a:t>
            </a: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char</a:t>
            </a:r>
            <a:r>
              <a:rPr b="1" lang="en-US" sz="40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git to </a:t>
            </a: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int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09680" y="1725480"/>
            <a:ext cx="8245440" cy="45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ccessive digit characters ‘0’ through ‘9’ are represented in ASCII by the successive integers 48 through 57 (the situation is similar in EBCD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esult, the following expression converts a char digit value to its corresponding integer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  ch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number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= int ( ch - ‘0’ )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using explicit type 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C7B-E5C5-412B-ABF9-716F516F5C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16080" y="1752480"/>
            <a:ext cx="8178480" cy="379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17520" y="574200"/>
            <a:ext cx="847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haracter Function Prototypes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 &lt; cctype &gt;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77640" y="1828440"/>
            <a:ext cx="840564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 toupper ( int  ch 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 FUNCTION VALUE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==  uppercase equivalent of ch, if ch is a lowercase let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==  ch,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 tolower ( int  ch 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 FUNCTION VALUE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==  lowercase equivalent of ch, if ch is an uppercase let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==  ch,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9840" y="361620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2680" y="5680080"/>
            <a:ext cx="7776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 Although parameter and return type are int, in conce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functions operate on characte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798-3507-4419-9F9B-C99172730A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779400" y="1490760"/>
            <a:ext cx="7599600" cy="527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1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Reading a Yes or No User Response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31760" y="1565280"/>
            <a:ext cx="73263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 inputStr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“Enter Yes or No” 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 &gt;&gt; inputStr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toupper ( inputStr [0] ) == ‘Y’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// First letter was ‘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 ( toupper ( inputStr [0] ) == ‘N’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// First letter was ‘N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ErrorMsg ( 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8B2-B10C-4AB8-AF74-DB3297F6E9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6356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++ 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382840" y="1523880"/>
            <a:ext cx="104616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57840" y="1447920"/>
            <a:ext cx="122076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34040" y="1467000"/>
            <a:ext cx="1303560" cy="10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11920" y="238428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64960" y="3421080"/>
            <a:ext cx="347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  struct   union  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332040" y="2800440"/>
            <a:ext cx="2362680" cy="704880"/>
            <a:chOff x="6332040" y="2800440"/>
            <a:chExt cx="2362680" cy="704880"/>
          </a:xfrm>
        </p:grpSpPr>
        <p:sp>
          <p:nvSpPr>
            <p:cNvPr id="386" name=""/>
            <p:cNvSpPr/>
            <p:nvPr/>
          </p:nvSpPr>
          <p:spPr>
            <a:xfrm>
              <a:off x="800892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80320" y="2800440"/>
              <a:ext cx="1522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113240" y="2800440"/>
              <a:ext cx="3621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33204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315400" y="5051520"/>
            <a:ext cx="2475720" cy="1281240"/>
            <a:chOff x="5315400" y="5051520"/>
            <a:chExt cx="2475720" cy="1281240"/>
          </a:xfrm>
        </p:grpSpPr>
        <p:sp>
          <p:nvSpPr>
            <p:cNvPr id="391" name=""/>
            <p:cNvSpPr/>
            <p:nvPr/>
          </p:nvSpPr>
          <p:spPr>
            <a:xfrm>
              <a:off x="5700960" y="5051520"/>
              <a:ext cx="143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640480" y="5448240"/>
              <a:ext cx="45720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30840" y="5448240"/>
              <a:ext cx="5335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15400" y="5935320"/>
              <a:ext cx="2475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inter    re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737360" y="238428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220400" y="2781360"/>
            <a:ext cx="762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2360" y="2781360"/>
            <a:ext cx="1447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7800" y="3421080"/>
            <a:ext cx="269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tegral     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2160" y="4335480"/>
            <a:ext cx="337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en-US" sz="2000" spc="-1" strike="noStrike">
                <a:solidFill>
                  <a:srgbClr val="99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hort   int  long  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11280" y="377208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068120" y="377208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73040" y="377208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1640" y="377208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402280" y="3421080"/>
            <a:ext cx="3347280" cy="2169360"/>
            <a:chOff x="2402280" y="3421080"/>
            <a:chExt cx="3347280" cy="2169360"/>
          </a:xfrm>
        </p:grpSpPr>
        <p:sp>
          <p:nvSpPr>
            <p:cNvPr id="405" name=""/>
            <p:cNvSpPr/>
            <p:nvPr/>
          </p:nvSpPr>
          <p:spPr>
            <a:xfrm>
              <a:off x="3793320" y="342108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fl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2280" y="5193000"/>
              <a:ext cx="334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at  double   long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896920" y="3772080"/>
              <a:ext cx="15235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3440" y="3772080"/>
              <a:ext cx="1519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582360" y="3772080"/>
              <a:ext cx="91404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1754280" y="377208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66920" y="2781360"/>
            <a:ext cx="49536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59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2EA-6F70-49E7-A8F7-89A4E6564D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4" descr=""/>
          <p:cNvPicPr/>
          <p:nvPr/>
        </p:nvPicPr>
        <p:blipFill>
          <a:blip r:embed="rId1"/>
          <a:stretch/>
        </p:blipFill>
        <p:spPr>
          <a:xfrm>
            <a:off x="6230880" y="3890880"/>
            <a:ext cx="2522520" cy="2772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3880" y="5076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hapter 10 Topic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66720" y="1604520"/>
            <a:ext cx="78105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ernal and Internal Representation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l and Floating Point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Combined Assignment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ix and Postfix Forms of Increment and Decrement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ernary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ype Cast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an Enumerat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and Includ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User-Written 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FA5-360C-42D9-AACD-2A7E960430D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046160" y="3549600"/>
            <a:ext cx="6964200" cy="30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urier New"/>
              </a:rPr>
              <a:t>typedef</a:t>
            </a:r>
            <a:r>
              <a:rPr b="1" lang="en-US" sz="44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tatement      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90480" y="1663200"/>
            <a:ext cx="7446960" cy="16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66"/>
                </a:solidFill>
                <a:latin typeface="Arial"/>
              </a:rPr>
              <a:t>typedef creates an additional name for an already existing data type </a:t>
            </a: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66"/>
                </a:solidFill>
                <a:latin typeface="Arial"/>
              </a:rPr>
              <a:t>before bool type became part of ISO-ANSI C++, a Boolean type was simulated this way </a:t>
            </a: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13280" y="3627360"/>
            <a:ext cx="338688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def  int 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  Boolean  true = 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  Boolean  false  =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 dataOK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OK  =  true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062-1857-4970-BE09-EB6EDBF10A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68200" y="4006800"/>
            <a:ext cx="8518680" cy="138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numeration Types      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99520" y="1855440"/>
            <a:ext cx="835524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C++ allows creation of a new simple type by listing (enumerating) all the ordered values in the domain of the typ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77920" y="3808440"/>
            <a:ext cx="8561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MonthType { JAN,  FEB,  MAR,  APR,  MAY, JU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,  AUG,  SEP,  OCT,  NOV,  DEC 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440000" y="4711680"/>
            <a:ext cx="550800" cy="1098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00560" y="5187960"/>
            <a:ext cx="2141280" cy="531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451480" y="5078520"/>
            <a:ext cx="2819520" cy="6411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76000" y="5865840"/>
            <a:ext cx="8307360" cy="397440"/>
            <a:chOff x="576000" y="5865840"/>
            <a:chExt cx="8307360" cy="397440"/>
          </a:xfrm>
        </p:grpSpPr>
        <p:sp>
          <p:nvSpPr>
            <p:cNvPr id="425" name=""/>
            <p:cNvSpPr/>
            <p:nvPr/>
          </p:nvSpPr>
          <p:spPr>
            <a:xfrm>
              <a:off x="576000" y="5865840"/>
              <a:ext cx="2320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name of new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10160" y="5865840"/>
              <a:ext cx="517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list of all possible values of this new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5B6-43A2-4918-9EB5-1F35381E4C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52280" y="1644480"/>
            <a:ext cx="8777520" cy="138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Rounded MT Bold"/>
              </a:rPr>
              <a:t>enum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Type Decla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0160" y="1882800"/>
            <a:ext cx="8797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 MonthType {  JAN,  FEB,  MAR,  APR,  MAY, JU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,  AUG,  SEP,  OCT,  NOV,  DEC  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1600" y="3095640"/>
            <a:ext cx="85107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um declaration creates a new programmer-defined type and lists all the possible values of that type--any valid C++ identifiers can be used as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sted values are ordered as listed.  That is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 &lt; FEB &lt; MAR &lt; APR , and so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66"/>
                </a:solidFill>
                <a:latin typeface="Arial"/>
              </a:rPr>
              <a:t>you must still declare variables of this ty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67D-BF7A-4796-8806-E1F75C1293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79360" y="1474920"/>
            <a:ext cx="8553600" cy="530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4000" y="204840"/>
            <a:ext cx="78483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eclaring </a:t>
            </a: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enum</a:t>
            </a:r>
            <a:r>
              <a:rPr b="1" lang="en-US" sz="40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ype Variab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8280" y="1692360"/>
            <a:ext cx="86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 MonthType { JAN,  FEB,  MAR,  APR,  MAY, JU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,  AUG,  SEP,  OCT,  NOV,  DEC 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hType  thisMonth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declares 2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hType  lastMonth;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of type Month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Month  =  OCT ;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assigns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Month  =  NOV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to thes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Month = thisMonth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Month = DE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7CB-36D1-4609-AB81-C2423179FA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52280" y="2692440"/>
            <a:ext cx="8777520" cy="138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000" y="261720"/>
            <a:ext cx="784836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torage of </a:t>
            </a: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enum</a:t>
            </a:r>
            <a:r>
              <a:rPr b="1" lang="en-US" sz="40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ype Variab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360" y="2890800"/>
            <a:ext cx="87980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 MonthType { JAN,  FEB,  MAR,  APR,  MAY, JU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,  AUG,  SEP,  OCT,  NOV,  DEC 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2448000" y="2347560"/>
            <a:ext cx="952560" cy="4762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41120" y="1981080"/>
            <a:ext cx="7543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tored as 0       stored as 1      stored as 2     stored as 3  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78240" y="2367000"/>
            <a:ext cx="147600" cy="4762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339880" y="2347920"/>
            <a:ext cx="55800" cy="5126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037200" y="2366640"/>
            <a:ext cx="824040" cy="4762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769080" y="3776760"/>
            <a:ext cx="1062000" cy="8254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80520" y="4587840"/>
            <a:ext cx="174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tored as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Stp001" descr=""/>
          <p:cNvPicPr/>
          <p:nvPr/>
        </p:nvPicPr>
        <p:blipFill>
          <a:blip r:embed="rId1"/>
          <a:stretch/>
        </p:blipFill>
        <p:spPr>
          <a:xfrm>
            <a:off x="0" y="4794120"/>
            <a:ext cx="1479600" cy="20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6A5-0DF2-42A4-A3D7-2E19E22966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79360" y="1474920"/>
            <a:ext cx="8628120" cy="530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5120" y="345600"/>
            <a:ext cx="784872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Use Type Cast to Increment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enum</a:t>
            </a:r>
            <a:r>
              <a:rPr b="1" lang="en-US" sz="40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ype Variab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2880" y="1681200"/>
            <a:ext cx="873144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 MonthType { JAN,  FEB,  MAR,  APR,  MAY, JU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,  AUG,  SEP,  OCT,  NOV,  DEC 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hType  thisMon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hType  lastMonth;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Month  =  OCT ;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Month  =  NOV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Month = thisMonth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Month = thisMonth++ ;              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COMPILE ERRO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Month = MonthType( thisMonth + 1) ;   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uses type 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63720" y="5315040"/>
            <a:ext cx="3314520" cy="5871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001880" y="5297040"/>
            <a:ext cx="3551040" cy="6778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8D0-F927-4F68-AF0C-28CF41F90E2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about</a:t>
            </a:r>
            <a:r>
              <a:rPr b="1" lang="en-US" sz="44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Courier New"/>
              </a:rPr>
              <a:t>enum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Typ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2760" y="1742760"/>
            <a:ext cx="815472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ion type can be used in a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witch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switch expression and the case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tream I/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using the insertion &lt;&lt; and extraction &gt;&gt; operators )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s not defined for enumeration typ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nstead, functions can be written for this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omparis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enum type values is defined using the 6 relational operators ( &lt; ,  &lt;= ,  &gt; ,  &gt;= ,  == ,  !=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um type can be the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return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value-returning function in C++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OME EXAMPLE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7F6-6C9C-47B0-A249-81D7B83689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53880" y="171360"/>
            <a:ext cx="8423280" cy="663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804960" y="298440"/>
            <a:ext cx="7704000" cy="64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Type  thisMonth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 ( thisMonth 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// using enum type switch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JAN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FEB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MAR  :   cout &lt;&lt; “Winter quarter”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APR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MAY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JUN   :   cout &lt;&lt; “Spring quarter”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JUL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AUG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SEP   :   cout &lt;&lt; “Summer quarter”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OCT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NOV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DEC  :   cout &lt;&lt; “Fall quarter”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110-C917-41AD-ACA8-52E1FC9302A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46160" y="1494000"/>
            <a:ext cx="8758080" cy="530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53920" y="51228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ing </a:t>
            </a:r>
            <a:r>
              <a:rPr b="1" lang="en-US" sz="4400" spc="-1" strike="noStrike">
                <a:solidFill>
                  <a:srgbClr val="003366"/>
                </a:solidFill>
                <a:latin typeface="Courier New"/>
              </a:rPr>
              <a:t>enum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type Control Variable with </a:t>
            </a:r>
            <a:r>
              <a:rPr b="1" lang="en-US" sz="4400" spc="-1" strike="noStrike">
                <a:solidFill>
                  <a:srgbClr val="003366"/>
                </a:solidFill>
                <a:latin typeface="Arial Rounded MT Bold"/>
              </a:rPr>
              <a:t>for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oop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8400" y="1669680"/>
            <a:ext cx="8899560" cy="518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  MonthType { JAN,  FEB,  MAR,  APR,  MAY, JU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,  AUG,  SEP,  OCT,  NOV,  DEC 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WriteOutName (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nthType ) 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hType  month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 (month = JAN ;  month &lt;= DEC ;  month = MonthType (month + 1 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requires use of type cast to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OutName ( month ) ;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function call to perform 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02F-5387-4511-934D-C328E06219C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66560" y="19080"/>
            <a:ext cx="8291520" cy="683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10840" y="93240"/>
            <a:ext cx="8334360" cy="665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 WriteOutName (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 in 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MonthType   month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Prints out calendar name corresponding to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// Precondition:        month is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Postcondition:      calendar name for month has been writte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 ( month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JAN   :   cout   &lt;&lt;    “ January ”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FEB   :   cout   &lt;&lt;    “ February ”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MAR  :   cout   &lt;&lt;    “ March ”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APR  :    cout   &lt;&lt;    “ April ”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MAY  :   cout   &lt;&lt;    “ May ”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JUN   :   cout   &lt;&lt;    “ June ” ;             break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JUL   :   cout   &lt;&lt;    “ July ”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AUG  :   cout   &lt;&lt;    “ August ”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SEP   :   cout   &lt;&lt;    “ September ” ;   break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OCT  :   cout   &lt;&lt;    “ October ”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NOV  :   cout   &lt;&lt;    “ November ”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   DEC  :   cout   &lt;&lt;    “ December ” ;     brea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4AD-C4EA-4613-A60B-00BC3A5CD26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++ Simpl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8920" y="2068560"/>
            <a:ext cx="8897760" cy="3880440"/>
            <a:chOff x="88920" y="2068560"/>
            <a:chExt cx="8897760" cy="3880440"/>
          </a:xfrm>
        </p:grpSpPr>
        <p:sp>
          <p:nvSpPr>
            <p:cNvPr id="97" name=""/>
            <p:cNvSpPr/>
            <p:nvPr/>
          </p:nvSpPr>
          <p:spPr>
            <a:xfrm>
              <a:off x="3293280" y="2068560"/>
              <a:ext cx="2032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imple 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417400" y="2519280"/>
              <a:ext cx="146700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75120" y="2481120"/>
              <a:ext cx="1687680" cy="70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7280" y="315900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integ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080" y="315900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fl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920" y="4129200"/>
              <a:ext cx="889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r     short    int    long    bool      enum      float    double    long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25320" y="3548160"/>
              <a:ext cx="5331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923080" y="3537000"/>
              <a:ext cx="32544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11760" y="354816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27040" y="3537000"/>
              <a:ext cx="1179360" cy="6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91280" y="3537000"/>
              <a:ext cx="100656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84280" y="3554280"/>
              <a:ext cx="61920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30440" y="3537000"/>
              <a:ext cx="125892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8960" y="4489560"/>
              <a:ext cx="787320" cy="1008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1520" y="4489560"/>
              <a:ext cx="92160" cy="988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852200" y="4508640"/>
              <a:ext cx="374760" cy="969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073240" y="4470480"/>
              <a:ext cx="852480" cy="1044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5440" y="555156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sign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97400" y="2489400"/>
              <a:ext cx="306360" cy="16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0600" y="3524400"/>
              <a:ext cx="95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976-C03E-4D91-919C-52364113FE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6560" y="1569960"/>
            <a:ext cx="8067960" cy="528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645840" y="1649520"/>
            <a:ext cx="8056440" cy="502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  SchoolType  { PRE_SCHOOL,  ELEM_SCHOOL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MIDDLE_SCHOOL,  HIGH_SCHOOL,  COLLEGE 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Type   GetSchoolData ( void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Obtains information from keyboard to determine schoo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Postcondition:    Function value == personal schoo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Type  schoolLevel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g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stGrade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“Enter age :  “ ;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prompt f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 &gt;&gt; ag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-360" y="662040"/>
            <a:ext cx="930276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tion with </a:t>
            </a:r>
            <a:r>
              <a:rPr b="1" lang="en-US" sz="4400" spc="-1" strike="noStrike">
                <a:solidFill>
                  <a:srgbClr val="003366"/>
                </a:solidFill>
                <a:latin typeface="Courier New"/>
              </a:rPr>
              <a:t>enum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type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turn Value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F9D-E2B1-4EC1-95D3-A624C92BC92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66560" y="185760"/>
            <a:ext cx="8067960" cy="659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02920" y="133200"/>
            <a:ext cx="82090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age  &lt;   6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Level = PRE_SCHOO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Enter last grade completed in school :  “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 &gt;&gt; lastGr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lastGrade  &lt;  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Level  =  ELEM_SCHOO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  ( lastGrade  &lt;  8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Level  =  MIDDLE_SCHOO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  ( lastGrade  &lt; 1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Level  =  HIGH_SCHOO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Level  =  COLLEGE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schoolLevel ;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return enum typ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E55-7182-41A7-90F1-B8D990F8743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ultifile C++ Programs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8640" y="1869840"/>
            <a:ext cx="8105760" cy="43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programs often consist of several different files with extensions such as .h and 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typedef statements, const values, enum type declarations, and similar items are often placed in </a:t>
            </a:r>
            <a:r>
              <a:rPr b="1" lang="en-US" sz="2400" spc="-1" strike="noStrike">
                <a:solidFill>
                  <a:srgbClr val="990066"/>
                </a:solidFill>
                <a:latin typeface="Arial"/>
              </a:rPr>
              <a:t>user-written header f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using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rocessor directive the contents of these header files are inserted into any program file that uses th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Stp002" descr=""/>
          <p:cNvPicPr/>
          <p:nvPr/>
        </p:nvPicPr>
        <p:blipFill>
          <a:blip r:embed="rId1"/>
          <a:stretch/>
        </p:blipFill>
        <p:spPr>
          <a:xfrm>
            <a:off x="7340760" y="5489640"/>
            <a:ext cx="180324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CA1-AB1B-47FD-B79A-02BCF4FF839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serting Header Fil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5960" y="1770120"/>
            <a:ext cx="3484800" cy="457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8400" y="3290760"/>
            <a:ext cx="3373560" cy="285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62400" y="1768320"/>
            <a:ext cx="3375000" cy="101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3432240" y="2185560"/>
            <a:ext cx="1690560" cy="19080"/>
          </a:xfrm>
          <a:prstGeom prst="line">
            <a:avLst/>
          </a:prstGeom>
          <a:ln w="7632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325680" y="2801520"/>
            <a:ext cx="1818000" cy="1392120"/>
          </a:xfrm>
          <a:prstGeom prst="line">
            <a:avLst/>
          </a:prstGeom>
          <a:ln w="7632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8520" y="1414440"/>
            <a:ext cx="870120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   &lt;iostream&gt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// io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  “school.h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main (  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enum  School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PRE_SCHO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_SCHOOL,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MIDDLE_SCHO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HIGH_SCHOOL,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COLLEGE  } ;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8E9-EE3B-4F53-A8E2-B96E5AA9348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0400" y="46188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mplicit type coercion occurs . . .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0360" y="1781280"/>
            <a:ext cx="7985160" cy="48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values of different data types are used i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arithmetic and relational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ssignment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parameter pa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returning a function value with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rom a value-returning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66"/>
                </a:solidFill>
                <a:latin typeface="Arial"/>
              </a:rPr>
              <a:t>TWO RULES APPLY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356-3BFD-4F78-8F15-42ADF8BF1B8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7480" y="155520"/>
            <a:ext cx="8737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motion (or widening) in C++. . .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52360" y="1295280"/>
            <a:ext cx="867888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conversion of a value from a “lower” type to a “higher” type--specifically, for mixed type ex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tep 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ach char, short, bool, or enumeration value is promoted to int.  If both operands are now int, the result is an int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tep 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f Step 1 leaves a mixed-type expression, the following precedence of types is used (from lowest to highes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t,  unsigned int,  long,  unsigned long,  float,  double,  long 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lue of the operand of “lower” type is promoted to that of the “higher” type.   For an arithmetic expression, the result is an 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at higher type.  For a relational expression, the result is always bool (true or fal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727-B765-492F-8F3F-F3181DAC939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36600" y="4470480"/>
            <a:ext cx="7988400" cy="174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054760" y="3235320"/>
            <a:ext cx="3101760" cy="571680"/>
            <a:chOff x="5054760" y="3235320"/>
            <a:chExt cx="3101760" cy="571680"/>
          </a:xfrm>
        </p:grpSpPr>
        <p:sp>
          <p:nvSpPr>
            <p:cNvPr id="480" name=""/>
            <p:cNvSpPr/>
            <p:nvPr/>
          </p:nvSpPr>
          <p:spPr>
            <a:xfrm>
              <a:off x="7253280" y="3235320"/>
              <a:ext cx="903240" cy="571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4760" y="3235320"/>
              <a:ext cx="1214280" cy="571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65040" y="1496520"/>
            <a:ext cx="8382240" cy="530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conversion of a value from a “higher” type to a “lower” type, and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y cause loss of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98.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emperature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temperature  =  98.6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numbe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 =  temperature ;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demotion occ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177480" y="155520"/>
            <a:ext cx="8737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motion (or narrowing) . . .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F50-0F7D-454E-B539-EFCFC35D536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Stp021" descr=""/>
          <p:cNvPicPr/>
          <p:nvPr/>
        </p:nvPicPr>
        <p:blipFill>
          <a:blip r:embed="rId1"/>
          <a:stretch/>
        </p:blipFill>
        <p:spPr>
          <a:xfrm>
            <a:off x="0" y="3754440"/>
            <a:ext cx="3398760" cy="310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6CB-D839-4023-99DC-D8161E64B39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By definition,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999800"/>
            <a:ext cx="7685280" cy="44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a C++ char value is always 1 by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xactly one byte of memory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s of other data type values in C++ are machine-depend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59080" y="2832120"/>
            <a:ext cx="1673280" cy="1068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93600" y="3035160"/>
            <a:ext cx="834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E28-4F0E-40C8-B805-DD745902D5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ing one byte ( = 8 bits ),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3390480"/>
            <a:ext cx="82342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W MANY DIFFERENT NUMBERS CAN B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PRESENTED USING 0’s and 1’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it can hold either a 0 or a 1.  So there are just two choices for each bit, and there are 8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= 2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5840" y="229248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71640" y="2292480"/>
            <a:ext cx="6743520" cy="677880"/>
            <a:chOff x="971640" y="2292480"/>
            <a:chExt cx="6743520" cy="677880"/>
          </a:xfrm>
        </p:grpSpPr>
        <p:grpSp>
          <p:nvGrpSpPr>
            <p:cNvPr id="125" name=""/>
            <p:cNvGrpSpPr/>
            <p:nvPr/>
          </p:nvGrpSpPr>
          <p:grpSpPr>
            <a:xfrm>
              <a:off x="971640" y="2292480"/>
              <a:ext cx="6743520" cy="671400"/>
              <a:chOff x="971640" y="2292480"/>
              <a:chExt cx="6743520" cy="671400"/>
            </a:xfrm>
          </p:grpSpPr>
          <p:sp>
            <p:nvSpPr>
              <p:cNvPr id="126" name=""/>
              <p:cNvSpPr/>
              <p:nvPr/>
            </p:nvSpPr>
            <p:spPr>
              <a:xfrm>
                <a:off x="971640" y="2298600"/>
                <a:ext cx="6743520" cy="6652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12880" y="2292480"/>
                <a:ext cx="0" cy="66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03520" y="2317680"/>
                <a:ext cx="0" cy="6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3520" y="2303640"/>
                <a:ext cx="0" cy="64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49880" y="2309760"/>
                <a:ext cx="0" cy="6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78600" y="2316240"/>
                <a:ext cx="0" cy="64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933960" y="2297160"/>
                <a:ext cx="6120" cy="65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370400" y="2311560"/>
              <a:ext cx="0" cy="65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147680" y="2413080"/>
            <a:ext cx="640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     1         1        0        0        0        1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FE0-6FAB-4C04-934B-648AD2C4A5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4760" y="1074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imilarly,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ing two bytes ( = 16 bits),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3320" y="3227400"/>
            <a:ext cx="8789760" cy="30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=   65,536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NUMBERS CAN BE REPRESENTED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we wish to have only one number representing the integer zero, and half of the remaining numbers positive, and half negative, we can obtain the 65,536 numbers in the range below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2,768 . . . . 0 . . . . 32,7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8680" y="2274840"/>
            <a:ext cx="9039240" cy="460440"/>
            <a:chOff x="58680" y="2274840"/>
            <a:chExt cx="9039240" cy="460440"/>
          </a:xfrm>
        </p:grpSpPr>
        <p:grpSp>
          <p:nvGrpSpPr>
            <p:cNvPr id="138" name=""/>
            <p:cNvGrpSpPr/>
            <p:nvPr/>
          </p:nvGrpSpPr>
          <p:grpSpPr>
            <a:xfrm>
              <a:off x="4584600" y="2274840"/>
              <a:ext cx="4513320" cy="455760"/>
              <a:chOff x="4584600" y="2274840"/>
              <a:chExt cx="4513320" cy="45576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4584600" y="2274840"/>
                <a:ext cx="4513320" cy="455760"/>
                <a:chOff x="4584600" y="2274840"/>
                <a:chExt cx="4513320" cy="45576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4584600" y="2274840"/>
                  <a:ext cx="4513320" cy="449280"/>
                  <a:chOff x="4584600" y="2274840"/>
                  <a:chExt cx="4513320" cy="449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4584600" y="2282760"/>
                    <a:ext cx="4513320" cy="441360"/>
                  </a:xfrm>
                  <a:prstGeom prst="rect">
                    <a:avLst/>
                  </a:prstGeom>
                  <a:solidFill>
                    <a:srgbClr val="ff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681520" y="2274840"/>
                    <a:ext cx="0" cy="442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072040" y="2293920"/>
                    <a:ext cx="0" cy="428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278400" y="2284560"/>
                    <a:ext cx="0" cy="428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448400" y="2286000"/>
                    <a:ext cx="0" cy="43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8004240" y="2290680"/>
                    <a:ext cx="0" cy="43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8577000" y="2279520"/>
                    <a:ext cx="3240" cy="439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6859440" y="2289240"/>
                  <a:ext cx="0" cy="44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4719240" y="2313000"/>
                <a:ext cx="42728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11120"/>
                    <a:tab algn="l" pos="822240"/>
                    <a:tab algn="l" pos="1233360"/>
                    <a:tab algn="l" pos="1644480"/>
                    <a:tab algn="l" pos="2055960"/>
                    <a:tab algn="l" pos="2467080"/>
                    <a:tab algn="l" pos="2878200"/>
                    <a:tab algn="l" pos="3289320"/>
                    <a:tab algn="l" pos="3700440"/>
                    <a:tab algn="l" pos="4111560"/>
                    <a:tab algn="l" pos="4522680"/>
                    <a:tab algn="l" pos="4933800"/>
                    <a:tab algn="l" pos="5345280"/>
                    <a:tab algn="l" pos="5756400"/>
                    <a:tab algn="l" pos="6167520"/>
                    <a:tab algn="l" pos="6578640"/>
                    <a:tab algn="l" pos="6989760"/>
                    <a:tab algn="l" pos="7400880"/>
                    <a:tab algn="l" pos="7812000"/>
                    <a:tab algn="l" pos="8223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      1      0      0       1      0      1     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8680" y="2279520"/>
              <a:ext cx="4513320" cy="455760"/>
              <a:chOff x="58680" y="2279520"/>
              <a:chExt cx="4513320" cy="4557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58680" y="2279520"/>
                <a:ext cx="4513320" cy="455760"/>
                <a:chOff x="58680" y="2279520"/>
                <a:chExt cx="4513320" cy="45576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58680" y="2279520"/>
                  <a:ext cx="4513320" cy="449280"/>
                  <a:chOff x="58680" y="2279520"/>
                  <a:chExt cx="4513320" cy="4492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58680" y="2287440"/>
                    <a:ext cx="4513320" cy="441360"/>
                  </a:xfrm>
                  <a:prstGeom prst="rect">
                    <a:avLst/>
                  </a:prstGeom>
                  <a:solidFill>
                    <a:srgbClr val="ff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155600" y="2279520"/>
                    <a:ext cx="0" cy="44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46120" y="2298600"/>
                    <a:ext cx="0" cy="428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752480" y="2289240"/>
                    <a:ext cx="0" cy="428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922480" y="2290680"/>
                    <a:ext cx="0" cy="43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478320" y="2295360"/>
                    <a:ext cx="0" cy="43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>
                    <a:off x="4051440" y="2284560"/>
                    <a:ext cx="2880" cy="43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>
                  <a:off x="2333520" y="2293920"/>
                  <a:ext cx="0" cy="44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193320" y="2317680"/>
                <a:ext cx="42728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11120"/>
                    <a:tab algn="l" pos="822240"/>
                    <a:tab algn="l" pos="1233360"/>
                    <a:tab algn="l" pos="1644480"/>
                    <a:tab algn="l" pos="2055960"/>
                    <a:tab algn="l" pos="2467080"/>
                    <a:tab algn="l" pos="2878200"/>
                    <a:tab algn="l" pos="3289320"/>
                    <a:tab algn="l" pos="3700440"/>
                    <a:tab algn="l" pos="4111560"/>
                    <a:tab algn="l" pos="4522680"/>
                    <a:tab algn="l" pos="4933800"/>
                    <a:tab algn="l" pos="5345280"/>
                    <a:tab algn="l" pos="5756400"/>
                    <a:tab algn="l" pos="6167520"/>
                    <a:tab algn="l" pos="6578640"/>
                    <a:tab algn="l" pos="6989760"/>
                    <a:tab algn="l" pos="7400880"/>
                    <a:tab algn="l" pos="7812000"/>
                    <a:tab algn="l" pos="8223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     1       1       0      0      0      1     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3A8-456B-475A-8C6B-88BDAF5559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me Integral Types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63520" y="1925640"/>
            <a:ext cx="8642520" cy="4054320"/>
            <a:chOff x="263520" y="1925640"/>
            <a:chExt cx="8642520" cy="4054320"/>
          </a:xfrm>
        </p:grpSpPr>
        <p:grpSp>
          <p:nvGrpSpPr>
            <p:cNvPr id="164" name=""/>
            <p:cNvGrpSpPr/>
            <p:nvPr/>
          </p:nvGrpSpPr>
          <p:grpSpPr>
            <a:xfrm>
              <a:off x="263520" y="1925640"/>
              <a:ext cx="8642520" cy="4054320"/>
              <a:chOff x="263520" y="1925640"/>
              <a:chExt cx="8642520" cy="4054320"/>
            </a:xfrm>
          </p:grpSpPr>
          <p:sp>
            <p:nvSpPr>
              <p:cNvPr id="165" name=""/>
              <p:cNvSpPr/>
              <p:nvPr/>
            </p:nvSpPr>
            <p:spPr>
              <a:xfrm>
                <a:off x="287280" y="1925640"/>
                <a:ext cx="8539200" cy="40543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520" y="2069640"/>
                <a:ext cx="8642520" cy="38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Type  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    Size in Bytes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990066"/>
                    </a:solidFill>
                    <a:latin typeface="Arial"/>
                  </a:rPr>
                  <a:t>Minimum Value           Maximum Val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128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2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32,768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2,76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32,768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2,76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2,147,483,648        2,147,483,64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66"/>
                    </a:solidFill>
                    <a:latin typeface="Arial"/>
                  </a:rPr>
                  <a:t>NOTE:  Values given for one machine.  Actual sizes are machine-dependent</a:t>
                </a:r>
                <a:r>
                  <a:rPr b="1" lang="en-US" sz="1800" spc="-1" strike="noStrike">
                    <a:solidFill>
                      <a:srgbClr val="cc66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9880" y="5441760"/>
                <a:ext cx="853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287280" y="2523960"/>
              <a:ext cx="855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BBC-8231-40A9-854C-10C458D0CF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2:40Z</dcterms:created>
  <dc:creator>Sylvia Sorkin</dc:creator>
  <dc:description/>
  <dc:language>en-US</dc:language>
  <cp:lastModifiedBy>Victor R. Volkman</cp:lastModifiedBy>
  <dcterms:modified xsi:type="dcterms:W3CDTF">2001-03-12T00:02:24Z</dcterms:modified>
  <cp:revision>469</cp:revision>
  <dc:subject>C++ simple data types, char, enum, promotion, demotion</dc:subject>
  <dc:title>Programming and Problem Solving with C++, 2/e</dc:title>
</cp:coreProperties>
</file>