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D91-4590-4A2D-ABA1-951BE603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659-17FF-4E0F-9673-A0BE4A6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8D0-E44F-45DC-9DB1-FFBCAEC1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6C6-CCAE-4DDD-81A1-CCEE9DF0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838-7046-47A8-ADDE-F701B824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711-2CEB-4508-848C-EA7EF55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C74-EC1F-4D6F-A95E-5D7F4C85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01F2-D29E-4B39-9958-FDAF58A2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E9D-2C28-409C-93FC-B2ECD71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377-E8AB-4370-BF7E-59610127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F62-FFC1-40F2-8337-F365F56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506-FE9C-4DC3-BD6F-28C3E94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AB1-7D8B-420E-9AD8-24DF7AE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639-8F69-4FCB-B0EA-B899BACA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285-E97A-44E8-8EB4-79CC31E2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EFBD-F6D6-47C5-9B75-F0DD9B6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E93-C85A-4992-B929-78327C7D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AA5-9350-44F0-A8F4-6D36670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393-32D7-4DCE-B97B-4165B81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96F-3012-45C8-8629-F2D501C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B4B-1E09-4CFD-B1E1-A418DFF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6D8-1709-47E8-B100-B7185D9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464-CCE0-4F59-BCCB-8D68FC6E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2E0-A3B3-4BF9-ACDC-0708E53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00C-FCB2-4368-8499-FE20022B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F8A-7033-4CDA-B7A1-5C3EBAEF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66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6600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PS171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9/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B97-90F8-469F-BC39-9F8C1820A5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11480" y="2597040"/>
            <a:ext cx="1587600" cy="36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11480" y="2063880"/>
            <a:ext cx="1949400" cy="259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anotherAnimal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06800" y="1627200"/>
            <a:ext cx="82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0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05000" y="2590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88960" y="2133720"/>
            <a:ext cx="51595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id                    5281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name            “ll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genus           “L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pecies        “peruan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country        “Peru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age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weight            27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health            Excel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500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05000" y="5715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05000" y="2590920"/>
            <a:ext cx="1967040" cy="2057400"/>
            <a:chOff x="3105000" y="2590920"/>
            <a:chExt cx="1967040" cy="2057400"/>
          </a:xfrm>
        </p:grpSpPr>
        <p:sp>
          <p:nvSpPr>
            <p:cNvPr id="157" name=""/>
            <p:cNvSpPr/>
            <p:nvPr/>
          </p:nvSpPr>
          <p:spPr>
            <a:xfrm>
              <a:off x="3105000" y="304812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05000" y="358128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5000" y="411480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5000" y="464832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27720" y="2590920"/>
              <a:ext cx="144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DAA-DA0F-4CF1-8154-9CF8AFC2D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9520" y="1512720"/>
            <a:ext cx="8720280" cy="50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150480"/>
            <a:ext cx="791856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  AnimalTy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2520"/>
            <a:ext cx="8109000" cy="527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  HealthType  { Poor,  Fair,  Good,  Excellent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 AnimalType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declares a  struct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does not allocat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             id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         nam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         genu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         species ;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truct memb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         country ;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    age 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           weight 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Type  health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Type    thisAnimal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// declare  variables of Animal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Type    anotherAnimal ;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75240" y="3036960"/>
            <a:ext cx="2087280" cy="1152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730680" y="4154400"/>
            <a:ext cx="2050920" cy="1154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767-486E-4978-B363-5E7149BAE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 Declara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3120" y="2190600"/>
            <a:ext cx="7110360" cy="172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5720" y="4773600"/>
            <a:ext cx="7118280" cy="181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64800" y="1600200"/>
            <a:ext cx="7488360" cy="49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 Type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// does not  allocat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List  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Type   MemberNam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Type   MemberNam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601-E83C-4B87-AF93-7FC3D8211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 Declara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7883280" cy="45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ruct declaration names a type and names the members of the str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oes not allocate memo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ny variables  of that typ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till need to declare your struct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6B5-E66D-4E13-AA34-E3C0A831A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83920" y="612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ore about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 declaration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2320" y="1704600"/>
            <a:ext cx="78012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truct type declaration precedes all functions it will be visible throughout the rest of the file.  If it is placed within a function, only that function can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to place struct type declarations with TypeNames in a (.h) header file and #include tha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ossible for members of different struct types to have the same identifiers.  Also a non-struct variable may have the same identifier as a structure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05A-E437-4CA6-BBEE-1424D6083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ccessing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Member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 ( period ) is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ber selection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struct type declaration, the various members can be used in your program only when they are preceded by a struct variable name and a do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Animal.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A24-9A69-4CD9-9FD7-2BF117CA4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5400" y="1568520"/>
            <a:ext cx="8907480" cy="47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0960" y="2458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Valid operations on a struct member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pend only on its type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8440" y="1785600"/>
            <a:ext cx="85410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age  =  1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id     =  203758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thisAnimal.we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 cin, thisAnimal.specie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name = “giant pand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genus[ 0 ] = toupper (thisAnimal.genus[ 0 ]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.age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4B7-8C12-4C4B-8AE0-077C57AF3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9500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gregate Operation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28520" y="1827000"/>
            <a:ext cx="6919560" cy="32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n operation on a data structure as a whole, as opposed to an operation on an individual component of the dat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1EE-D98B-4CD6-B2AB-E88F518A2E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gregate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peration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2760" y="1854360"/>
            <a:ext cx="85597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, arithmetic, and comparisons of entire struct variables are NOT ALLOW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valid on an entire struct type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to another struct variable of same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to a function as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y value or by refere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s value of a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2FF-F491-4BE8-A6B4-A6E8842E04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5400" y="1568520"/>
            <a:ext cx="8907480" cy="41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88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Examples of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gregate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operation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2034720"/>
            <a:ext cx="873432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Animal   =   thisAnimal 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Out(thisAnimal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valu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WeightAndAge(thisAnimal);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reference par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Animal = GetAnimalData( );   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return value of fun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 WE’LL WRITE  THE  3  FUNCTIONS  USED  HERE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925-0A2A-4497-93AD-337799D23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enda - Monday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chapter 10 “Misc”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- structs an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EBF-B931-464A-B7B5-8C0312F35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5400" y="353880"/>
            <a:ext cx="8907480" cy="61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95200" y="442800"/>
            <a:ext cx="8669520" cy="628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 WriteOut(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/*  in 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imalType   thisAni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Prints out values of all members of this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Precondition:      all members of thisAnimal are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Postcondition:      all members have been writte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“ID # “  &lt;&lt;  thisAnimal.id  &lt;&lt;  thisAnimal.name 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thisAnimal.genus   &lt;&lt;  thisAnimal.species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thisAnimal.country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thisAnimal.age   &lt;&lt; “ years “ 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thisAnimal.weight &lt;&lt; “ lbs. “ 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“General health : “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Word ( thisAnimal.health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A49-EEAE-40BD-9270-9BF153F4C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9520" y="2178000"/>
            <a:ext cx="8720280" cy="362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6360" y="2474640"/>
            <a:ext cx="8077320" cy="32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ChangeAge (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nimalType&amp;   thisAnima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Adds 1 to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Precondition:      thisAnimal.age is assigned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Postcondition:    thisAnimal.age == thisAnimal.age@entry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Animal.age++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75680" y="19008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assing a 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struct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Type by Reference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C8C-DCD6-4142-B6A0-9745C7984A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9520" y="262080"/>
            <a:ext cx="8702640" cy="640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47320" y="428400"/>
            <a:ext cx="8759880" cy="62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Type   GetAnimalData ( void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Obtains all information about an animal from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Postcon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  Function value == AnimalType members entered at  k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Type  thisAnimal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              response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have user enter all members until they ar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while (response != ‘Y’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thisAnima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E65-3C53-4E24-8645-9583E78541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Hierarchical Structure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0080" y="1762200"/>
            <a:ext cx="731520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ype of a struct member can be another struct type.  This is called nested or hierarchical struct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chical structures are very useful when there is much detailed information in each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EXAMPL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E02-4BB1-4F25-81E5-A1B32B90F4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struct MachineRec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99840" y="1816200"/>
            <a:ext cx="79009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bout each machine in a shop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Numb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ritten descrip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chase d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a history (including failure rate, number of days down, and date of last serv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D1D-E531-48EA-862F-08B7A7349F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9520" y="38160"/>
            <a:ext cx="8702640" cy="659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60" y="122040"/>
            <a:ext cx="8172360" cy="654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  Dat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   month ;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//  Assume 1 . 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   day 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//  Assume  1 . .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   year 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//  Assume 1900 . . 2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  Statistics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Rat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erviced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//  DateType is a stru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Day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 Machin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idNumbe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descriptio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Type   history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//  StatisticsType is a stru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urchaseDat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cos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Rec      machin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BEF-5517-49A2-861A-D52F370F28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ruct type variable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machin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7480" y="1994040"/>
            <a:ext cx="82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7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2760" y="3078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36115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221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754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528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2620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538360"/>
            <a:ext cx="8942400" cy="1488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13680" y="4479840"/>
            <a:ext cx="88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idNumber  .description  . history                                         .purchaseDate      .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83720" y="3510000"/>
            <a:ext cx="19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month .day  .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3840" y="278748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391440" y="2770200"/>
            <a:ext cx="1635120" cy="457200"/>
            <a:chOff x="6391440" y="2770200"/>
            <a:chExt cx="1635120" cy="457200"/>
          </a:xfrm>
        </p:grpSpPr>
        <p:sp>
          <p:nvSpPr>
            <p:cNvPr id="214" name=""/>
            <p:cNvSpPr/>
            <p:nvPr/>
          </p:nvSpPr>
          <p:spPr>
            <a:xfrm>
              <a:off x="6391440" y="2776680"/>
              <a:ext cx="163512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2960" y="278748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61240" y="277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01240" y="2843280"/>
            <a:ext cx="883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19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DRILLING…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3    21  1995   80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6440" y="2703600"/>
            <a:ext cx="3430440" cy="811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40240" y="2676600"/>
            <a:ext cx="0" cy="84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4560" y="27162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4880" y="3557520"/>
            <a:ext cx="400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failrate    .lastServiced    .down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576600" y="2811600"/>
            <a:ext cx="1635120" cy="457200"/>
            <a:chOff x="3576600" y="2811600"/>
            <a:chExt cx="1635120" cy="457200"/>
          </a:xfrm>
        </p:grpSpPr>
        <p:sp>
          <p:nvSpPr>
            <p:cNvPr id="223" name=""/>
            <p:cNvSpPr/>
            <p:nvPr/>
          </p:nvSpPr>
          <p:spPr>
            <a:xfrm>
              <a:off x="3576600" y="2817720"/>
              <a:ext cx="163512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8480" y="282888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6400" y="2811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754000" y="2898720"/>
            <a:ext cx="30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02      1     25  1999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07040" y="3222720"/>
            <a:ext cx="19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month .day  .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7000" y="2532240"/>
            <a:ext cx="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42120" y="2532240"/>
            <a:ext cx="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5520" y="2513160"/>
            <a:ext cx="0" cy="15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6520" y="2532240"/>
            <a:ext cx="0" cy="14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38840" y="3191040"/>
            <a:ext cx="237960" cy="2692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" y="5911920"/>
            <a:ext cx="743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chine.history.lastServiced.yea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valu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5E5-B7A7-4383-B28F-FB0014DD39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8200" y="3881520"/>
            <a:ext cx="7451640" cy="278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nions in C++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90040" y="1641600"/>
            <a:ext cx="812196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on is a struct that holds only one of its members at a time during program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  Weight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   wtInOunces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wtInPounds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nly one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wtInT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;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6280" y="5072040"/>
            <a:ext cx="1368360" cy="503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929040" y="5584680"/>
            <a:ext cx="1443240" cy="516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C24-1A5A-4F0C-9C2A-9DBFA22831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38040" y="1569960"/>
            <a:ext cx="8440920" cy="489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sing  Union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6440" y="1332000"/>
            <a:ext cx="808524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   Weight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declares a un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   wtInOunces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wtInPound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 wtInT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Type   weigh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declares a un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.wtInTons = 4.83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Weight in tons is no longer needed. Reuse the memory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.wtInPounds = 3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926-6A9B-4522-9A52-ADB07E5508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bstraction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6480" y="1757160"/>
            <a:ext cx="78552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pa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essential qualities of an object from the details of how it works or is compo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es o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at, not 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necessary for managing large, complex software pro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D2E-3E6E-41BF-B9A7-0CB82D2737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enda - Wednesday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M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M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#4 - Us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es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298-0956-48D8-A4EC-46FA5EC89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2819520"/>
            <a:ext cx="662940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ntrol Abstraction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9280" y="1797120"/>
            <a:ext cx="686268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the logical properties of an action from its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(list, item, length, where, foun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ction call depends on the function’s specification (description), not its implementation (algorith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FF1-528E-4DE8-B055-DCBC913F2F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Data Abstraction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7160" y="1611360"/>
            <a:ext cx="678348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the logical properties of a data type from its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7360" y="3511440"/>
            <a:ext cx="8521560" cy="2730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080" y="3747960"/>
            <a:ext cx="794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OGICAL PROPERTIES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3505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120" y="4525920"/>
            <a:ext cx="8022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possible value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can this be done in C++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operations will be needed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can data types be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01E-9D1E-403C-972B-CFC38FF741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Data Type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1400" y="2394000"/>
            <a:ext cx="20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et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90160" y="2428920"/>
            <a:ext cx="320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llowabl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n thos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465280" y="1176480"/>
            <a:ext cx="1338480" cy="1153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157400"/>
            <a:ext cx="1282680" cy="12459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6520" y="3713040"/>
            <a:ext cx="522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 data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9760" y="4573440"/>
            <a:ext cx="2576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2768 . . .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3440" y="4554360"/>
            <a:ext cx="3260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,  -,  *,  /,  %,  &gt;&gt;,  &lt;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360" y="3575160"/>
            <a:ext cx="809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091-E143-42FE-BB2F-C45F021197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bstract Data Type (ADT)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7040" y="2197080"/>
            <a:ext cx="7535880" cy="26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ata type whose properties (domain and operations) are specified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ndependently of any particular implementa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R  EXAMPL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0EB-232E-4DB0-B2E6-3B2685EBB5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356680" cy="122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DT Specification Example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5080" y="1599840"/>
            <a:ext cx="7669440" cy="494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eType value is a time in hours, minutes, and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ment by one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2 times fo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if one time is “less than”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1D4-7264-45B2-95BC-E3239B6699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356680" cy="122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other ADT Specification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8440" y="1617840"/>
            <a:ext cx="741852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Numb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is an ordered pair of real numbers (a, b) representing  a + b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the complex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mplex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absolute value of a complex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050-09D7-48E6-ACAC-4669AAB316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" y="380880"/>
            <a:ext cx="895356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DT Implementation means 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2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ing a specific data representation for the abstract data using data types that already exist (built-in or programmer-defi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functions for each allowable  ope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8B7-5AEB-4FDA-892F-8908B8D218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835280" y="4597560"/>
            <a:ext cx="2501640" cy="409320"/>
            <a:chOff x="1835280" y="4597560"/>
            <a:chExt cx="2501640" cy="409320"/>
          </a:xfrm>
        </p:grpSpPr>
        <p:sp>
          <p:nvSpPr>
            <p:cNvPr id="271" name=""/>
            <p:cNvSpPr/>
            <p:nvPr/>
          </p:nvSpPr>
          <p:spPr>
            <a:xfrm>
              <a:off x="1835280" y="4597560"/>
              <a:ext cx="2501640" cy="409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67040" y="4602240"/>
              <a:ext cx="2157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       45        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501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everal Possible Representations of 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TimeType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i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element int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choice of representation depends on time, space, and algorithms needed to implement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2440" y="2363760"/>
            <a:ext cx="774720" cy="409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4680" y="2387520"/>
            <a:ext cx="774720" cy="409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72160" y="2374920"/>
            <a:ext cx="774720" cy="409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71000" y="2392200"/>
            <a:ext cx="3418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              45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92440" y="3506760"/>
            <a:ext cx="4297320" cy="433440"/>
            <a:chOff x="1792440" y="3506760"/>
            <a:chExt cx="4297320" cy="433440"/>
          </a:xfrm>
        </p:grpSpPr>
        <p:grpSp>
          <p:nvGrpSpPr>
            <p:cNvPr id="282" name=""/>
            <p:cNvGrpSpPr/>
            <p:nvPr/>
          </p:nvGrpSpPr>
          <p:grpSpPr>
            <a:xfrm>
              <a:off x="1792440" y="3506760"/>
              <a:ext cx="4297320" cy="433440"/>
              <a:chOff x="1792440" y="3506760"/>
              <a:chExt cx="4297320" cy="433440"/>
            </a:xfrm>
          </p:grpSpPr>
          <p:sp>
            <p:nvSpPr>
              <p:cNvPr id="283" name=""/>
              <p:cNvSpPr/>
              <p:nvPr/>
            </p:nvSpPr>
            <p:spPr>
              <a:xfrm>
                <a:off x="1792440" y="3506760"/>
                <a:ext cx="887400" cy="4096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54560" y="3530520"/>
                <a:ext cx="887400" cy="4096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02360" y="3517920"/>
                <a:ext cx="887400" cy="4096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892160" y="3535200"/>
              <a:ext cx="4116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”                “45”                 “27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F65-7E94-4322-BF16-31663A4EB2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4366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ome Possible Representations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of 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ComplexNumberType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49240" y="1933560"/>
            <a:ext cx="571788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with 2 floa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element float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76440" y="4919760"/>
            <a:ext cx="2463840" cy="682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76240" y="5029200"/>
            <a:ext cx="198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6.2        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876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76440" y="2556000"/>
            <a:ext cx="2463840" cy="6699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1480" y="251460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5760" y="2666880"/>
            <a:ext cx="2071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6.2        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real          .im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6A3-3AF6-40CD-B512-0004E1E60B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638680" y="2286000"/>
            <a:ext cx="3429000" cy="228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5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++ 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382840" y="1523880"/>
            <a:ext cx="1046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57840" y="1447920"/>
            <a:ext cx="122076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34040" y="1467000"/>
            <a:ext cx="130356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89880" y="23842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64960" y="3421080"/>
            <a:ext cx="347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  struct   union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332040" y="2800440"/>
            <a:ext cx="2362680" cy="704880"/>
            <a:chOff x="6332040" y="2800440"/>
            <a:chExt cx="2362680" cy="704880"/>
          </a:xfrm>
        </p:grpSpPr>
        <p:sp>
          <p:nvSpPr>
            <p:cNvPr id="303" name=""/>
            <p:cNvSpPr/>
            <p:nvPr/>
          </p:nvSpPr>
          <p:spPr>
            <a:xfrm>
              <a:off x="800892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0320" y="2800440"/>
              <a:ext cx="1522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113240" y="2800440"/>
              <a:ext cx="3621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33204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15400" y="5051520"/>
            <a:ext cx="2475720" cy="1281240"/>
            <a:chOff x="5315400" y="5051520"/>
            <a:chExt cx="2475720" cy="1281240"/>
          </a:xfrm>
        </p:grpSpPr>
        <p:sp>
          <p:nvSpPr>
            <p:cNvPr id="308" name=""/>
            <p:cNvSpPr/>
            <p:nvPr/>
          </p:nvSpPr>
          <p:spPr>
            <a:xfrm>
              <a:off x="5700960" y="5051520"/>
              <a:ext cx="143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640480" y="5448240"/>
              <a:ext cx="4572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0840" y="5448240"/>
              <a:ext cx="5335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15400" y="5935320"/>
              <a:ext cx="247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inter   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737360" y="23842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220400" y="278136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2360" y="2781360"/>
            <a:ext cx="1447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3421080"/>
            <a:ext cx="26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egral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2160" y="4335480"/>
            <a:ext cx="337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rt   int  long  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11280" y="377208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68120" y="377208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3040" y="377208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1640" y="377208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402280" y="3421080"/>
            <a:ext cx="3347280" cy="2169360"/>
            <a:chOff x="2402280" y="3421080"/>
            <a:chExt cx="3347280" cy="2169360"/>
          </a:xfrm>
        </p:grpSpPr>
        <p:sp>
          <p:nvSpPr>
            <p:cNvPr id="322" name=""/>
            <p:cNvSpPr/>
            <p:nvPr/>
          </p:nvSpPr>
          <p:spPr>
            <a:xfrm>
              <a:off x="3793320" y="342108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2280" y="5193000"/>
              <a:ext cx="33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  double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96920" y="3772080"/>
              <a:ext cx="15235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3440" y="3772080"/>
              <a:ext cx="1519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582360" y="3772080"/>
              <a:ext cx="91404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754280" y="377208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66920" y="2781360"/>
            <a:ext cx="49536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A6A-085C-4D07-B75D-AAFCC3841B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d Typ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bstraction and Classes</a:t>
            </a:r>
            <a:r>
              <a:rPr b="0" lang="en-US" sz="3200" spc="-1" strike="noStrike">
                <a:solidFill>
                  <a:srgbClr val="660033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117-E82C-4112-967B-9C1E701A56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13420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class TimeType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Specifica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347840"/>
            <a:ext cx="838188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SPECIFICATION 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timetype.h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 TimeType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declares a  class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does not allocat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5 public funct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       Set (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hours ,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ins , int  secs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Increment (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Write ( )  cons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        Equal ( TimeType   otherTime )  const 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        LessThan (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otherTime )  cons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3 private data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hrs 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mins 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sec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C02-B850-474A-8296-14B03E83E0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se of C++ data Type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clas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3800" y="1953720"/>
            <a:ext cx="7740720" cy="38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-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C++ code for an A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that uses the class is called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of the class type are calle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ass o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ass in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code uses public member functions to handle its class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7D-195D-4191-BE60-150F3D9768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1523880"/>
            <a:ext cx="861048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150480"/>
            <a:ext cx="791856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ent Code Using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imeTy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 “timetype.h”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includes specification of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 currentTime 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declares 2 objects of Time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 endTim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           done  =  fals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Time.Set ( 5, 30, 0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Time.Set ( 18, 30, 0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 ( ! done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.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Time.Increment (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currentTime.Equal ( endTime 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e  =  tru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718-465E-47C8-A033-5A7DB99884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clas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 Declara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7545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declaration creates a data type and names the members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es not allocate memo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variables  of that typ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code still needs to declare clas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89B-3F49-46BE-AF5C-5858A6CE7D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080" y="690120"/>
            <a:ext cx="8953560" cy="104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++ Data Type </a:t>
            </a:r>
            <a:r>
              <a:rPr b="1" lang="en-US" sz="4000" spc="-1" strike="noStrike">
                <a:solidFill>
                  <a:srgbClr val="660066"/>
                </a:solidFill>
                <a:latin typeface="Arial Rounded MT Bold"/>
              </a:rPr>
              <a:t>class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presents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 ADT 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32880" y="1897200"/>
            <a:ext cx="797724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kinds of class member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ta memb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unction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members are private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members are generall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members are generally decl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class members can be accessed only by the class member functions (and friend functions), not by clien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B3B-90A4-4D4F-963C-A7C784BB6F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gregate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clas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Operation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50800" y="1854360"/>
            <a:ext cx="81360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uilt-in operations valid on class objec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selection using dot ( . ) operator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to another class variable using ( =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to a function as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y value or by refere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s value of a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ther operations can be defined as class member functions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605-2C27-49B6-8DF1-1B90B972F5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477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2 separate files Generally Used for</a:t>
            </a:r>
            <a:r>
              <a:rPr b="1" lang="en-US" sz="4400" spc="-1" strike="noStrike">
                <a:solidFill>
                  <a:srgbClr val="660066"/>
                </a:solidFill>
                <a:latin typeface="Arial Rounded MT Bold"/>
              </a:rPr>
              <a:t> clas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3120" y="1682640"/>
            <a:ext cx="7110360" cy="303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55720" y="4883040"/>
            <a:ext cx="7118280" cy="166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87040" y="1676520"/>
            <a:ext cx="68086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SPECIFICATION FILE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 timetype .h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Specifies the data and function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me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IMPLEMENTATION F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 timetype.cpp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Implements the TimeType member function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E68-2DE7-4F3C-93AB-418DA1F221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477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mplementation File for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imeTy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8200" y="1682640"/>
            <a:ext cx="8218440" cy="463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29840" y="1676160"/>
            <a:ext cx="8332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IMPLEMENTATION F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 timetype.cpp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Implements the TimeType member function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“ timetype.h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also must appear in cli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TimeType :: Equal (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imeType otherTime ) const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Postconditio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unction value == true,    if this time equals other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                      == false 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 (hrs == otherTime.hrs)  &amp;&amp; (mins == otherTime.m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&amp; (secs  == otherTime.secs)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668-8C96-4265-A262-EC8B48C02EC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425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amiliar Class Instances and Function Member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607760"/>
            <a:ext cx="8458200" cy="524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mber selection operator ( . ) selects either data members or function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er file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o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fstream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 the istream, ostream,and ifstream, ofstream I/O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class objects and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gn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unction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.get (someChar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.ignore (100, ‘\n’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tatements declare myInfile as an instance of class ifstream and invoke function member o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stream  myInfil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Infile.open ( “A:\\mydata.dat” ) 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93A-C8A5-4258-BD43-D7F50D64E2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nformation Hiding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99840" y="1815840"/>
            <a:ext cx="790092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implementation details are hidden from the client’s view.  This is called information h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functions of a class provide the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he client code and the class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7360" y="4578480"/>
            <a:ext cx="1587600" cy="1130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4760" y="4578480"/>
            <a:ext cx="1663560" cy="1130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7280" y="4578480"/>
            <a:ext cx="1968480" cy="1130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4083120" y="4464000"/>
            <a:ext cx="2349360" cy="1511280"/>
          </a:xfrm>
          <a:prstGeom prst="parallelogram">
            <a:avLst>
              <a:gd name="adj" fmla="val 38856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200" y="4754520"/>
            <a:ext cx="849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20280" y="490680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83160" y="4906800"/>
            <a:ext cx="206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200000">
            <a:off x="4400280" y="4754160"/>
            <a:ext cx="1558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8EB-44EE-4186-B96E-406B291110B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hapter 11 Topic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791064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ing of a Structured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laring and Using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ing of an Abstract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laring and Using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Separate Specification and Implement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mber Functions in Clien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DFC-2A82-4894-B0D1-B7F28BAD72A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cope Resolution Operator ( :: )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31800"/>
            <a:ext cx="8610480" cy="517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programs typically use several class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classes can have member functions with the same identifier, like Write(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selection operator is used to determine the class whose member function Write( ) is invok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Time .Write( ) 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class Time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Z .Write( ) ;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class ComplexNumb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implementation file, the scope resolution operator is used in the heading before the function member’s name to specify its cla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TimeType :: Write ( )   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           .  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C24-AACA-421E-91AB-77DC68DA4A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080" y="222120"/>
            <a:ext cx="8966160" cy="9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29160" y="736560"/>
            <a:ext cx="8824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660033"/>
                </a:solidFill>
                <a:latin typeface="Arial Rounded MT Bold"/>
              </a:rPr>
              <a:t>TimeType</a:t>
            </a:r>
            <a:r>
              <a:rPr b="1" lang="en-US" sz="4000" spc="-1" strike="noStrike">
                <a:solidFill>
                  <a:srgbClr val="660066"/>
                </a:solidFill>
                <a:latin typeface="Arial Rounded MT Bold"/>
              </a:rPr>
              <a:t> 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Class Instanc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44560" y="2673360"/>
            <a:ext cx="3568680" cy="356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5080" y="320688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5080" y="427356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5080" y="488304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5080" y="541656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5080" y="374004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92480" y="3664080"/>
            <a:ext cx="1434960" cy="196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68720" y="3633840"/>
            <a:ext cx="1463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80" y="3230640"/>
            <a:ext cx="524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2880" y="376380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2200" y="4297320"/>
            <a:ext cx="82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0280" y="490680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T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8880" y="5440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01960" y="404496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01960" y="457848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01960" y="511164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40240" y="2673360"/>
            <a:ext cx="3568680" cy="356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9360" y="313056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9360" y="419724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480708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9360" y="534024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9360" y="3664080"/>
            <a:ext cx="1663560" cy="368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6760" y="3587760"/>
            <a:ext cx="1434960" cy="1968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93000" y="3557520"/>
            <a:ext cx="1463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93160" y="3154320"/>
            <a:ext cx="524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87520" y="368784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6840" y="4221000"/>
            <a:ext cx="82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64560" y="4830840"/>
            <a:ext cx="124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T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93160" y="536400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6240" y="396864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6240" y="450216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6240" y="5035680"/>
            <a:ext cx="6732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840" y="4068720"/>
            <a:ext cx="441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78800" y="399240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35240" y="1874880"/>
            <a:ext cx="6639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urrentTime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nd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93A-1B52-405C-AADD-DD1F32FCCA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70956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se of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cons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with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mber Function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215800"/>
            <a:ext cx="6934320" cy="30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member function does not modify the private data members, use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n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both the function prototype (in specification file) and the heading of the function definition (in implementation 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3DD-D558-411C-AA81-843D7AA7FC9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3996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Example Using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cons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with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 Member Function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77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TimeType :: Write ( )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  Postcondition:   Time has been output in form HH:MM: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hrs &lt; 10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‘0’ 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hrs  &lt;&lt;  ‘:’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mins &lt; 10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‘0’ ;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mins  &lt;&lt;  ‘:’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secs &lt; 10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‘0’ 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sec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6D3-32C8-45BB-9758-C635CCE135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080" y="477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eparate Compilation and Linking of Fi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343680" y="1987560"/>
            <a:ext cx="1907640" cy="520560"/>
            <a:chOff x="3343680" y="1987560"/>
            <a:chExt cx="1907640" cy="520560"/>
          </a:xfrm>
        </p:grpSpPr>
        <p:sp>
          <p:nvSpPr>
            <p:cNvPr id="408" name=""/>
            <p:cNvSpPr/>
            <p:nvPr/>
          </p:nvSpPr>
          <p:spPr>
            <a:xfrm>
              <a:off x="3511440" y="1987560"/>
              <a:ext cx="173988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43680" y="2041560"/>
              <a:ext cx="1855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timetype.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93560" y="2444760"/>
            <a:ext cx="2090880" cy="520560"/>
            <a:chOff x="493560" y="2444760"/>
            <a:chExt cx="2090880" cy="520560"/>
          </a:xfrm>
        </p:grpSpPr>
        <p:sp>
          <p:nvSpPr>
            <p:cNvPr id="411" name=""/>
            <p:cNvSpPr/>
            <p:nvPr/>
          </p:nvSpPr>
          <p:spPr>
            <a:xfrm>
              <a:off x="633240" y="2444760"/>
              <a:ext cx="195120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560" y="249876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client.c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914440" y="2444760"/>
            <a:ext cx="2297520" cy="520560"/>
            <a:chOff x="5914440" y="2444760"/>
            <a:chExt cx="2297520" cy="520560"/>
          </a:xfrm>
        </p:grpSpPr>
        <p:sp>
          <p:nvSpPr>
            <p:cNvPr id="414" name=""/>
            <p:cNvSpPr/>
            <p:nvPr/>
          </p:nvSpPr>
          <p:spPr>
            <a:xfrm>
              <a:off x="6105600" y="2444760"/>
              <a:ext cx="210636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14440" y="2498760"/>
              <a:ext cx="219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timetype.c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00760" y="4349880"/>
            <a:ext cx="2083680" cy="520560"/>
            <a:chOff x="500760" y="4349880"/>
            <a:chExt cx="2083680" cy="520560"/>
          </a:xfrm>
        </p:grpSpPr>
        <p:sp>
          <p:nvSpPr>
            <p:cNvPr id="417" name=""/>
            <p:cNvSpPr/>
            <p:nvPr/>
          </p:nvSpPr>
          <p:spPr>
            <a:xfrm>
              <a:off x="633240" y="4349880"/>
              <a:ext cx="195120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760" y="4403880"/>
              <a:ext cx="183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client.ob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466800" y="6102360"/>
            <a:ext cx="1784520" cy="520560"/>
            <a:chOff x="3466800" y="6102360"/>
            <a:chExt cx="1784520" cy="520560"/>
          </a:xfrm>
        </p:grpSpPr>
        <p:sp>
          <p:nvSpPr>
            <p:cNvPr id="420" name=""/>
            <p:cNvSpPr/>
            <p:nvPr/>
          </p:nvSpPr>
          <p:spPr>
            <a:xfrm>
              <a:off x="3511440" y="6102360"/>
              <a:ext cx="173988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66800" y="6156360"/>
              <a:ext cx="174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client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923440" y="4349880"/>
            <a:ext cx="2229840" cy="520560"/>
            <a:chOff x="5923440" y="4349880"/>
            <a:chExt cx="2229840" cy="520560"/>
          </a:xfrm>
        </p:grpSpPr>
        <p:sp>
          <p:nvSpPr>
            <p:cNvPr id="423" name=""/>
            <p:cNvSpPr/>
            <p:nvPr/>
          </p:nvSpPr>
          <p:spPr>
            <a:xfrm>
              <a:off x="6105600" y="4349880"/>
              <a:ext cx="2047680" cy="520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3440" y="4403880"/>
              <a:ext cx="213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timetype.ob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178680" y="3435480"/>
            <a:ext cx="1815840" cy="44424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2280" y="3435480"/>
            <a:ext cx="1815840" cy="44424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35480" y="5340240"/>
            <a:ext cx="1815840" cy="44460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600200" y="4876920"/>
            <a:ext cx="2438280" cy="457200"/>
            <a:chOff x="1600200" y="4876920"/>
            <a:chExt cx="2438280" cy="457200"/>
          </a:xfrm>
        </p:grpSpPr>
        <p:sp>
          <p:nvSpPr>
            <p:cNvPr id="430" name=""/>
            <p:cNvSpPr/>
            <p:nvPr/>
          </p:nvSpPr>
          <p:spPr>
            <a:xfrm>
              <a:off x="1600200" y="4876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00200" y="51055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8480" y="5105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24280" y="4876920"/>
            <a:ext cx="2438640" cy="457200"/>
            <a:chOff x="4724280" y="4876920"/>
            <a:chExt cx="2438640" cy="457200"/>
          </a:xfrm>
        </p:grpSpPr>
        <p:sp>
          <p:nvSpPr>
            <p:cNvPr id="434" name=""/>
            <p:cNvSpPr/>
            <p:nvPr/>
          </p:nvSpPr>
          <p:spPr>
            <a:xfrm>
              <a:off x="7162920" y="4876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724280" y="510552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5105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16002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629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292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73800" y="345924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60200" y="345924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69640" y="536400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Lin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97480" y="2133720"/>
            <a:ext cx="3200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133720"/>
            <a:ext cx="3200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49120" y="2925720"/>
            <a:ext cx="276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include “timetype.h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01560" y="2011320"/>
            <a:ext cx="229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mplement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10640" y="1554120"/>
            <a:ext cx="194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pecific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3040" y="2011320"/>
            <a:ext cx="176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36F-FE1F-47D3-A1B1-876380F7C37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987560" y="4578480"/>
            <a:ext cx="4330800" cy="2120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several program files use the same header file containing typedef statements, constants, or class type declarations--but, it is 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ile-time error to define the same identifier tw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eprocessor directive syntax is used to avoid the compilation error that would otherwise occur from multiple uses of #include for the same header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fndef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rocessor_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defin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rocessor_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622080" y="490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voiding Multiple Inclusion of Header Fi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57D-68D5-4C4C-99C6-33BF121A197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58760" y="1758960"/>
            <a:ext cx="2654280" cy="4940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98320" y="5410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Example Using Preprocessor Directive 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#ifndef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78280" y="2825640"/>
            <a:ext cx="2882880" cy="3492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02360" y="2825640"/>
            <a:ext cx="2806560" cy="349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0480" y="17524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imetype .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FOR COMPILATION THE CLASS DECLARATIO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FI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FILE timetype.h WILL BE INCLUDED ONLY ON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fndef   TIME_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define  TIME_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imetype .cpp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client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FILE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oint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me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#include “timetype.h”       #include “timetype.h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int   main ( void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.  . 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D72-5D85-4E85-96FD-103EFEB7C5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ass Constructor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160632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constructor is a member function whos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urpose is to initialize the private data memb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class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me of a constructor is always the name of the class, and there is no return type for the constru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may have several constructors with different parameter lists.  A constructor with no parameters is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fa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ructor i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mplicitly invo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a class object is declared--if there are parameters, their values are listed in parentheses in the decla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0DD-180B-4977-A816-B7283CE3975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1523880"/>
            <a:ext cx="861048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5700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pecification of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imeType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ass Constructor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577880"/>
            <a:ext cx="8686800" cy="512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 Time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timetype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7 funct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Set (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hours ,  int  minutes 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seconds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Increment (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Write ( )  cons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       Equal (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otherTime )  const 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       LessThan ( TimeType  otherTime )  cons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( int  initHrs 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initMins 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initSecs ) ;  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</a:rPr>
              <a:t>//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( ) ;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</a:rPr>
              <a:t>// 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3 data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hrs 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mins 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sec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77B-4145-4165-A99A-B394FB906A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376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mplementation of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imeType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Default Constructor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55120" y="1959120"/>
            <a:ext cx="820764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Type :: TimeType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  Default 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  Postcondi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hrs == 0   &amp;&amp;   mins == 0   &amp;&amp;  secs =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s  = 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s =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s =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14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F5B-C633-407B-8E36-6A511388E5C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38680" y="2286000"/>
            <a:ext cx="3429000" cy="228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5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++ 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82840" y="1523880"/>
            <a:ext cx="1046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7840" y="1447920"/>
            <a:ext cx="122076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34040" y="1467000"/>
            <a:ext cx="130356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9880" y="23842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4960" y="3421080"/>
            <a:ext cx="347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tru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union  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332040" y="2800440"/>
            <a:ext cx="2362680" cy="704880"/>
            <a:chOff x="6332040" y="2800440"/>
            <a:chExt cx="2362680" cy="704880"/>
          </a:xfrm>
        </p:grpSpPr>
        <p:sp>
          <p:nvSpPr>
            <p:cNvPr id="102" name=""/>
            <p:cNvSpPr/>
            <p:nvPr/>
          </p:nvSpPr>
          <p:spPr>
            <a:xfrm>
              <a:off x="800892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80320" y="2800440"/>
              <a:ext cx="1522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113240" y="2800440"/>
              <a:ext cx="3621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3204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15400" y="5051520"/>
            <a:ext cx="2475720" cy="1281240"/>
            <a:chOff x="5315400" y="5051520"/>
            <a:chExt cx="2475720" cy="1281240"/>
          </a:xfrm>
        </p:grpSpPr>
        <p:sp>
          <p:nvSpPr>
            <p:cNvPr id="107" name=""/>
            <p:cNvSpPr/>
            <p:nvPr/>
          </p:nvSpPr>
          <p:spPr>
            <a:xfrm>
              <a:off x="5700960" y="5051520"/>
              <a:ext cx="143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640480" y="5448240"/>
              <a:ext cx="4572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0840" y="5448240"/>
              <a:ext cx="5335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15400" y="5935320"/>
              <a:ext cx="247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inter   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737360" y="23842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20400" y="278136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2781360"/>
            <a:ext cx="1447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7800" y="3421080"/>
            <a:ext cx="26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egral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2160" y="4335480"/>
            <a:ext cx="337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rt   int  long  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1280" y="377208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68120" y="377208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3040" y="377208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1640" y="377208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02280" y="3421080"/>
            <a:ext cx="3347280" cy="2169360"/>
            <a:chOff x="2402280" y="3421080"/>
            <a:chExt cx="3347280" cy="2169360"/>
          </a:xfrm>
        </p:grpSpPr>
        <p:sp>
          <p:nvSpPr>
            <p:cNvPr id="121" name=""/>
            <p:cNvSpPr/>
            <p:nvPr/>
          </p:nvSpPr>
          <p:spPr>
            <a:xfrm>
              <a:off x="3793320" y="342108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02280" y="5193000"/>
              <a:ext cx="33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  double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96920" y="3772080"/>
              <a:ext cx="15235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3440" y="3772080"/>
              <a:ext cx="1519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582360" y="3772080"/>
              <a:ext cx="91404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54280" y="377208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2781360"/>
            <a:ext cx="49536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3EC-110D-48DF-8FEB-1E0488363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3984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mplementation of Another 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imeType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Class Constructor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55120" y="1730520"/>
            <a:ext cx="8207640" cy="47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:: TimeType (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 initH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 initMi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 initSec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Precondition:  0 &lt;= initHrs &lt;= 23    &amp;&amp;    0 &lt;= initMins &lt;=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  0 &lt;= initSecs &lt;=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 Post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hrs == initHrs  &amp;&amp;  mins == initMins  &amp;&amp; secs == init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s  =  initHr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s =  initMin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s =  initSec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2514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23-127F-4CFE-AB78-00A698DB025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7360" y="1682640"/>
            <a:ext cx="8369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98320" y="539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utomatic invocation of constructors occurs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520" y="1839960"/>
            <a:ext cx="845820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departureTime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default constructor invoked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Type   movieTime (19, 30, 0 ) ;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// parameterized constru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ure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movi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25560" y="3808440"/>
            <a:ext cx="2824200" cy="2824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2800" y="4230720"/>
            <a:ext cx="1316160" cy="288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800" y="5075280"/>
            <a:ext cx="1316160" cy="290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2800" y="5557680"/>
            <a:ext cx="1316160" cy="2890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800" y="5981760"/>
            <a:ext cx="1316160" cy="287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2800" y="4653000"/>
            <a:ext cx="1316160" cy="287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73240" y="4594320"/>
            <a:ext cx="1133640" cy="1555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0200" y="4568760"/>
            <a:ext cx="11451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vate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5160" y="4249800"/>
            <a:ext cx="401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4320" y="4672080"/>
            <a:ext cx="99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6480" y="5092560"/>
            <a:ext cx="62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4440" y="5576760"/>
            <a:ext cx="942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ssT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4440" y="6000840"/>
            <a:ext cx="636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56000" y="4896000"/>
            <a:ext cx="530280" cy="28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56000" y="5316480"/>
            <a:ext cx="530280" cy="289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5740560"/>
            <a:ext cx="530280" cy="28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50320" y="4830840"/>
            <a:ext cx="313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68960" y="3884760"/>
            <a:ext cx="2824200" cy="28238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86200" y="4307040"/>
            <a:ext cx="1316160" cy="288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86200" y="5151600"/>
            <a:ext cx="1316160" cy="290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86200" y="5634000"/>
            <a:ext cx="1316160" cy="2890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86200" y="6058080"/>
            <a:ext cx="1316160" cy="287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86200" y="4729320"/>
            <a:ext cx="1316160" cy="2872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16640" y="4670280"/>
            <a:ext cx="1133640" cy="1555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93600" y="4645080"/>
            <a:ext cx="11451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vate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28560" y="4325760"/>
            <a:ext cx="401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87720" y="4748040"/>
            <a:ext cx="99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69880" y="5168880"/>
            <a:ext cx="62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47840" y="5653080"/>
            <a:ext cx="942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ssT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27840" y="6076800"/>
            <a:ext cx="636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99400" y="4971960"/>
            <a:ext cx="530280" cy="289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99400" y="5392800"/>
            <a:ext cx="530280" cy="28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99400" y="5816520"/>
            <a:ext cx="530280" cy="289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17040" y="4906800"/>
            <a:ext cx="44136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440-94D6-48A6-82F4-F97879C9E98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ructured Data Type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736776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ructured data type is a type in which each value is a collection of component item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tire collection has a single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mponent can be accessed individu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ACF-C2B0-4D4C-9148-564A573E5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++ Structured Type   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903320"/>
            <a:ext cx="746604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we have related information of various types that we’d like to store together for convenient access under the same identifier, for exampl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072-F3F7-4853-9414-C794E213E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11480" y="2597040"/>
            <a:ext cx="1587600" cy="36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11480" y="2063880"/>
            <a:ext cx="1949400" cy="2593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thisAnimal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6800" y="1627200"/>
            <a:ext cx="822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000</a:t>
            </a: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05000" y="2590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8960" y="2133720"/>
            <a:ext cx="49500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id                    20375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name            “giant panda”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genus           “Ailuropo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pecies        “melanoluk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country        “Chin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age                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weight            23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health           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0500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5000" y="5715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05000" y="2590920"/>
            <a:ext cx="1967040" cy="2057400"/>
            <a:chOff x="3105000" y="2590920"/>
            <a:chExt cx="1967040" cy="2057400"/>
          </a:xfrm>
        </p:grpSpPr>
        <p:sp>
          <p:nvSpPr>
            <p:cNvPr id="142" name=""/>
            <p:cNvSpPr/>
            <p:nvPr/>
          </p:nvSpPr>
          <p:spPr>
            <a:xfrm>
              <a:off x="3105000" y="304812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05000" y="358128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5000" y="411480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5000" y="4648320"/>
              <a:ext cx="19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27720" y="2590920"/>
              <a:ext cx="144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CDB-F088-4337-BC2B-02F8EA3E9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2:40Z</dcterms:created>
  <dc:creator>Sylvia Sorkin</dc:creator>
  <dc:description/>
  <dc:language>en-US</dc:language>
  <cp:lastModifiedBy>Victor R. Volkman</cp:lastModifiedBy>
  <dcterms:modified xsi:type="dcterms:W3CDTF">2001-03-18T22:37:54Z</dcterms:modified>
  <cp:revision>329</cp:revision>
  <dc:subject>C++ struct, union, class types, specification and implementation files, #ifndef, constructors</dc:subject>
  <dc:title>Programming and Problem Solving with C++, 2/e</dc:title>
</cp:coreProperties>
</file>