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C5DD-B259-4B46-A4DA-F5AF13AD8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4EE3-715B-4058-A0DF-9C82C306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5CD7-1736-4938-AE9F-489474843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14C1-ADDA-4B2C-A961-47B437C01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6129-8478-425B-89AF-D9CDCEA49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A620-B324-4555-B410-A40B9B2A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7ACD-27A2-48CB-B01E-2A87026B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EFC52-84BA-4D8F-9860-2B1795E6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29FA-E464-481B-A92C-DC0BFF3B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E6D4-7C60-42A3-801F-4184226D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9793-908D-45B4-9C7E-F8F6922E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5A83-84BF-42A9-A2D1-2E3BDF97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A6DE-8FF8-4C2F-9C2D-F5CA0B0B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C675-9A04-4BAD-96D0-031541C0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5124-3EA0-4663-B441-D1BD62C3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83D2-BB27-44B5-B66C-B87AC24BC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19BC-DCE4-413F-9DF5-2428AAB16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87E0-4262-4258-BA08-ADBD2F07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C6F4-E095-4046-BCFC-D29CF593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5DBD-5261-4780-A1DE-128787BB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7CFD-04F8-4C24-99E1-D089BC05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62AE-D269-4E8C-BA9F-7D7F4957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C790-DEC4-461E-A6F4-0495D8CD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D80A-BAE7-4112-97F6-8800DEDA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4836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248E-7C0A-444F-A377-45490B31F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03A4-0962-4012-8510-220FF404C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6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006666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009999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SzPct val="8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imes New Roman"/>
              </a:rPr>
              <a:t>CPS171</a:t>
            </a:r>
            <a:endParaRPr b="1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to Recu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622B-64D6-491B-922F-E0AE63F9A66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4920" y="1447920"/>
            <a:ext cx="8534160" cy="533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imes New Roman"/>
              </a:rPr>
              <a:t>Finding the Sum of the Numbers from 1 to n</a:t>
            </a:r>
            <a:endParaRPr b="1" lang="en-US" sz="40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 Summation ( </a:t>
            </a: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/* in *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nt   n 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//   Computes the sum of the numbers from 1 to n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//   adding n to the sum of the numbers from 1 to (n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//   Precondition: </a:t>
            </a: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 n is assigned   &amp;&amp;   n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//   Postcondi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//          Function value == sum of numbers from 1 to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 ( n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=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//  bas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 1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// general case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( n + Summation ( n - 1 ) )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02C3-DD1D-4B98-A6F7-54E6CE1B81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063800"/>
            <a:ext cx="90676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s 4 + Summation(3) = 4 + 6 =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tion(4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s 3 + Summation(2) = 3 + 3 =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tion(3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s 2 + Summation(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2 + 1 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tion(2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=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s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tion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imes New Roman"/>
              </a:rPr>
              <a:t>Summation(4) Trace of Call  </a:t>
            </a:r>
            <a:endParaRPr b="1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87560" y="1758960"/>
            <a:ext cx="596880" cy="8254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16360" y="3130560"/>
            <a:ext cx="596880" cy="8254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45160" y="4502160"/>
            <a:ext cx="596880" cy="8254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73960" y="5873760"/>
            <a:ext cx="596880" cy="8254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295280"/>
            <a:ext cx="144756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2590920"/>
            <a:ext cx="144756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3962520"/>
            <a:ext cx="144756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5334120"/>
            <a:ext cx="144756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2133720"/>
            <a:ext cx="1447560" cy="990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3505320"/>
            <a:ext cx="1447560" cy="990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4876920"/>
            <a:ext cx="1447560" cy="990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7240" y="76356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17520" y="1736640"/>
            <a:ext cx="370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46320" y="3108240"/>
            <a:ext cx="370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75120" y="4479840"/>
            <a:ext cx="370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03920" y="5851440"/>
            <a:ext cx="370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7699-23BB-45A7-9360-EB576C648F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Writing a Recursive Function to Find </a:t>
            </a:r>
            <a:br>
              <a:rPr sz="3600"/>
            </a:b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n Factorial</a:t>
            </a:r>
            <a:endParaRPr b="1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DISCU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unction call Factorial(4) should have value 24, because that is 4 * 3 * 2 * 1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or a situation in which the answer is known, the value of 0! is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our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base c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uld be along the line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 ( number == 0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1;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3AD1-8D0F-436B-A06A-F95A17A555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Writing a Recursive Function to Find </a:t>
            </a:r>
            <a:br>
              <a:rPr sz="3600"/>
            </a:b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Factorial(n)</a:t>
            </a:r>
            <a:endParaRPr b="1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 for the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eneral ca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value of  Factorial(n)  can be written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 *  the product of the numbers from (n - 1) to 1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i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  *   (n - 1)  *  .  .  .  *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,         n   *    Factorial(n -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notice that the recursive call  Factorial(n - 1) gets us “closer” to the base case of  Factorial(0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038480" y="3123720"/>
            <a:ext cx="381240" cy="2667240"/>
          </a:xfrm>
          <a:custGeom>
            <a:avLst/>
            <a:gdLst>
              <a:gd name="textAreaLeft" fmla="*/ 243720 w 381240"/>
              <a:gd name="textAreaRight" fmla="*/ 381600 w 381240"/>
              <a:gd name="textAreaTop" fmla="*/ 69480 h 2667240"/>
              <a:gd name="textAreaBottom" fmla="*/ 2597760 h 266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4F43-1479-4394-AF9D-31560BCF2E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7360" y="1682640"/>
            <a:ext cx="8369280" cy="433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imes New Roman"/>
              </a:rPr>
              <a:t>Recursive Solution</a:t>
            </a:r>
            <a:endParaRPr b="1" lang="en-US" sz="40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 Factorial (  int   number 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//  Pre:   number is assigned and  number &gt;=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 ( number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=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0)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//  bas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 1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// general case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 number + Factorial ( number - 1 ) 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74CB-585B-4343-9C51-971FCA1CBC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imes New Roman"/>
              </a:rPr>
              <a:t>Another Example Where Recursion Comes Naturally </a:t>
            </a:r>
            <a:endParaRPr b="1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34920"/>
            <a:ext cx="6934320" cy="441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mathematics, we know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0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1     and      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5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* 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4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general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0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1     and     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n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*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n-1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integer  x, and integer n &gt;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e we are defining 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n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ursively, in terms of 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n-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8E25-F969-4F9F-AD1E-63E44E9CA6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61880" y="457200"/>
            <a:ext cx="8218440" cy="532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80800"/>
            <a:ext cx="7848720" cy="512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// Recursive definition of power fun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Power (  int   x,   int   n )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//  Pre:     n &gt;= 0.   x, n are not both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//  Post:   Function value == x raised to the power 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 ( n == 0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 1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//  bas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se                                    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// general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(  x * Power ( x , n-1 ) )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3160" y="5897520"/>
            <a:ext cx="71528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Of course, an alternative would have been to use loop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instead of a recursive call in the function bod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8487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2633-3F49-4524-B33F-8DE3DB1CC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8971-92B2-4033-BEFD-62AFEC419B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imes New Roman"/>
              </a:rPr>
              <a:t>Extending the Definition</a:t>
            </a:r>
            <a:endParaRPr b="1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value of  2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ain from mathematics, we know that it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 -3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 1 / 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 1 /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general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n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1/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 -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non-zero x, and integer n &lt;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e we are again defining 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n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ursively, in terms of 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hen n &lt;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0A9F-3BFB-4D0E-9E4D-861B884C36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61880" y="463680"/>
            <a:ext cx="8218440" cy="586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7720" y="281160"/>
            <a:ext cx="7620120" cy="589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// Recursive definition of power fun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at  Power   (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/* in *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float   x, 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/* in */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   n )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//  Precondition:    x  !=  0   &amp;&amp;   Assigned(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//  Postcondition:  Function value == x raised to the power 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 ( n == 0 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//  base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   if  ( n &gt; 0 )                  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//  first  general 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(  x * Power ( x , n - 1 ) 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//  second general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(  1.0 / Power ( x , - n ) 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6CCA-79E4-44D1-92DC-CE9D26CF5A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Writing a recursive function to compute Greatest Common Divisor</a:t>
            </a:r>
            <a:endParaRPr b="1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66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biggest number by which both v1 and v2 are evenly divi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66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nal answer is said to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percol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ack to the top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d(int v1, int v2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if (v2 == 0)  // base ca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return v1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else             // general ca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return gcd(v2, v1%v2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24C0-15D4-450F-ABC9-C9D975C55F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3880" y="50760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imes New Roman"/>
              </a:rPr>
              <a:t>Chapter 17 Topics</a:t>
            </a:r>
            <a:endParaRPr b="1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6720" y="1604520"/>
            <a:ext cx="7810560" cy="49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aning of Recu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 Case and General Case in Recursive Function Defin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riting Recursive Functions with Simple Type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riting Recursive Functions with Array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derstanding How Recursion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FB62-159D-42CA-90E6-4665862C040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imes New Roman"/>
              </a:rPr>
              <a:t>Trace of gcd(15,123)</a:t>
            </a:r>
            <a:endParaRPr b="1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12720" y="2019240"/>
          <a:ext cx="7840800" cy="403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2019240"/>
                    <a:ext cx="784080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B31F-FD38-404E-8864-CDDA457180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Writing an iterative function to compute Greatest Common Divisor</a:t>
            </a:r>
            <a:endParaRPr b="1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is not particularly elegant or easy to follow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d(int v1, int v2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nt temp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while (v2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temp = v2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v2 = v1 % v2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v1 = temp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return v1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92DD-713A-442F-B18D-ADD7F60DD8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04920" y="1523880"/>
            <a:ext cx="8534160" cy="525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id   PrintStars ( </a:t>
            </a: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/* in *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nt   n 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//   Prints n asterisks, one to a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//   Precondition: </a:t>
            </a: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 n is assigned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//   Postcondi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//          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IF n &gt; 0, n stars have been printed, one to a l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//          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ELSE no action has taken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 ( n &lt;= 0 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//  base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// Do no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// general case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t   &lt;&lt;  ‘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 &lt;&lt;  endl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Stars ( n - 1 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imes New Roman"/>
              </a:rPr>
              <a:t>At Times Base Case Can Be:</a:t>
            </a:r>
            <a:br>
              <a:rPr sz="4000"/>
            </a:br>
            <a:r>
              <a:rPr b="1" lang="en-US" sz="4000" spc="-1" strike="noStrike">
                <a:solidFill>
                  <a:srgbClr val="006666"/>
                </a:solidFill>
                <a:latin typeface="Times New Roman"/>
              </a:rPr>
              <a:t>Do Nothing</a:t>
            </a:r>
            <a:endParaRPr b="1" lang="en-US" sz="40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98680" y="6194520"/>
            <a:ext cx="360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// CAN REWRITE AS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4106-A3FD-446D-B8E1-19A816209E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04920" y="1447920"/>
            <a:ext cx="8534160" cy="533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6666"/>
                </a:solidFill>
                <a:latin typeface="Times New Roman"/>
              </a:rPr>
              <a:t>Recursive Void Function</a:t>
            </a:r>
            <a:endParaRPr b="1" lang="en-US" sz="40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53640" cy="52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id   PrintStars ( </a:t>
            </a: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/* in *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nt   n 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//   Prints n asterisks, one to a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//   Precondition:       n is assigned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//   Postcondi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//          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IF n &gt; 0, n stars have been printed, one to a l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//          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ELSE no action has taken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 ( n &gt; 0 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// general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&lt;  endl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Stars ( n - 1 )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// base case is empty else-clause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C9B1-6BDF-4A7C-9F7C-6776661621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-3240" y="1044720"/>
            <a:ext cx="7101000" cy="58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1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Stars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 is pri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Stars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 is pri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Stars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 is print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Stars(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 no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imes New Roman"/>
              </a:rPr>
              <a:t>PrintStars(3) Trace of Call  </a:t>
            </a:r>
            <a:endParaRPr b="1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7560" y="1758960"/>
            <a:ext cx="596880" cy="8254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16360" y="3130560"/>
            <a:ext cx="596880" cy="8254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45160" y="4502160"/>
            <a:ext cx="596880" cy="8254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473960" y="5873760"/>
            <a:ext cx="596880" cy="8254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1295280"/>
            <a:ext cx="144756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2590920"/>
            <a:ext cx="144756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3962520"/>
            <a:ext cx="144756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5334120"/>
            <a:ext cx="144756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90920" y="2133720"/>
            <a:ext cx="1447560" cy="990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19720" y="3505320"/>
            <a:ext cx="1447560" cy="990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48520" y="4876920"/>
            <a:ext cx="1447560" cy="990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7240" y="76356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17520" y="1736640"/>
            <a:ext cx="370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46320" y="3108240"/>
            <a:ext cx="370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75120" y="4479840"/>
            <a:ext cx="370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03920" y="5851440"/>
            <a:ext cx="370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56F3-809C-4CB2-979C-7AEE73A53F8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04920" y="1447920"/>
            <a:ext cx="8534160" cy="533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imes New Roman"/>
              </a:rPr>
              <a:t>Recursive Mystery Function</a:t>
            </a:r>
            <a:endParaRPr b="1" lang="en-US" sz="40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0769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 Find( </a:t>
            </a: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/* in *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nt   b,  </a:t>
            </a: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/* in *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nt   a 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//   Simulates a familiar integer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//   Precondition: </a:t>
            </a: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 a is assigned   &amp;&amp;   a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//</a:t>
            </a: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    &amp;&amp;  b is assigned  &amp;&amp;    b &gt;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//   Postcondi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//          Function value  ==  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 ( b &lt; a 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//  bas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 0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// general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( 1 + Find ( b - a , a ) )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DE5A-B624-47A0-851A-6D5066009A2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52280" y="1577880"/>
            <a:ext cx="861084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s 1 + Find(6, 4) = 1 + 1 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1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(10, 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s 1 + Find(2, 4) = 1 + 0 = 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(6, 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&l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s  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(2, 4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imes New Roman"/>
              </a:rPr>
              <a:t>Find(10, 4) Trace of Call  </a:t>
            </a:r>
            <a:endParaRPr b="1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533520" y="1144440"/>
            <a:ext cx="7461000" cy="5484960"/>
            <a:chOff x="533520" y="1144440"/>
            <a:chExt cx="7461000" cy="5484960"/>
          </a:xfrm>
        </p:grpSpPr>
        <p:grpSp>
          <p:nvGrpSpPr>
            <p:cNvPr id="183" name=""/>
            <p:cNvGrpSpPr/>
            <p:nvPr/>
          </p:nvGrpSpPr>
          <p:grpSpPr>
            <a:xfrm>
              <a:off x="533520" y="1144440"/>
              <a:ext cx="7461000" cy="5478480"/>
              <a:chOff x="533520" y="1144440"/>
              <a:chExt cx="7461000" cy="547848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533520" y="1144440"/>
                <a:ext cx="7461000" cy="5478480"/>
                <a:chOff x="533520" y="1144440"/>
                <a:chExt cx="7461000" cy="54784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2432160" y="2338560"/>
                  <a:ext cx="782640" cy="992160"/>
                </a:xfrm>
                <a:prstGeom prst="rect">
                  <a:avLst/>
                </a:prstGeom>
                <a:solidFill>
                  <a:srgbClr val="cc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821120" y="3984480"/>
                  <a:ext cx="784440" cy="992160"/>
                </a:xfrm>
                <a:prstGeom prst="rect">
                  <a:avLst/>
                </a:prstGeom>
                <a:solidFill>
                  <a:srgbClr val="cc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210440" y="5629320"/>
                  <a:ext cx="784080" cy="993600"/>
                </a:xfrm>
                <a:prstGeom prst="rect">
                  <a:avLst/>
                </a:prstGeom>
                <a:solidFill>
                  <a:srgbClr val="cc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533520" y="1782720"/>
                  <a:ext cx="1892160" cy="1189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922480" y="3336840"/>
                  <a:ext cx="1892520" cy="1189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313240" y="4983120"/>
                  <a:ext cx="1890720" cy="1189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20920" y="2789280"/>
                  <a:ext cx="1892520" cy="1189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611680" y="4435560"/>
                  <a:ext cx="1890720" cy="1187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35120" y="1144440"/>
                  <a:ext cx="1890720" cy="1189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" name=""/>
              <p:cNvSpPr/>
              <p:nvPr/>
            </p:nvSpPr>
            <p:spPr>
              <a:xfrm>
                <a:off x="2422800" y="2468520"/>
                <a:ext cx="76248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b    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0  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860720" y="4145040"/>
                <a:ext cx="69264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b   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   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299360" y="5821200"/>
                <a:ext cx="69264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b   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   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2819520" y="2362320"/>
              <a:ext cx="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57800" y="3962520"/>
              <a:ext cx="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20120" y="5638680"/>
              <a:ext cx="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9A8C-3433-457F-93C5-FA4877F2B8F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imes New Roman"/>
              </a:rPr>
              <a:t>Fibonacci Series</a:t>
            </a:r>
            <a:endParaRPr b="1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bonacci numbers appear in nature, in mathematics, and are used in analyzing algorithms in computer sc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bonacci sequence i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1, 1, 2, 3, 5, 8, 13, 21, 34, 55, 89, where each number is the sum of the previous tw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AEE1-6A7C-4F3E-85C4-D0D1C6C9DBF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imes New Roman"/>
              </a:rPr>
              <a:t>Fibonacci series by Recursion</a:t>
            </a:r>
            <a:endParaRPr b="1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66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legant solution that uses two recursive call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ibonacci(int n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if (n &lt; 3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return n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el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return( fibonacci(n-2) + fibonacci(n-1)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87FF-00A5-4B48-B451-E2F2CFBDFD4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imes New Roman"/>
              </a:rPr>
              <a:t>Fibonacci series by Iteration</a:t>
            </a:r>
            <a:endParaRPr b="1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66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 to follow, more difficult to prove correct</a:t>
            </a:r>
            <a:br>
              <a:rPr sz="24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iFibonacci(int v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int temp, first =1, second=1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for(int k=0; k &lt; v-1; k++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temp = first + second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first = second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second = temp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return second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75ED-C172-4CE0-92F8-6F46AC15066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imes New Roman"/>
              </a:rPr>
              <a:t>Recursive Function Call</a:t>
            </a:r>
            <a:endParaRPr b="1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recursive cal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a function call in which the called function is the same as the one making the c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other words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cursion occurs when a function calls itself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we need to avoid making an infinite sequence of function call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(infinite recursion)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F0AC-2410-4126-B036-450DBD173C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Writing a Recursive Function to Print Array Elements in Reverse Order</a:t>
            </a:r>
            <a:endParaRPr b="1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90040" y="1638000"/>
            <a:ext cx="78678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DISCU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is task, we will use the proto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id PrintRev( const  int  data[ ], int  first,  int  last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6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all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Rev ( data, 0, 3 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uld produce this output:      95    87    36   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0" y="3886200"/>
            <a:ext cx="4178160" cy="520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79680" y="3940200"/>
            <a:ext cx="3672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4         36        87        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61880" y="4519440"/>
            <a:ext cx="4302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data[0]    data[1]    data[2]   data[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71760" y="3905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29160" y="3905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38800" y="3905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198E-238E-4B2E-AAAF-526E75591D4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90440"/>
            <a:ext cx="7848720" cy="102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Base Case and General Case</a:t>
            </a:r>
            <a:endParaRPr b="1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867800" cy="485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base case may be a solution in terms of a “smaller” array. 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ertainly for an array with 0 elements, there is no more processing to 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our general case needs to bring us closer to the base case situation.  That is,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the length of the array to be processed decreases by 1 with each recursive call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By printing one element in the general case, and also processing the smaller  array, we will eventually reach the situation where 0 array elements are left to be proces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general case, we could print either the first element, that is, data[first].  Or we could print the last element, that is, data[last].  Let’s print data[last]. 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After we print data[last], we still need to print the remaining elements in reverse or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5EBA-DF70-4960-9337-90FB6774DC8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52280" y="1523880"/>
            <a:ext cx="8839440" cy="525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imes New Roman"/>
              </a:rPr>
              <a:t>Using Recursion with Arrays</a:t>
            </a:r>
            <a:endParaRPr b="1" lang="en-US" sz="40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6400" y="1599840"/>
            <a:ext cx="8591400" cy="497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  PrintRev ( </a:t>
            </a:r>
            <a:r>
              <a:rPr b="1" i="1" lang="en-US" sz="2000" spc="-1" strike="noStrike">
                <a:solidFill>
                  <a:srgbClr val="008080"/>
                </a:solidFill>
                <a:latin typeface="Arial"/>
              </a:rPr>
              <a:t>/* in *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ons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  data [ ] 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Array to be pri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2000" spc="-1" strike="noStrike">
                <a:solidFill>
                  <a:srgbClr val="008080"/>
                </a:solidFill>
                <a:latin typeface="Arial"/>
              </a:rPr>
              <a:t>/* in */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int  first 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Index of first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2000" spc="-1" strike="noStrike">
                <a:solidFill>
                  <a:srgbClr val="006666"/>
                </a:solidFill>
                <a:latin typeface="Arial"/>
              </a:rPr>
              <a:t>/* in *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int  last  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Index of last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//   Prints array elements data [ first. . . last ] in reverse order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//   Precondition:   first assigned  &amp;&amp;  last ass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// </a:t>
            </a: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     &amp;&amp;  if  first &lt;= last then data [first . . last ] ass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 ( first  &lt;=  last 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// general cas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t  &lt;&lt;  data [ last ]  &lt;&lt; “    “ ;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// print last elem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Rev ( data,  first, last - 1 ) ;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// then process the 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// Base case is empty else-cla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C658-52C2-4489-A871-F62CC15EAFA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imes New Roman"/>
              </a:rPr>
              <a:t>      </a:t>
            </a:r>
            <a:r>
              <a:rPr b="1" lang="en-US" sz="4400" spc="-1" strike="noStrike">
                <a:solidFill>
                  <a:srgbClr val="006666"/>
                </a:solidFill>
                <a:latin typeface="Times New Roman"/>
              </a:rPr>
              <a:t>PrintRev(data, 0, 2) Trace</a:t>
            </a:r>
            <a:endParaRPr b="1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8280" y="1719360"/>
            <a:ext cx="847440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1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Rev(data, 0,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[2] pri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Rev(data, 0,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[1] pri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Rev(data, 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[0] pri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4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Rev(data, 0, -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NOTE: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data address 6000 is also pass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 no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06600" y="1782720"/>
            <a:ext cx="806400" cy="763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235400" y="2984400"/>
            <a:ext cx="755640" cy="7653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40520" y="4275000"/>
            <a:ext cx="757080" cy="7653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083440" y="5457960"/>
            <a:ext cx="768600" cy="765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04840" y="1389240"/>
            <a:ext cx="1285920" cy="77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772320" y="4643280"/>
            <a:ext cx="1419120" cy="1186200"/>
            <a:chOff x="6772320" y="4643280"/>
            <a:chExt cx="1419120" cy="1186200"/>
          </a:xfrm>
        </p:grpSpPr>
        <p:sp>
          <p:nvSpPr>
            <p:cNvPr id="227" name=""/>
            <p:cNvSpPr/>
            <p:nvPr/>
          </p:nvSpPr>
          <p:spPr>
            <a:xfrm>
              <a:off x="6772320" y="5057640"/>
              <a:ext cx="1285920" cy="77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908760" y="4643280"/>
              <a:ext cx="1282680" cy="77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792680" y="3446640"/>
            <a:ext cx="1557360" cy="1128600"/>
            <a:chOff x="4792680" y="3446640"/>
            <a:chExt cx="1557360" cy="1128600"/>
          </a:xfrm>
        </p:grpSpPr>
        <p:sp>
          <p:nvSpPr>
            <p:cNvPr id="230" name=""/>
            <p:cNvSpPr/>
            <p:nvPr/>
          </p:nvSpPr>
          <p:spPr>
            <a:xfrm>
              <a:off x="4792680" y="3803760"/>
              <a:ext cx="1285920" cy="77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62680" y="3446640"/>
              <a:ext cx="1287360" cy="77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035160" y="2195640"/>
            <a:ext cx="1489320" cy="1189080"/>
            <a:chOff x="3035160" y="2195640"/>
            <a:chExt cx="1489320" cy="1189080"/>
          </a:xfrm>
        </p:grpSpPr>
        <p:sp>
          <p:nvSpPr>
            <p:cNvPr id="233" name=""/>
            <p:cNvSpPr/>
            <p:nvPr/>
          </p:nvSpPr>
          <p:spPr>
            <a:xfrm>
              <a:off x="3035160" y="2611440"/>
              <a:ext cx="1220760" cy="77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36760" y="2195640"/>
              <a:ext cx="1287720" cy="77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1424160" y="971640"/>
            <a:ext cx="1287360" cy="771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403000" y="1843200"/>
            <a:ext cx="870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t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93640" y="3024360"/>
            <a:ext cx="870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t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8760" y="4319640"/>
            <a:ext cx="870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t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42040" y="5557680"/>
            <a:ext cx="909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t  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5A0B-EB53-46BE-B3A0-D47DD3D1C91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006666"/>
                </a:solidFill>
                <a:latin typeface="Times New Roman"/>
              </a:rPr>
              <a:t>Why use recursion?”</a:t>
            </a:r>
            <a:endParaRPr b="1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74880" y="2179800"/>
            <a:ext cx="7178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examples could all have been written without recursion, by using iteration instead.  The iterative solution uses a loop, and the recursive solution uses an if stat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for certain problems the recursive solution is the most natural solution.  This often occurs when structured variables are use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E99A-D399-4DCA-AB0F-8E45E118833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imes New Roman"/>
              </a:rPr>
              <a:t>Recall that . . .       </a:t>
            </a:r>
            <a:endParaRPr b="1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1827360"/>
            <a:ext cx="75438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recursion occurs when a function calls itsel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directly or indirectl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ursion can be used in place of iteration (loop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functions can be written more easily using recurs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718D-8B51-482C-BF2A-DA1F52EFAE2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4952880" y="4267080"/>
            <a:ext cx="1905120" cy="99072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33720" y="4267080"/>
            <a:ext cx="1904760" cy="99072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imes New Roman"/>
              </a:rPr>
              <a:t>Recursion or Iteration?</a:t>
            </a:r>
            <a:endParaRPr b="1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52800" y="4191120"/>
            <a:ext cx="1904760" cy="9014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971960" y="4191120"/>
            <a:ext cx="1905120" cy="9014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60960" y="4419720"/>
            <a:ext cx="1696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381040" y="4419720"/>
            <a:ext cx="128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CL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267080" y="2590920"/>
            <a:ext cx="457200" cy="1295280"/>
          </a:xfrm>
          <a:prstGeom prst="triangle">
            <a:avLst>
              <a:gd name="adj" fmla="val 50000"/>
            </a:avLst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67080" y="3886200"/>
            <a:ext cx="457200" cy="1295280"/>
          </a:xfrm>
          <a:prstGeom prst="rect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 rot="16200000">
            <a:off x="4228920" y="4685400"/>
            <a:ext cx="533160" cy="1371600"/>
          </a:xfrm>
          <a:prstGeom prst="flowChartDelay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95680" y="2133720"/>
            <a:ext cx="1752840" cy="457200"/>
          </a:xfrm>
          <a:prstGeom prst="rtTriangl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2743200" y="2133720"/>
            <a:ext cx="1752480" cy="457200"/>
          </a:xfrm>
          <a:prstGeom prst="rtTriangl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2590920"/>
            <a:ext cx="838440" cy="1904760"/>
          </a:xfrm>
          <a:prstGeom prst="line">
            <a:avLst/>
          </a:prstGeom>
          <a:ln w="1260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286000" y="2590920"/>
            <a:ext cx="838080" cy="1828800"/>
          </a:xfrm>
          <a:prstGeom prst="line">
            <a:avLst/>
          </a:prstGeom>
          <a:ln w="1260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2590920"/>
            <a:ext cx="0" cy="2514600"/>
          </a:xfrm>
          <a:prstGeom prst="line">
            <a:avLst/>
          </a:prstGeom>
          <a:ln w="1260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029200" y="2590920"/>
            <a:ext cx="838080" cy="1904760"/>
          </a:xfrm>
          <a:prstGeom prst="line">
            <a:avLst/>
          </a:prstGeom>
          <a:ln w="1260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67280" y="2590920"/>
            <a:ext cx="838440" cy="1828800"/>
          </a:xfrm>
          <a:prstGeom prst="line">
            <a:avLst/>
          </a:prstGeom>
          <a:ln w="1260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67280" y="2590920"/>
            <a:ext cx="0" cy="2514600"/>
          </a:xfrm>
          <a:prstGeom prst="line">
            <a:avLst/>
          </a:prstGeom>
          <a:ln w="1260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DD44-60BA-4C3C-8F03-5588FF8F974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539640" y="1758960"/>
            <a:ext cx="7454880" cy="4483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89917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imes New Roman"/>
              </a:rPr>
              <a:t>What is the value of </a:t>
            </a:r>
            <a:r>
              <a:rPr b="1" lang="en-US" sz="4400" spc="-1" strike="noStrike">
                <a:solidFill>
                  <a:srgbClr val="006666"/>
                </a:solidFill>
                <a:latin typeface="Courier New"/>
              </a:rPr>
              <a:t>Rose(25)</a:t>
            </a:r>
            <a:r>
              <a:rPr b="1" lang="en-US" sz="4400" spc="-1" strike="noStrike">
                <a:solidFill>
                  <a:srgbClr val="006666"/>
                </a:solidFill>
                <a:latin typeface="Times New Roman"/>
              </a:rPr>
              <a:t>?</a:t>
            </a:r>
            <a:endParaRPr b="1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93440" y="1953720"/>
            <a:ext cx="6902280" cy="383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Rose ( int  n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 ( n == 1 )                   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// bas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se                               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// general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( 1 + Rose ( n / 2 )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8D37-2FBF-41D2-AB6F-D199F427A80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35080" y="1758960"/>
            <a:ext cx="8750160" cy="394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917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imes New Roman"/>
              </a:rPr>
              <a:t>Finding the Value of </a:t>
            </a:r>
            <a:r>
              <a:rPr b="1" lang="en-US" sz="4400" spc="-1" strike="noStrike">
                <a:solidFill>
                  <a:srgbClr val="006666"/>
                </a:solidFill>
                <a:latin typeface="Courier New"/>
              </a:rPr>
              <a:t>Rose(25)</a:t>
            </a:r>
            <a:endParaRPr b="1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88520" y="1878120"/>
            <a:ext cx="8426520" cy="383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se(25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original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1 +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Rose(12)                         </a:t>
            </a: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first recursiv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1 +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( 1 + Rose(6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)                    </a:t>
            </a: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second recursiv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1 + ( 1 + ( 1 + Rose(3) ) )              </a:t>
            </a: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third recursiv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1 + ( 1 + ( 1 + (1 + Rose(1) ) ) )        </a:t>
            </a: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fourth recursiv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1 +   1 +   1  +  1 +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2BB5-6211-46C3-AB75-610D01EE044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917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imes New Roman"/>
              </a:rPr>
              <a:t>Writing Recursive Functions</a:t>
            </a:r>
            <a:endParaRPr b="1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64840" y="1649520"/>
            <a:ext cx="7969320" cy="475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must be at least one base case, and at least one general (recursive) case--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e general case should bring you “closer” to the base c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66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rameter(s) in the recursive call cannot all be the same as the formal parameters in the heading,  otherwise, infinite recursion would occ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66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functi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ose( 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 base case occurred when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n == 1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as true--the general case brought us a step closer to the base case, because in the general case the call was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ose(n/2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the argume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/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as closer to 1 (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E737-99FB-42D2-944F-421A72947F6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imes New Roman"/>
              </a:rPr>
              <a:t>Common Uses of Recursion</a:t>
            </a:r>
            <a:endParaRPr b="1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sing in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ers can be written using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recursive desc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versing data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es, linked lists, disk directories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Sort and HeapS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1466-6DB5-49BE-AF2C-94FB7C7E56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imes New Roman"/>
              </a:rPr>
              <a:t>When a function is called...</a:t>
            </a:r>
            <a:endParaRPr b="1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ransfer of contro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ccurs from the calling block to the code of the function--it is necessary  that there be a return to the correct place in the calling block after the function code is executed;  this correct place is called the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return addr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any function is called, the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run-time stac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used--on this stack is placed an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activation recor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the function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BBC9-43DF-4375-9C18-053B7F0981A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imes New Roman"/>
              </a:rPr>
              <a:t>Stack Activation Frames</a:t>
            </a:r>
            <a:endParaRPr b="1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619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66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activation recor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tains the return address for this function call, and also the parameters, and local variables, and space for the function’s return value, if non-voi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66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ctivation record for a particular function call is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popped off the run-time stac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hen the final closing brace in the function code is reached, or when a return statement is reached in the function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66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this time the function’s return value, if non-void, is brought back to the calling block return address for use t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75ED-3237-4DA3-8572-DFD6D377332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461880" y="463680"/>
            <a:ext cx="8218440" cy="608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837720" y="280800"/>
            <a:ext cx="8077320" cy="619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/ Another recursive fun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 Func   (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/* in *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   a, 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/* in */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   b )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//  Pre:     Assigned(a)  &amp;&amp;  Assigned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//  Post:   Function value == 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 resul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 ( b == 0 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//  base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   if  ( b &gt; 0 )                  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//  first  general 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 = a +  Func ( a , b - 1 ) ) ;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// instruction 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//  second general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 = Func ( - a , - b ) ;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// instruction 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 resul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53B0-23C8-4F22-A397-0EA114A9B37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901960" y="4959360"/>
            <a:ext cx="2044800" cy="1511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74880" y="1981080"/>
            <a:ext cx="4282920" cy="44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CTVAL              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             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           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           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Address         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898720" y="4952880"/>
            <a:ext cx="2054160" cy="1162080"/>
            <a:chOff x="2898720" y="4952880"/>
            <a:chExt cx="2054160" cy="1162080"/>
          </a:xfrm>
        </p:grpSpPr>
        <p:sp>
          <p:nvSpPr>
            <p:cNvPr id="279" name=""/>
            <p:cNvSpPr/>
            <p:nvPr/>
          </p:nvSpPr>
          <p:spPr>
            <a:xfrm>
              <a:off x="2898720" y="6114960"/>
              <a:ext cx="20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898720" y="5824440"/>
              <a:ext cx="20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98720" y="5533920"/>
              <a:ext cx="20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98720" y="5243400"/>
              <a:ext cx="20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98720" y="4952880"/>
              <a:ext cx="20541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761760"/>
            <a:ext cx="89917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imes New Roman"/>
              </a:rPr>
              <a:t>Run-Time Stack Activation Records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 </a:t>
            </a:r>
            <a:br>
              <a:rPr sz="2400"/>
            </a:br>
            <a:br>
              <a:rPr sz="10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Func(5, 2);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 original call at instruction 100</a:t>
            </a:r>
            <a:r>
              <a:rPr b="1" lang="en-US" sz="4000" spc="-1" strike="noStrike">
                <a:solidFill>
                  <a:srgbClr val="006666"/>
                </a:solidFill>
                <a:latin typeface="Courier New"/>
              </a:rPr>
              <a:t> </a:t>
            </a:r>
            <a:endParaRPr b="1" lang="en-US" sz="40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1832040"/>
            <a:ext cx="0" cy="464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95480" y="1755720"/>
            <a:ext cx="0" cy="472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106960" y="5052960"/>
            <a:ext cx="760320" cy="1422000"/>
            <a:chOff x="5106960" y="5052960"/>
            <a:chExt cx="760320" cy="1422000"/>
          </a:xfrm>
        </p:grpSpPr>
        <p:sp>
          <p:nvSpPr>
            <p:cNvPr id="288" name=""/>
            <p:cNvSpPr/>
            <p:nvPr/>
          </p:nvSpPr>
          <p:spPr>
            <a:xfrm flipV="1">
              <a:off x="5106960" y="5765400"/>
              <a:ext cx="758880" cy="7095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108400" y="5052960"/>
              <a:ext cx="758880" cy="7113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5848200" y="5040360"/>
            <a:ext cx="29131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original cal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at instruction 1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pushes on this reco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for Func(5,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77D0-3243-4D7B-9205-706D635527B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901960" y="3511440"/>
            <a:ext cx="2044800" cy="29592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898720" y="4952880"/>
            <a:ext cx="2054160" cy="1162080"/>
            <a:chOff x="2898720" y="4952880"/>
            <a:chExt cx="2054160" cy="1162080"/>
          </a:xfrm>
        </p:grpSpPr>
        <p:sp>
          <p:nvSpPr>
            <p:cNvPr id="293" name=""/>
            <p:cNvSpPr/>
            <p:nvPr/>
          </p:nvSpPr>
          <p:spPr>
            <a:xfrm>
              <a:off x="2898720" y="6114960"/>
              <a:ext cx="20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898720" y="5824440"/>
              <a:ext cx="20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898720" y="5533920"/>
              <a:ext cx="20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898720" y="5243400"/>
              <a:ext cx="20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898720" y="4952880"/>
              <a:ext cx="20541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898720" y="4662360"/>
            <a:ext cx="20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898720" y="4371840"/>
            <a:ext cx="20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98720" y="4086360"/>
            <a:ext cx="20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98720" y="3795840"/>
            <a:ext cx="20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952880" y="1832040"/>
            <a:ext cx="0" cy="464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895480" y="1755720"/>
            <a:ext cx="0" cy="472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74880" y="2021040"/>
            <a:ext cx="4282920" cy="44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CTVAL              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             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           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            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Address              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CTV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      5+Func(5,1) =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           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           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Address         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106960" y="5052960"/>
            <a:ext cx="3330000" cy="1422000"/>
            <a:chOff x="5106960" y="5052960"/>
            <a:chExt cx="3330000" cy="1422000"/>
          </a:xfrm>
        </p:grpSpPr>
        <p:sp>
          <p:nvSpPr>
            <p:cNvPr id="306" name=""/>
            <p:cNvSpPr/>
            <p:nvPr/>
          </p:nvSpPr>
          <p:spPr>
            <a:xfrm flipV="1">
              <a:off x="5106960" y="5765400"/>
              <a:ext cx="758880" cy="70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108400" y="5052960"/>
              <a:ext cx="758880" cy="7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847120" y="5649840"/>
              <a:ext cx="2589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record for Func(5,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5924880" y="3468600"/>
            <a:ext cx="28429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call in Func(5,2)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at instruction 5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pushes on this rec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for  Func(5,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8720" y="3505320"/>
            <a:ext cx="20541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5106960" y="5052960"/>
            <a:ext cx="760320" cy="1422000"/>
            <a:chOff x="5106960" y="5052960"/>
            <a:chExt cx="760320" cy="1422000"/>
          </a:xfrm>
        </p:grpSpPr>
        <p:sp>
          <p:nvSpPr>
            <p:cNvPr id="312" name=""/>
            <p:cNvSpPr/>
            <p:nvPr/>
          </p:nvSpPr>
          <p:spPr>
            <a:xfrm flipV="1">
              <a:off x="5106960" y="5765400"/>
              <a:ext cx="758880" cy="7095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08400" y="5052960"/>
              <a:ext cx="758880" cy="7113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5106960" y="3505320"/>
            <a:ext cx="760320" cy="1422000"/>
            <a:chOff x="5106960" y="3505320"/>
            <a:chExt cx="760320" cy="1422000"/>
          </a:xfrm>
        </p:grpSpPr>
        <p:sp>
          <p:nvSpPr>
            <p:cNvPr id="315" name=""/>
            <p:cNvSpPr/>
            <p:nvPr/>
          </p:nvSpPr>
          <p:spPr>
            <a:xfrm flipV="1">
              <a:off x="5106960" y="4217760"/>
              <a:ext cx="758880" cy="7095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108400" y="3505320"/>
              <a:ext cx="758880" cy="7113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9917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imes New Roman"/>
              </a:rPr>
              <a:t>Run-Time Stack Activation Records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 </a:t>
            </a:r>
            <a:br>
              <a:rPr sz="2400"/>
            </a:br>
            <a:br>
              <a:rPr sz="10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Func(5, 2);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 original call at instruction 100</a:t>
            </a:r>
            <a:r>
              <a:rPr b="1" lang="en-US" sz="4000" spc="-1" strike="noStrike">
                <a:solidFill>
                  <a:srgbClr val="006666"/>
                </a:solidFill>
                <a:latin typeface="Courier New"/>
              </a:rPr>
              <a:t> </a:t>
            </a:r>
            <a:endParaRPr b="1" lang="en-US" sz="40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EF2F-E60C-41D0-A2A3-960581CE00B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2898720" y="1981080"/>
            <a:ext cx="2054160" cy="4489560"/>
            <a:chOff x="2898720" y="1981080"/>
            <a:chExt cx="2054160" cy="4489560"/>
          </a:xfrm>
        </p:grpSpPr>
        <p:sp>
          <p:nvSpPr>
            <p:cNvPr id="319" name=""/>
            <p:cNvSpPr/>
            <p:nvPr/>
          </p:nvSpPr>
          <p:spPr>
            <a:xfrm>
              <a:off x="2901960" y="1987560"/>
              <a:ext cx="2044800" cy="44830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2898720" y="4952880"/>
              <a:ext cx="2054160" cy="1162080"/>
              <a:chOff x="2898720" y="4952880"/>
              <a:chExt cx="2054160" cy="1162080"/>
            </a:xfrm>
          </p:grpSpPr>
          <p:sp>
            <p:nvSpPr>
              <p:cNvPr id="321" name=""/>
              <p:cNvSpPr/>
              <p:nvPr/>
            </p:nvSpPr>
            <p:spPr>
              <a:xfrm>
                <a:off x="2898720" y="6114960"/>
                <a:ext cx="2054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898720" y="5824440"/>
                <a:ext cx="2054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898720" y="5533920"/>
                <a:ext cx="2054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898720" y="5243400"/>
                <a:ext cx="2054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898720" y="4952880"/>
                <a:ext cx="20541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2898720" y="4662360"/>
              <a:ext cx="20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98720" y="4371840"/>
              <a:ext cx="20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898720" y="4086360"/>
              <a:ext cx="20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898720" y="3795840"/>
              <a:ext cx="20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2898720" y="1981080"/>
              <a:ext cx="2054160" cy="1162080"/>
              <a:chOff x="2898720" y="1981080"/>
              <a:chExt cx="2054160" cy="1162080"/>
            </a:xfrm>
          </p:grpSpPr>
          <p:sp>
            <p:nvSpPr>
              <p:cNvPr id="331" name=""/>
              <p:cNvSpPr/>
              <p:nvPr/>
            </p:nvSpPr>
            <p:spPr>
              <a:xfrm>
                <a:off x="2898720" y="3143160"/>
                <a:ext cx="2054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898720" y="2852640"/>
                <a:ext cx="2054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898720" y="2562120"/>
                <a:ext cx="2054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898720" y="2271600"/>
                <a:ext cx="2054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898720" y="1981080"/>
                <a:ext cx="20541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6" name=""/>
          <p:cNvSpPr/>
          <p:nvPr/>
        </p:nvSpPr>
        <p:spPr>
          <a:xfrm>
            <a:off x="4952880" y="1832040"/>
            <a:ext cx="0" cy="464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895480" y="1755720"/>
            <a:ext cx="0" cy="472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974880" y="1981080"/>
            <a:ext cx="4282920" cy="44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CTVAL              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             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           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            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Address             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CTVAL             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      5+Func(5,0) =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           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            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Address              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CTVAL              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      5+Func(5,1) =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           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           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Address         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106960" y="3557520"/>
            <a:ext cx="3406320" cy="2917440"/>
            <a:chOff x="5106960" y="3557520"/>
            <a:chExt cx="3406320" cy="2917440"/>
          </a:xfrm>
        </p:grpSpPr>
        <p:sp>
          <p:nvSpPr>
            <p:cNvPr id="340" name=""/>
            <p:cNvSpPr/>
            <p:nvPr/>
          </p:nvSpPr>
          <p:spPr>
            <a:xfrm flipV="1">
              <a:off x="5106960" y="5765400"/>
              <a:ext cx="758880" cy="7095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108400" y="5052960"/>
              <a:ext cx="758880" cy="7113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847120" y="5649840"/>
              <a:ext cx="2589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record for Func(5,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183280" y="4268520"/>
              <a:ext cx="758880" cy="7110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84720" y="3557520"/>
              <a:ext cx="758880" cy="7095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23440" y="4154400"/>
              <a:ext cx="2589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record for Func(5,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 flipV="1">
            <a:off x="5183280" y="2771640"/>
            <a:ext cx="758880" cy="71136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84720" y="2060640"/>
            <a:ext cx="758880" cy="70956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924520" y="1893960"/>
            <a:ext cx="29131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call in Func(5,1)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at instruction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pushes on this reco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for Func(5,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98720" y="3505320"/>
            <a:ext cx="20541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-360" y="609480"/>
            <a:ext cx="89917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imes New Roman"/>
              </a:rPr>
              <a:t>Run-Time Stack Activation Records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 </a:t>
            </a:r>
            <a:br>
              <a:rPr sz="2400"/>
            </a:br>
            <a:br>
              <a:rPr sz="10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Func(5, 2);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 original call at instruction 100</a:t>
            </a:r>
            <a:r>
              <a:rPr b="1" lang="en-US" sz="4000" spc="-1" strike="noStrike">
                <a:solidFill>
                  <a:srgbClr val="006666"/>
                </a:solidFill>
                <a:latin typeface="Courier New"/>
              </a:rPr>
              <a:t> </a:t>
            </a:r>
            <a:endParaRPr b="1" lang="en-US" sz="40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F7FF-A308-4BA4-A6AA-584E6B4BB13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"/>
          <p:cNvGrpSpPr/>
          <p:nvPr/>
        </p:nvGrpSpPr>
        <p:grpSpPr>
          <a:xfrm>
            <a:off x="2898720" y="1981080"/>
            <a:ext cx="2054160" cy="4489560"/>
            <a:chOff x="2898720" y="1981080"/>
            <a:chExt cx="2054160" cy="4489560"/>
          </a:xfrm>
        </p:grpSpPr>
        <p:sp>
          <p:nvSpPr>
            <p:cNvPr id="352" name=""/>
            <p:cNvSpPr/>
            <p:nvPr/>
          </p:nvSpPr>
          <p:spPr>
            <a:xfrm>
              <a:off x="2901960" y="1987560"/>
              <a:ext cx="2044800" cy="44830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2898720" y="4952880"/>
              <a:ext cx="2054160" cy="1162080"/>
              <a:chOff x="2898720" y="4952880"/>
              <a:chExt cx="2054160" cy="1162080"/>
            </a:xfrm>
          </p:grpSpPr>
          <p:sp>
            <p:nvSpPr>
              <p:cNvPr id="354" name=""/>
              <p:cNvSpPr/>
              <p:nvPr/>
            </p:nvSpPr>
            <p:spPr>
              <a:xfrm>
                <a:off x="2898720" y="6114960"/>
                <a:ext cx="2054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898720" y="5824440"/>
                <a:ext cx="2054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898720" y="5533920"/>
                <a:ext cx="2054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898720" y="5243400"/>
                <a:ext cx="2054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898720" y="4952880"/>
                <a:ext cx="20541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2898720" y="4662360"/>
              <a:ext cx="20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98720" y="4371840"/>
              <a:ext cx="20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98720" y="4086360"/>
              <a:ext cx="20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898720" y="3795840"/>
              <a:ext cx="20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2898720" y="1981080"/>
              <a:ext cx="2054160" cy="1162080"/>
              <a:chOff x="2898720" y="1981080"/>
              <a:chExt cx="2054160" cy="1162080"/>
            </a:xfrm>
          </p:grpSpPr>
          <p:sp>
            <p:nvSpPr>
              <p:cNvPr id="364" name=""/>
              <p:cNvSpPr/>
              <p:nvPr/>
            </p:nvSpPr>
            <p:spPr>
              <a:xfrm>
                <a:off x="2898720" y="3143160"/>
                <a:ext cx="2054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898720" y="2852640"/>
                <a:ext cx="2054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898720" y="2562120"/>
                <a:ext cx="2054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898720" y="2271600"/>
                <a:ext cx="2054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898720" y="1981080"/>
                <a:ext cx="20541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9" name=""/>
          <p:cNvSpPr/>
          <p:nvPr/>
        </p:nvSpPr>
        <p:spPr>
          <a:xfrm>
            <a:off x="4952880" y="1832040"/>
            <a:ext cx="0" cy="464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1755720"/>
            <a:ext cx="0" cy="472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990720" y="1981080"/>
            <a:ext cx="4282920" cy="44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CTVAL            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            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           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            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Address             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CTVAL             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      5+Func(5,0) =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           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            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Address              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CTVAL              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      5+Func(5,1) =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           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           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Address         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183280" y="2771640"/>
            <a:ext cx="758880" cy="71136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84720" y="2060640"/>
            <a:ext cx="758880" cy="70956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923440" y="2655720"/>
            <a:ext cx="25898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record for Func(5,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is popped fir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with its FCT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898720" y="3505320"/>
            <a:ext cx="20541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680" y="2133720"/>
            <a:ext cx="761040" cy="289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5" y="0"/>
                </a:moveTo>
                <a:arcTo wR="10800" hR="10800" stAng="-5414316" swAng="6049528"/>
                <a:lnTo>
                  <a:pt x="10800" y="10800"/>
                </a:lnTo>
                <a:close/>
              </a:path>
              <a:path fill="none" w="21600" h="21600">
                <a:moveTo>
                  <a:pt x="10755" y="0"/>
                </a:moveTo>
                <a:arcTo wR="10800" hR="10800" stAng="-5414316" swAng="6049528"/>
              </a:path>
            </a:pathLst>
          </a:custGeom>
          <a:noFill/>
          <a:ln cap="rnd"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60" y="609480"/>
            <a:ext cx="89917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imes New Roman"/>
              </a:rPr>
              <a:t>Run-Time Stack Activation Records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 </a:t>
            </a:r>
            <a:br>
              <a:rPr sz="2400"/>
            </a:br>
            <a:br>
              <a:rPr sz="10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Func(5, 2);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 original call at instruction 100</a:t>
            </a:r>
            <a:r>
              <a:rPr b="1" lang="en-US" sz="4000" spc="-1" strike="noStrike">
                <a:solidFill>
                  <a:srgbClr val="006666"/>
                </a:solidFill>
                <a:latin typeface="Courier New"/>
              </a:rPr>
              <a:t> </a:t>
            </a:r>
            <a:endParaRPr b="1" lang="en-US" sz="40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5106960" y="5765400"/>
            <a:ext cx="758880" cy="70956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108400" y="5052960"/>
            <a:ext cx="758880" cy="71136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847120" y="5649840"/>
            <a:ext cx="258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record for Func(5,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5183280" y="4268520"/>
            <a:ext cx="758880" cy="71100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184720" y="3557520"/>
            <a:ext cx="758880" cy="70956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923440" y="4154400"/>
            <a:ext cx="258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record for Func(5,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4ABB-A5A8-461C-A733-72FCB69CBC0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901960" y="3511440"/>
            <a:ext cx="2044800" cy="29592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2898720" y="4952880"/>
            <a:ext cx="2054160" cy="1162080"/>
            <a:chOff x="2898720" y="4952880"/>
            <a:chExt cx="2054160" cy="1162080"/>
          </a:xfrm>
        </p:grpSpPr>
        <p:sp>
          <p:nvSpPr>
            <p:cNvPr id="386" name=""/>
            <p:cNvSpPr/>
            <p:nvPr/>
          </p:nvSpPr>
          <p:spPr>
            <a:xfrm>
              <a:off x="2898720" y="6114960"/>
              <a:ext cx="20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898720" y="5824440"/>
              <a:ext cx="20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8720" y="5533920"/>
              <a:ext cx="20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898720" y="5243400"/>
              <a:ext cx="20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98720" y="4952880"/>
              <a:ext cx="20541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2898720" y="4662360"/>
            <a:ext cx="20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898720" y="4371840"/>
            <a:ext cx="20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898720" y="4086360"/>
            <a:ext cx="20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898720" y="3795840"/>
            <a:ext cx="20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52880" y="1828800"/>
            <a:ext cx="0" cy="464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895480" y="1755720"/>
            <a:ext cx="0" cy="472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5106960" y="5765400"/>
            <a:ext cx="758880" cy="70956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108400" y="5052960"/>
            <a:ext cx="758880" cy="71136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47120" y="5649840"/>
            <a:ext cx="258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record for Func(5,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5183280" y="4268520"/>
            <a:ext cx="758880" cy="71100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184720" y="3557520"/>
            <a:ext cx="758880" cy="70956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923440" y="4154400"/>
            <a:ext cx="25898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record for Func(5,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is popped 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with its FCT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898720" y="3505320"/>
            <a:ext cx="20541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510000" y="3657600"/>
            <a:ext cx="761760" cy="2896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5" y="0"/>
                </a:moveTo>
                <a:arcTo wR="10800" hR="10800" stAng="-5414316" swAng="6049528"/>
                <a:lnTo>
                  <a:pt x="10800" y="10800"/>
                </a:lnTo>
                <a:close/>
              </a:path>
              <a:path fill="none" w="21600" h="21600">
                <a:moveTo>
                  <a:pt x="10755" y="0"/>
                </a:moveTo>
                <a:arcTo wR="10800" hR="10800" stAng="-5414316" swAng="6049528"/>
              </a:path>
            </a:pathLst>
          </a:custGeom>
          <a:noFill/>
          <a:ln cap="rnd"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9917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imes New Roman"/>
              </a:rPr>
              <a:t>Run-Time Stack Activation Records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 </a:t>
            </a:r>
            <a:br>
              <a:rPr sz="2400"/>
            </a:br>
            <a:br>
              <a:rPr sz="10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Func(5, 2);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 original call at instruction 100</a:t>
            </a:r>
            <a:r>
              <a:rPr b="1" lang="en-US" sz="4000" spc="-1" strike="noStrike">
                <a:solidFill>
                  <a:srgbClr val="006666"/>
                </a:solidFill>
                <a:latin typeface="Courier New"/>
              </a:rPr>
              <a:t> </a:t>
            </a:r>
            <a:endParaRPr b="1" lang="en-US" sz="40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990720" y="1981080"/>
            <a:ext cx="4282920" cy="44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CTVAL             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  5+Func(5,0) = 5+ 0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b            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            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Address              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CTVAL              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      5+Func(5,1) =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           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           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Address         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6E77-F558-4699-A3E4-38E052D521B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2901960" y="4959360"/>
            <a:ext cx="2044800" cy="1511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974880" y="1981080"/>
            <a:ext cx="4282920" cy="44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CTVAL            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   5+Func(5,1) = 5+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           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           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Address         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2898720" y="4952880"/>
            <a:ext cx="2054160" cy="1162080"/>
            <a:chOff x="2898720" y="4952880"/>
            <a:chExt cx="2054160" cy="1162080"/>
          </a:xfrm>
        </p:grpSpPr>
        <p:sp>
          <p:nvSpPr>
            <p:cNvPr id="410" name=""/>
            <p:cNvSpPr/>
            <p:nvPr/>
          </p:nvSpPr>
          <p:spPr>
            <a:xfrm>
              <a:off x="2898720" y="6114960"/>
              <a:ext cx="20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898720" y="5824440"/>
              <a:ext cx="20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898720" y="5533920"/>
              <a:ext cx="20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98720" y="5243400"/>
              <a:ext cx="20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898720" y="4952880"/>
              <a:ext cx="20541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4952880" y="1832040"/>
            <a:ext cx="0" cy="464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895480" y="1755720"/>
            <a:ext cx="0" cy="472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5106960" y="5765400"/>
            <a:ext cx="758880" cy="70956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8400" y="5052960"/>
            <a:ext cx="758880" cy="71136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847120" y="5649840"/>
            <a:ext cx="25898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record for Func(5,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is popped l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with its FCT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590920" y="-1905120"/>
            <a:ext cx="2133000" cy="701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-360" y="609480"/>
            <a:ext cx="89917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imes New Roman"/>
              </a:rPr>
              <a:t>Run-Time Stack Activation Records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 </a:t>
            </a:r>
            <a:br>
              <a:rPr sz="2400"/>
            </a:br>
            <a:br>
              <a:rPr sz="10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Func(5, 2);</a:t>
            </a:r>
            <a:r>
              <a:rPr b="1" lang="en-US" sz="2400" spc="-1" strike="noStrike">
                <a:solidFill>
                  <a:srgbClr val="006666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 original call at instruction 100</a:t>
            </a:r>
            <a:r>
              <a:rPr b="1" lang="en-US" sz="4000" spc="-1" strike="noStrike">
                <a:solidFill>
                  <a:srgbClr val="006666"/>
                </a:solidFill>
                <a:latin typeface="Courier New"/>
              </a:rPr>
              <a:t> </a:t>
            </a:r>
            <a:endParaRPr b="1" lang="en-US" sz="40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C0A4-86E6-44C0-BC33-3BF9336B6F8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120" y="1447920"/>
            <a:ext cx="76964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imes New Roman"/>
              </a:rPr>
              <a:t>Show Activation Records for these calls       </a:t>
            </a:r>
            <a:endParaRPr b="1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040" y="1827360"/>
            <a:ext cx="75438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= Func( - 5,  - 3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= Func( 5, - 3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operation does Func(a, b) simulate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C0E5-10FD-4CE1-9AAD-23E4117DD4A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imes New Roman"/>
              </a:rPr>
              <a:t>Finding a Recursive Solution</a:t>
            </a:r>
            <a:endParaRPr b="1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recursive solution to a problem must be written carefu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dea is for each successive recursive call to bring you one step closer to a situation in which the problem can easily be solv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easily solved situation is called the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base ca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in other texts, the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stopping ca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boundary cond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recursive algorithm must have at least one base case, as well as a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gener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recursive) ca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F0C2-5BE1-4EB8-B5B2-5FA0DE5219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imes New Roman"/>
              </a:rPr>
              <a:t>Write a function . . .       </a:t>
            </a:r>
            <a:endParaRPr b="1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750680"/>
            <a:ext cx="7772400" cy="449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 that takes an arra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two subscripts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ig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s arguments, and returns the sum of the element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low] + . . . + a[high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the function two ways - - using iteration and using recur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your recursive definition’s base case, for what kind of array do you know the valu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(a, low, high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ight aw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81B4-2D92-4D85-AA38-5D6846D2689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461880" y="463680"/>
            <a:ext cx="8218440" cy="539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838080" y="280800"/>
            <a:ext cx="7772400" cy="512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// Recursive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  Sum (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/* in *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const  int  a[ ]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/* in */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   low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/* in */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   high )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//  Pre:     Assigned( a [ low . . .high ] )  &amp;&amp;  low &lt;= 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//  Post:   Function value == sum of elements a [ low . . .high ]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 ( low == high 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//  base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 a [low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//  general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 a [low] + Sum( a, low + 1, high 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4E42-FE57-47D5-BD36-81A54BD6199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imes New Roman"/>
              </a:rPr>
              <a:t>Write a function . . .       </a:t>
            </a:r>
            <a:endParaRPr b="1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750680"/>
            <a:ext cx="7620120" cy="449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66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arSearch that takes an arra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two subscripts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ig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ke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arguments.  Return -1 i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ke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not found in the element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low...high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Otherwise, return the subscript wher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ke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fo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the function two ways - - using iteration and using recur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your recursive definition’s base case(s), for what kinds of arrays do you know the valu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nearSearch(a, low, high, key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ight aw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6F5D-3B44-4584-A3D4-6B26A7027ED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461880" y="158760"/>
            <a:ext cx="8218440" cy="6464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609480" y="76320"/>
            <a:ext cx="7772400" cy="63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// Recursive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  LinearSearch  (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/* in *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const  int  a[ ] ,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/* in */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   low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                                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/* in */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   high,         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/* in */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   key )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//  Pre:         Assigned( a [ low . . high ] )  &amp;&amp;  low &lt;= 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//           &amp;&amp;  Assigned (key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//  Post:     (key in a [ low . . high] ) --&gt; a[FCTVAL] ==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//           &amp;&amp;   (key not in a [ low . . high] ) --&gt;FCTVAL ==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 ( a [ low ]  == key 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//  base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 low 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 if ( low == high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//  second base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 -1 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//  general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 LinearSearch( a, low + 1, high, key 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1F07-0740-4217-99FD-DDF939E020F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imes New Roman"/>
              </a:rPr>
              <a:t>Function </a:t>
            </a:r>
            <a:r>
              <a:rPr b="1" lang="en-US" sz="4400" spc="-1" strike="noStrike">
                <a:solidFill>
                  <a:srgbClr val="006666"/>
                </a:solidFill>
                <a:latin typeface="Courier New"/>
              </a:rPr>
              <a:t>BinarySearch( )</a:t>
            </a:r>
            <a:r>
              <a:rPr b="1" lang="en-US" sz="4400" spc="-1" strike="noStrike">
                <a:solidFill>
                  <a:srgbClr val="006666"/>
                </a:solidFill>
                <a:latin typeface="Times New Roman"/>
              </a:rPr>
              <a:t>      </a:t>
            </a:r>
            <a:endParaRPr b="1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990720" y="2131920"/>
            <a:ext cx="723888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takes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r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ra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two subscripts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ig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ke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arguments.  It returns -1 i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ke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not found in the element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low...high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otherwise, it returns the subscript wher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ke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foun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n also be written using iteration, or using recurs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57BA-7815-4DD8-9544-E6C890043AD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914400" y="2514600"/>
            <a:ext cx="8077320" cy="16002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066680" y="5715000"/>
            <a:ext cx="457200" cy="4572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848720" y="4800600"/>
            <a:ext cx="457200" cy="4572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315200" y="5410080"/>
            <a:ext cx="457200" cy="4572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705720" y="4191120"/>
            <a:ext cx="457200" cy="4572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495680" y="3581280"/>
            <a:ext cx="457200" cy="4572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urier New"/>
              </a:rPr>
              <a:t>x = BinarySearch(a, 0, 14, 25 );</a:t>
            </a:r>
            <a:r>
              <a:rPr b="1" lang="en-US" sz="4400" spc="-1" strike="noStrike">
                <a:solidFill>
                  <a:srgbClr val="006666"/>
                </a:solidFill>
                <a:latin typeface="Times New Roman"/>
              </a:rPr>
              <a:t>       </a:t>
            </a:r>
            <a:endParaRPr b="1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22760" y="1782720"/>
            <a:ext cx="890856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ow        high         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cri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     1     2     3     4     5      6      7      8      9     10    11    12    13    14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r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     2     4     6     8    10    12    14    16    18    20    22    24    26    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    18    20    22    24    26    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    26    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NOTE:         denotes element exam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917640" y="3276720"/>
            <a:ext cx="807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4803480" y="1146240"/>
            <a:ext cx="2892240" cy="606240"/>
            <a:chOff x="4803480" y="1146240"/>
            <a:chExt cx="2892240" cy="606240"/>
          </a:xfrm>
        </p:grpSpPr>
        <p:sp>
          <p:nvSpPr>
            <p:cNvPr id="444" name=""/>
            <p:cNvSpPr/>
            <p:nvPr/>
          </p:nvSpPr>
          <p:spPr>
            <a:xfrm flipH="1">
              <a:off x="4803480" y="1146240"/>
              <a:ext cx="911160" cy="60624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6784560" y="1146240"/>
              <a:ext cx="911160" cy="60624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5641560" y="1146240"/>
              <a:ext cx="911160" cy="60624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52A3-4961-45C5-8402-C0AC3280A644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311040" y="158760"/>
            <a:ext cx="8521920" cy="6616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533520" y="151920"/>
            <a:ext cx="8229600" cy="634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// Iterative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 BinarySearch   (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/* in *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const  int  a[ ] ,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/* in */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   low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                                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/* in */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   high,         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/* in */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   key )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//    Pre:   a [ low . . high ] in ascending order  &amp;&amp;  Assigned (key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//    Post:     (key in a [ low . . high] ) --&gt; a[FCTVAL] ==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//            &amp;&amp;   (key not in a [ low . . high] ) --&gt;FCTVAL ==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m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 ( low &lt;= high 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              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// more to exam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mid = (low + high) / 2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( a [ mid ] == key )          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// found at m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 mid 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 if ( key &lt; a [ mid ] )    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//  search in lower hal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= mid - 1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//  search in upper ha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 = mid + 1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-1 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// key was not f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F234-4CD4-404D-9A7C-5EDC75BD2E9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311040" y="158760"/>
            <a:ext cx="8521920" cy="6616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533520" y="151920"/>
            <a:ext cx="8229600" cy="634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// Recursive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 BinarySearch   (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/* in *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const  int  a[ ] ,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/* in */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   low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                                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/* in */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   high,         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/* in */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   key )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//    Pre:   a [ low . . high ] in ascending order  &amp;&amp;  Assigned (key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//    Post:     (key in a [ low . . high] ) --&gt; a[FCTVAL] ==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//            &amp;&amp;   (key not in a [ low . . high] ) --&gt;FCTVAL ==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            int  mid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 ( low &gt; high 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//  base case -- not f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 -1;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d = (low + high) / 2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( a [ mid ] == key )          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//  base case-- found at m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 mid 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 if ( key &lt; a [ mid ] )    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//  search in lower hal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BinarySearch ( a, low, mid - 1, key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//  search in upper ha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 BinarySearch( a, mid + 1, high, key 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EC70-4C79-4069-A098-6951573695C7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imes New Roman"/>
              </a:rPr>
              <a:t>Write a function . . .       </a:t>
            </a:r>
            <a:endParaRPr b="1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09480" y="1750680"/>
            <a:ext cx="7772400" cy="449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inim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takes an arra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he array as arguments, and returns the smallest element of the array, that is, it returns the smallest valu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0] . . . a[size-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the function two ways - - using iteration and using recur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your recursive definition’s base case, for what kind of array do you know the valu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inimum(a, size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ight aw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3272-00C9-4BE8-9009-0E98048B729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461880" y="463680"/>
            <a:ext cx="8218440" cy="608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838080" y="509400"/>
            <a:ext cx="7467840" cy="512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// Recursive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 Minimum  (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/* in *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const  int  a[ ] ,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/* in */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   size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//  Pre:     Assigned( a [ 0 . . (size - 1) ] )  &amp;&amp;  size &gt;=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//  Post:   Function value == smallest of a [ 0 . . (size - 1) ]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 ( size == 1 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//  base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 a [ 0 ]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 {                                  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//  general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 y = Minimum ( a, size - 1 )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 ( y &lt; a [size - 1]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 y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a [ size -1 ]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634C-D552-46CC-B7E2-584AD28FA01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9640" y="2063880"/>
            <a:ext cx="8070840" cy="356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imes New Roman"/>
              </a:rPr>
              <a:t>General format for</a:t>
            </a:r>
            <a:br>
              <a:rPr sz="4400"/>
            </a:br>
            <a:r>
              <a:rPr b="1" lang="en-US" sz="4400" spc="-1" strike="noStrike">
                <a:solidFill>
                  <a:srgbClr val="006666"/>
                </a:solidFill>
                <a:latin typeface="Times New Roman"/>
              </a:rPr>
              <a:t>Many Recursive Functions</a:t>
            </a:r>
            <a:endParaRPr b="1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784872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  (some easily-solved condition)     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// bas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1" i="1" lang="en-US" sz="2400" spc="-1" strike="noStrike">
                <a:solidFill>
                  <a:srgbClr val="ff6633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6633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6633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6633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6633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6633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6633"/>
                </a:solidFill>
                <a:latin typeface="Arial"/>
              </a:rPr>
              <a:t>          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// general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ursive function c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60000" y="6004080"/>
            <a:ext cx="3353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ME EXAMPLES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2EFF-76AE-4210-B203-6A30698E7D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Writing a Iterative Function to Find the Sum of the Numbers from 1 to n</a:t>
            </a:r>
            <a:endParaRPr b="1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unction call Summation(4) should have value 10, because that is 1 + 2 + 3 + 4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 Summation ( </a:t>
            </a: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/* in *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nt   n 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sum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(int i=0; i&lt;=n; i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 += i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su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5267-7EB5-4DB0-846B-55E85A3D56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Writing a Recursive Function to Find the Sum of the Numbers from 1 to n</a:t>
            </a:r>
            <a:endParaRPr b="1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DISCU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unction call Summation(4) should have value 10, because that is 1 + 2 + 3 + 4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or an easily-solved situation, the sum of the numbers from 1 to 1 is certainly just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our base case could be along the line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 ( n == 1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1;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FE31-7A5F-4D8F-BDC9-66827E9F00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Writing a Recursive Function to Find the Sum of the Numbers from 1 to n</a:t>
            </a:r>
            <a:endParaRPr b="1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 for the general case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um of the numbers from 1 to n, that i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+ 2 + . . . + n     can be written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 +  the sum of the numbers from 1 to (n - 1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is,  n  +   1  +  2  + . . . +  (n -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,         n   +    Summation(n -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notice that the recursive call  Summation(n - 1) gets us “closer” to the base case of  Summation(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4228920" y="2781000"/>
            <a:ext cx="457200" cy="2971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7F64-01F5-4B9E-8474-512E3709DE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12:40Z</dcterms:created>
  <dc:creator>Sylvia Sorkin</dc:creator>
  <dc:description/>
  <dc:language>en-US</dc:language>
  <cp:lastModifiedBy>Victor R. Volkman</cp:lastModifiedBy>
  <cp:lastPrinted>1999-05-15T08:45:39Z</cp:lastPrinted>
  <dcterms:modified xsi:type="dcterms:W3CDTF">2000-11-22T01:21:46Z</dcterms:modified>
  <cp:revision>164</cp:revision>
  <dc:subject>C++ recursion, base case, general case, trace of calls, run-time stack, activation records </dc:subject>
  <dc:title>Programming and Problem Solving with C++, 2/e</dc:title>
</cp:coreProperties>
</file>