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CBCB-416B-455C-9B9D-0DA69489D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00C6-BC41-4398-8163-708EDDD5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AAFD-FB39-4B70-B62E-484CF6952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FDE5-4838-4A2A-85EB-F6C300DBE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81D8-CE65-4B76-A1B9-FB57F39C5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FF00-24B4-4B67-836A-0F12E5F2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1DF3-95BF-4205-907D-4ACFA890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194D-F0D8-452B-BC14-C042E39B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626A-684F-4299-9FB9-38F74115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14580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EBEE-3792-4DA3-A890-4EA658F3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E3D7-E225-442E-947B-D2B31464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6758-F333-4902-94FD-88385627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EF88-2C8A-4215-BBEC-9AE50CFA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0349-9A00-4633-A020-5F52E12F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E001-CB33-4D67-9C38-FEA3B289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7546-5199-4D7B-A68B-5A52A8359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C726-AF17-4950-BE2C-EA9A6151B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DF01-DFD9-4D69-B9D4-2AF1733D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8C52-4BF6-44AF-A647-44A23D87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7CAC-6E64-40EA-9278-65997731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14580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8B18-2F51-4D47-9886-734D8D02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8631-E8BB-4B37-B4C2-5064FE6A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0998-1C8E-40F1-8976-78278F8C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9B33-299E-4C7E-8C3F-4F323ED5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9999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99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9999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DE31-25B2-447E-8A15-7EBF4F6B0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5C0A-76D4-41D9-A999-B9580B447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6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330099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9999ff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0099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SzPct val="8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1960" y="1031760"/>
            <a:ext cx="7805880" cy="216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CPS171</a:t>
            </a:r>
            <a:br>
              <a:rPr sz="4400"/>
            </a:b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Introduction to Programming with C++</a:t>
            </a: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12th,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F5D7-17B8-4126-ADBB-544CB2E16C2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4950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More About Floating Point Values</a:t>
            </a: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055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ating point numbers have an integer part and a fractional part, with a decimal point in between. Either the integer part or the fractional part, but not both, may be mi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EXAMP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18.4          500.         .8          -127.358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ively, floating point values can have an exponent, as in scientific notation--the number preceding the letter E doesn’t need to include a decimal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EXAMPLES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1.84E1       5E2       8E-1        -.127358E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9658-9565-48C5-A39F-F06EA268E13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6108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Division Operator</a:t>
            </a: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ult of the division operator depends on the type of its operand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one or both operands has a floating point type, the result is a floating point type.  Otherwise, the result is an integer typ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xamp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 / 4           has value   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 / 4.0    has value    2.7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 / 4.0       has value     2.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9860-AC33-4322-B28B-5CA354855BB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62120" y="4827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Main returns an int value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the operating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3680" y="1568520"/>
            <a:ext cx="8140680" cy="505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7680" y="1638360"/>
            <a:ext cx="801684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*************************************************************************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  FreezeBoil 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  This program computes the midpoint betw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  the freezing and boiling points of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*************************************************************************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include  &lt; iostream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 namespace  st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   float   FREEZE_PT  =   32.0 ;        // Freezing point of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   float   BOIL_PT       =  212.0 ;        // Boiling point of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 main ( 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at avgTemp 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// Holds the result of aver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 FREEZE_PT and BOIL_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B2F2-1EA1-4653-8042-D107E3E034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83808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Function main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7360" y="1530360"/>
            <a:ext cx="8292960" cy="463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1360" y="1447920"/>
            <a:ext cx="832176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t  &lt;&lt;  “Water freezes at “ &lt;&lt; FREEZE_PT  &lt;&lt; endl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t  &lt;&lt;  “ and boils at “ &lt;&lt; BOIL_PT  &lt;&lt; “ degrees.”  &lt;&lt; endl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gTemp  =  FREEZE_PT  +  BOIL_PT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gTemp  =  avgTemp  /  2.0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t  &lt;&lt;  “Halfway between is “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t  &lt;&lt;  avgTemp  &lt;&lt;  “ degrees.”  &lt;&lt;  endl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 0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8E1A-CC56-4C25-9C10-26A1DE7BDA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6108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Modulus Operator</a:t>
            </a: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9246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dulus operator  % can only be used with integer type operands and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lways has an integer type result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s result is the integer type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remaind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n integer divi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 %  4   has value   3  be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12440" y="5608800"/>
            <a:ext cx="32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05320" y="579132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11840" y="5729400"/>
            <a:ext cx="387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24920" y="5775480"/>
            <a:ext cx="532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56160" y="5195880"/>
            <a:ext cx="999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 =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CB55-24E0-4546-B445-25360E7B10F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47640" y="1809720"/>
            <a:ext cx="2781360" cy="403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380880"/>
            <a:ext cx="746748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More C++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46520" y="2673360"/>
            <a:ext cx="1671840" cy="11304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80040" y="2909880"/>
            <a:ext cx="36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5480" y="1995480"/>
            <a:ext cx="3822840" cy="36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  ag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 = 8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age = age + 1;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43600" y="5851440"/>
            <a:ext cx="1052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46520" y="4654440"/>
            <a:ext cx="1671840" cy="1054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95880" y="4890960"/>
            <a:ext cx="747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043600" y="3870360"/>
            <a:ext cx="976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BC0B-C9CC-44DE-8B94-A4F72B7631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19040" y="1809720"/>
            <a:ext cx="2781360" cy="403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0240" y="6602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PREFIX FORM</a:t>
            </a:r>
            <a:br>
              <a:rPr sz="4400"/>
            </a:b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Increment Op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8480" y="2673360"/>
            <a:ext cx="1739880" cy="11304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65640" y="2909880"/>
            <a:ext cx="38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7680" y="2300400"/>
            <a:ext cx="3978000" cy="33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  ag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 = 8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++age;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37040" y="5851440"/>
            <a:ext cx="709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8480" y="4654440"/>
            <a:ext cx="1739880" cy="1054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65640" y="4890960"/>
            <a:ext cx="777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37040" y="3870360"/>
            <a:ext cx="777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5F3A-9FFF-47C5-95D2-0A2FA09745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19040" y="1809720"/>
            <a:ext cx="2781360" cy="403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32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POSTFIX FORM </a:t>
            </a:r>
            <a:br>
              <a:rPr sz="4400"/>
            </a:b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Increment Op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8480" y="2673360"/>
            <a:ext cx="1739880" cy="11304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65640" y="2909880"/>
            <a:ext cx="38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3640" y="2300400"/>
            <a:ext cx="397836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  ag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 = 8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ge++;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013360" y="5851440"/>
            <a:ext cx="709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8480" y="4654440"/>
            <a:ext cx="1739880" cy="1054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65640" y="4890960"/>
            <a:ext cx="777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13360" y="3870360"/>
            <a:ext cx="777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1C8C-BF3A-42FC-BDEC-ECD687300E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19040" y="1809720"/>
            <a:ext cx="2781360" cy="403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Decrement Op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8480" y="2673360"/>
            <a:ext cx="1739880" cy="11304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012640" y="2909880"/>
            <a:ext cx="779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3640" y="2224080"/>
            <a:ext cx="397836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  dog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gs = 10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dogs--;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8480" y="4654440"/>
            <a:ext cx="1739880" cy="1054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36680" y="5851440"/>
            <a:ext cx="911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89680" y="4890960"/>
            <a:ext cx="777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61080" y="3870360"/>
            <a:ext cx="115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6D69-5EBA-44AE-B744-D7041388C0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901960" y="4654440"/>
            <a:ext cx="2806560" cy="596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Which Form to Use</a:t>
            </a: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increment (or decrement) operator is used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n a “</a:t>
            </a:r>
            <a:r>
              <a:rPr b="0" i="1" lang="en-US" sz="3200" spc="-1" strike="noStrike">
                <a:solidFill>
                  <a:srgbClr val="cc3300"/>
                </a:solidFill>
                <a:latin typeface="Arial"/>
              </a:rPr>
              <a:t>stand alone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” statement</a:t>
            </a:r>
            <a:r>
              <a:rPr b="0" lang="en-US" sz="3200" spc="-1" strike="noStrike">
                <a:solidFill>
                  <a:srgbClr val="51d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ely to add one  (or subtract one) from a variable’s value, it can be used in either prefix or postfix for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65880" y="5653080"/>
            <a:ext cx="6525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gs--</a:t>
            </a:r>
            <a:r>
              <a:rPr b="1" lang="en-US" sz="2800" spc="-1" strike="noStrike">
                <a:solidFill>
                  <a:srgbClr val="000000"/>
                </a:solidFill>
                <a:latin typeface="Brush Script M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Brush Script M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rush Script M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rush Script M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rush Script M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rush Script MT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dogs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61240" y="4746600"/>
            <a:ext cx="2096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USE  EI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752120" y="5105520"/>
            <a:ext cx="11430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15000" y="5105520"/>
            <a:ext cx="9907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752480" y="525744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52480" y="5410080"/>
            <a:ext cx="2286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6629400" y="525744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6476760" y="5486400"/>
            <a:ext cx="2286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4AD0-CE36-4A98-9B58-2BAE16C3841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Agenda</a:t>
            </a: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n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 assignment MP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out assignment MP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 (slides 32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sample programs from Chapter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9281-380A-4375-8647-B09F581C29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BUT...</a:t>
            </a: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increment (or decrement) operator is used in a statement with other operators, the prefix and postfix forms can yield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ul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15320" y="4967280"/>
            <a:ext cx="484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WE’LL SEE HOW LATER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1821-E818-4368-8E79-F07957FF803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What is an Expression in C++?</a:t>
            </a: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expre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valid arrangement of variables, constants, and operators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++ each expression can be evaluated to compute a value of a given typ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ue of the expre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3 * 4.5   is   41.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5FDA-F88D-4172-9629-1ACC61B599C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Operators can be</a:t>
            </a: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ina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ing 2 operands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2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una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ing 1 oper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-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erna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ing 3 operand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cc0000"/>
                </a:solidFill>
                <a:latin typeface="Arial"/>
              </a:rPr>
              <a:t>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6874-A7AF-48A3-B4FB-BE4C66B9EB7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901960" y="2216160"/>
            <a:ext cx="5854680" cy="4102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Some C++ Operators</a:t>
            </a: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reced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Operator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Higher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(   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New York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mai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Lower</a:t>
            </a: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19320" y="2666880"/>
            <a:ext cx="0" cy="304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2209680"/>
            <a:ext cx="830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95480" y="2743200"/>
            <a:ext cx="586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95480" y="3505320"/>
            <a:ext cx="586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962440" y="4876920"/>
            <a:ext cx="580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962440" y="5715000"/>
            <a:ext cx="580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219320" y="548604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 flipV="1">
            <a:off x="1066680" y="5486040"/>
            <a:ext cx="1526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F379-E957-4757-9E93-CBF268530C4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Precedence</a:t>
            </a: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1760" y="2209680"/>
            <a:ext cx="73911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Precedence determines which operator is applied first in an expression having several oper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3A46-4B7D-450A-917B-9BD8B4091B7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Associativity</a:t>
            </a: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ft to right Associativity means that in an expression having 2 operators with the same priority, the left operator is applied fir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C++ the binary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,   / ,  % ,  + ,  -   are all left associa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ression  9 - 5 - 1  means  ( 9 - 5 ) -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-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8A31-6B7E-4584-AC2E-D7A97B3DA7D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7  *  10  -  6  /  3  *  4  + 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means 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(7 * 10) -  6  /  3  *  4  + 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70  -  6  /  3  *  4  + 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70 - (6 / 3)  *  4  + 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70   -    2    *  4  + 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70  -  (  2  *  4 ) + 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70   -   8    +    9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( 70 -  8  )  +  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62     +  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Evaluate the Expression</a:t>
            </a: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16DB-1061-47E1-A6D9-9180A65F331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Parentheses</a:t>
            </a: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heses can be used to change the usual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s in (  ) are evaluated 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 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(7  * (10 - 5)  %  3)  *  4   +  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( 7  *  5   %  3  )   *  4   +  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(  35  %  3 )   *   4   +  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2    *   4   +  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8   +  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80A5-2077-469C-9514-5E97330A39D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83808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Mileage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3680" y="1530360"/>
            <a:ext cx="8140680" cy="509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7680" y="1662120"/>
            <a:ext cx="8169120" cy="46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This program computes miles per gallon given four amou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gallons used, and starting and ending mile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s:             The gallon amounts for four fill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arting mile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nding mile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(screen)      The calculated miles per gal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- - - - - - - - - - - - - - - - - - - - - - - - - - - - - - - - - - - - - - - - - -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include &lt;iostrea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namespace st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4DAB-2C53-4D84-85BC-1A245E7C932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83808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C++ Code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3680" y="1454040"/>
            <a:ext cx="8140680" cy="516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7680" y="1523880"/>
            <a:ext cx="832140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  float  AMT1 = 11.7 ;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Number of gallons for fill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  float  AMT2 = 14.3 ;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Number of gallons for fillup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  float  AMT3 = 12.2 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Number of gallons for fillup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  float  AMT4 =   8.5 ;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Number of gallons for fillup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  float  START_MILES = 67308.0 ;      // Starting mile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  float  END_MILES     = 68750.5 ;      // Ending mile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 main(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at mpg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// Computed miles per gal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g = (END_MILES - START_MILES)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MT1 + AMT2 + AMT3 + AMT4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6A0A-4836-440A-BE3C-71F15AE08A0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09680" y="1558800"/>
            <a:ext cx="664848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meric Types, Expressions, and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le/Weems/Heading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2B4D-F314-4D23-B88A-79696F8A87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596880" y="558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Main returns an int value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the operating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1040" y="1809720"/>
            <a:ext cx="8217000" cy="488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5040" y="1627200"/>
            <a:ext cx="8245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  &lt;&lt;  “For the gallon amounts “ &lt;&lt; endl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  &lt;&lt;  AMT1  &lt;&lt;  ‘ ‘ &lt;&lt;  AMT2  &lt;&lt;  ‘ 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&lt;  AMT3  &lt;&lt;  ‘ ‘ &lt;&lt;  AMT4  &lt;&lt;  endl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  &lt;&lt;  “and a starting mileage of  “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&lt; START_MILES  &lt;&lt; endl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  &lt;&lt;  “and an ending mileage of  “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&lt; END_MILES  &lt;&lt; endl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  &lt;&lt;  “the mileage per gallon is “ &lt;&lt; mpg  &lt;&lt; endl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9CE3-3F6D-4335-B61F-000B90BE615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39640" y="1758960"/>
            <a:ext cx="5854680" cy="7491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  =  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, Expression on right is evalu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the resulting value is stored in the memory location of Variable on lef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 An automatic type coercion occurs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fter evaluation but before the value is stor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types differ for Expression and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609120" y="19044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Assignment Operator Syntax</a:t>
            </a: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25A2-025C-40CD-A7B8-F32C0AFA816D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80880" y="1657440"/>
            <a:ext cx="2743200" cy="42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What value is stored?</a:t>
            </a: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at  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at  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= 8.5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= 9.37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= 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3816360" y="3968640"/>
            <a:ext cx="1434960" cy="1511280"/>
            <a:chOff x="3816360" y="3968640"/>
            <a:chExt cx="1434960" cy="1511280"/>
          </a:xfrm>
        </p:grpSpPr>
        <p:sp>
          <p:nvSpPr>
            <p:cNvPr id="264" name=""/>
            <p:cNvSpPr/>
            <p:nvPr/>
          </p:nvSpPr>
          <p:spPr>
            <a:xfrm>
              <a:off x="3816360" y="3968640"/>
              <a:ext cx="1434960" cy="74952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16360" y="4730760"/>
              <a:ext cx="1434960" cy="7491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6864480" y="3968640"/>
            <a:ext cx="1434960" cy="1511280"/>
            <a:chOff x="6864480" y="3968640"/>
            <a:chExt cx="1434960" cy="1511280"/>
          </a:xfrm>
        </p:grpSpPr>
        <p:sp>
          <p:nvSpPr>
            <p:cNvPr id="267" name=""/>
            <p:cNvSpPr/>
            <p:nvPr/>
          </p:nvSpPr>
          <p:spPr>
            <a:xfrm>
              <a:off x="6864480" y="3968640"/>
              <a:ext cx="1434960" cy="74952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864480" y="4730760"/>
              <a:ext cx="1434960" cy="7491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3336840" y="40989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36480" y="486108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08640" y="40989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08280" y="486108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50880" y="4052880"/>
            <a:ext cx="680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98600" y="4815000"/>
            <a:ext cx="878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375680" y="405288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451640" y="481500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524560" y="472428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248520" y="457200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6248160" y="4724280"/>
            <a:ext cx="22860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315B-A9F8-4677-A1B5-7721544F9B7C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0880" y="1670040"/>
            <a:ext cx="3486240" cy="42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What is stor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78480" y="2063880"/>
            <a:ext cx="1739880" cy="11300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241960" y="230040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2440" y="1843200"/>
            <a:ext cx="8297280" cy="27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at  someFloa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Flo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Float = 12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// causes implicit type co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708800" y="6080040"/>
            <a:ext cx="1607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Flo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654440" y="4883040"/>
            <a:ext cx="1739880" cy="10540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089680" y="5119560"/>
            <a:ext cx="1006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7046-33D4-4B63-BC7B-21A29F4D8673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80880" y="1670040"/>
            <a:ext cx="3257640" cy="42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What is stor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78480" y="2063880"/>
            <a:ext cx="1739880" cy="11300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241960" y="230040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2440" y="1843200"/>
            <a:ext cx="8297280" cy="27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  someIn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Int = 4.8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// causes implicit type co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707720" y="6080040"/>
            <a:ext cx="1270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654440" y="4883040"/>
            <a:ext cx="1739880" cy="10540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18280" y="5119560"/>
            <a:ext cx="777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C045-ECE0-4269-9BFD-E83DE40A9B8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83920" y="5774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Type Casting is Explicit Conversion of Type</a:t>
            </a: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(4.8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va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at(5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va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at(7/4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va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at(7) / float(4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va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3009-2F7C-449C-BBDB-99ACB116F86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49160" y="5079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Some Expressions</a:t>
            </a: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15328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ag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EXAMPLE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 = 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ag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+ 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/ 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0 / 5.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at ( 4 / 8 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at ( 4 ) / 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&lt;&lt; “How old are you?”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n   &gt;&gt;  ag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&lt;&lt; ag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4B9A-CAD2-43C9-9254-5ECEB462AC2C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24000" y="1562040"/>
            <a:ext cx="8496000" cy="466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What values are stored?</a:t>
            </a: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99960" y="175248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at  loCos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at  hiCos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ost = 12.34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Cost  = 12.348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ost = float (int (loCost * 100.0 + 0.5) ) / 100.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Cost  = float (int (hiCost * 100.0 + 0.5) ) / 100.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4FDC-54B2-4685-8FF6-65E64B3E3195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685800" y="469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Values were rounded to 2 decimal pl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78480" y="1835280"/>
            <a:ext cx="1739880" cy="13586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876920" y="2147760"/>
            <a:ext cx="1218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.3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09520" y="6033960"/>
            <a:ext cx="1289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78480" y="4502160"/>
            <a:ext cx="1663560" cy="13590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00600" y="4800600"/>
            <a:ext cx="1371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.3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69960" y="1889280"/>
            <a:ext cx="5730840" cy="27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CF4C-9013-4CB2-80E7-B17B1B1DDA73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Function Concept in Math</a:t>
            </a: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( x )  =  5 x -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 x = 1,  f ( x ) =  2   is the returned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 x = 4,  f ( x ) = 17  is the returned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66"/>
                </a:solidFill>
                <a:latin typeface="Arial"/>
              </a:rPr>
              <a:t>Returned value is determined by the function definition and by the values of any parame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609480" y="2514600"/>
            <a:ext cx="609840" cy="1066680"/>
          </a:xfrm>
          <a:prstGeom prst="line">
            <a:avLst/>
          </a:prstGeom>
          <a:ln w="12600">
            <a:solidFill>
              <a:srgbClr val="99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05120" y="2514600"/>
            <a:ext cx="685800" cy="609480"/>
          </a:xfrm>
          <a:prstGeom prst="line">
            <a:avLst/>
          </a:prstGeom>
          <a:ln w="12600">
            <a:solidFill>
              <a:srgbClr val="99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3200400" y="1752120"/>
            <a:ext cx="2286000" cy="228600"/>
          </a:xfrm>
          <a:prstGeom prst="line">
            <a:avLst/>
          </a:prstGeom>
          <a:ln w="12600">
            <a:solidFill>
              <a:srgbClr val="99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212040" y="1447920"/>
            <a:ext cx="8777880" cy="2575800"/>
            <a:chOff x="212040" y="1447920"/>
            <a:chExt cx="8777880" cy="2575800"/>
          </a:xfrm>
        </p:grpSpPr>
        <p:sp>
          <p:nvSpPr>
            <p:cNvPr id="316" name=""/>
            <p:cNvSpPr/>
            <p:nvPr/>
          </p:nvSpPr>
          <p:spPr>
            <a:xfrm>
              <a:off x="212040" y="3565440"/>
              <a:ext cx="2675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66"/>
                  </a:solidFill>
                  <a:latin typeface="Arial"/>
                </a:rPr>
                <a:t>Name of fun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346480" y="3108240"/>
              <a:ext cx="3825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66"/>
                  </a:solidFill>
                  <a:latin typeface="Arial"/>
                </a:rPr>
                <a:t>Parameter of fun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562720" y="1447920"/>
              <a:ext cx="34272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66"/>
                  </a:solidFill>
                  <a:latin typeface="Arial"/>
                </a:rPr>
                <a:t>Function defin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295E-79E0-43C2-916A-58F22F98EED0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3880" y="50760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Chapter 3 Topics</a:t>
            </a: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6720" y="1604520"/>
            <a:ext cx="7810560" cy="49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ants of Typ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l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aluating Arithmetic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licit Type Coercion and Explicit Type Con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ling a Value-Returning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ing Function Arg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ing C++ Library Functions in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ling a Void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++ Manipulators to Format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ing Operation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i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ubst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B77B-EC27-48BF-B996-9FF3D1B64413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Functions</a:t>
            </a: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C program must have a function called 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execution always begins with function 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other functions are subprograms and must be call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D9E2-1B3C-4C92-95E1-749AB1E7CB78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Function Calls</a:t>
            </a: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function calls another by using the name of the called function together with ( ) containing an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nction call temporarily transfers control from the calling function to the called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E82C-DE19-4D4B-90F4-8035C4BDF567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What is in a block?</a:t>
            </a: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63600" y="1758960"/>
            <a:ext cx="6483240" cy="41212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638000" y="2057040"/>
            <a:ext cx="575316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0 or more statement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9364-5F00-49BD-85CD-1F5AFA99F090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577800" y="2368440"/>
            <a:ext cx="7988400" cy="3492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Every C++ function has 2 parts</a:t>
            </a: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120" y="2552400"/>
            <a:ext cx="8039160" cy="346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main (  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Bookman Old Style"/>
              </a:rPr>
              <a:t>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Bookman Old Style"/>
              </a:rPr>
              <a:t>body b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5028840" y="2914560"/>
            <a:ext cx="106668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4800600" y="3371760"/>
            <a:ext cx="1295280" cy="1981080"/>
            <a:chOff x="4800600" y="3371760"/>
            <a:chExt cx="1295280" cy="1981080"/>
          </a:xfrm>
        </p:grpSpPr>
        <p:sp>
          <p:nvSpPr>
            <p:cNvPr id="331" name=""/>
            <p:cNvSpPr/>
            <p:nvPr/>
          </p:nvSpPr>
          <p:spPr>
            <a:xfrm>
              <a:off x="5029200" y="3371760"/>
              <a:ext cx="1066680" cy="10666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800600" y="4438440"/>
              <a:ext cx="1295280" cy="9144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5B20-64F1-4FE5-BF8A-FFB614820832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Shortest C++ Program</a:t>
            </a: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8240" y="2368440"/>
            <a:ext cx="7074000" cy="4254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929160" y="1569960"/>
            <a:ext cx="270108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int  main (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return 0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71600" y="1959120"/>
            <a:ext cx="0" cy="631800"/>
          </a:xfrm>
          <a:prstGeom prst="line">
            <a:avLst/>
          </a:prstGeom>
          <a:ln w="28440">
            <a:solidFill>
              <a:srgbClr val="99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666880" y="2057400"/>
            <a:ext cx="1524240" cy="533520"/>
          </a:xfrm>
          <a:prstGeom prst="line">
            <a:avLst/>
          </a:prstGeom>
          <a:ln w="28440">
            <a:solidFill>
              <a:srgbClr val="99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12760" y="1630440"/>
            <a:ext cx="3216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66"/>
                </a:solidFill>
                <a:latin typeface="Arial"/>
              </a:rPr>
              <a:t>type of returned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660840" y="1706400"/>
            <a:ext cx="2530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66"/>
                </a:solidFill>
                <a:latin typeface="Arial"/>
              </a:rPr>
              <a:t>name of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98A2-E350-4D31-8317-59F8063B94B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What is in a heading? </a:t>
            </a: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15960" y="2597040"/>
            <a:ext cx="7149960" cy="34164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989280" y="2255760"/>
            <a:ext cx="35334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int  main (      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447920" y="2133720"/>
            <a:ext cx="0" cy="9144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2590920" y="2362320"/>
            <a:ext cx="1676160" cy="7617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3886200" y="2286000"/>
            <a:ext cx="3352680" cy="9144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136440" y="1706400"/>
            <a:ext cx="8778960" cy="626040"/>
            <a:chOff x="136440" y="1706400"/>
            <a:chExt cx="8778960" cy="626040"/>
          </a:xfrm>
        </p:grpSpPr>
        <p:sp>
          <p:nvSpPr>
            <p:cNvPr id="347" name=""/>
            <p:cNvSpPr/>
            <p:nvPr/>
          </p:nvSpPr>
          <p:spPr>
            <a:xfrm>
              <a:off x="136440" y="1706400"/>
              <a:ext cx="3216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type of returned val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565440" y="1935000"/>
              <a:ext cx="2530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me of fun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156360" y="1782720"/>
              <a:ext cx="2759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says no  parame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CFAC-D35E-4A05-AF7C-975758DBB451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2212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More About Functions</a:t>
            </a: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not considered good practice for the body block of function main to be lo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 calls are used to do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C++ function has a return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return type is not void, the function returns a value to the calling blo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07A6-E9BE-40D0-A2EB-303543C1A9DA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Where are functions?</a:t>
            </a: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76200" y="1981080"/>
            <a:ext cx="6515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located in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written by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E2A5-7344-4BD3-B820-8BFE0475CD96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28600" y="1581120"/>
            <a:ext cx="8381880" cy="49528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51920" y="5335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99"/>
                </a:solidFill>
                <a:latin typeface="Arial"/>
              </a:rPr>
              <a:t>HEADER FILE    FUNCTION       EXAMPLE</a:t>
            </a:r>
            <a:r>
              <a:rPr b="1" lang="en-US" sz="2400" spc="-1" strike="noStrike">
                <a:solidFill>
                  <a:srgbClr val="33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0099"/>
                </a:solidFill>
                <a:latin typeface="Arial"/>
              </a:rPr>
              <a:t>       VALUE</a:t>
            </a:r>
            <a:br>
              <a:rPr sz="2400"/>
            </a:br>
            <a:r>
              <a:rPr b="1" lang="en-US" sz="2400" spc="-1" strike="noStrike">
                <a:solidFill>
                  <a:srgbClr val="33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0099"/>
                </a:solidFill>
                <a:latin typeface="Arial"/>
              </a:rPr>
              <a:t>          OF CALL</a:t>
            </a:r>
            <a:endParaRPr b="1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28600" y="2266920"/>
            <a:ext cx="838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28600" y="3619440"/>
            <a:ext cx="838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28600" y="4952880"/>
            <a:ext cx="838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" y="5715000"/>
            <a:ext cx="838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61080" y="3032280"/>
            <a:ext cx="7521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bs(x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fabs(-6.4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61080" y="2403360"/>
            <a:ext cx="7521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cmath&gt;          pow(x,y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pow(2.0,3.0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61440" y="3718080"/>
            <a:ext cx="7690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cmath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sqrt(x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sqrt(100.0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1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0720" y="5927760"/>
            <a:ext cx="687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iomanip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setprecision(n)   setprecision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62520" y="5089680"/>
            <a:ext cx="8198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cmath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log(x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log(2.0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.6931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51360" y="4327560"/>
            <a:ext cx="8195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rt(x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sqrt(2.0)                1.414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61440" y="1660680"/>
            <a:ext cx="7266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cstdlib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abs(i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abs(-6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C68B-D6AE-4BD5-8F09-BBC06808F6BD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028880" y="5505480"/>
            <a:ext cx="6648120" cy="93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028880" y="2895480"/>
            <a:ext cx="6648120" cy="93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Write C++ Expressions for</a:t>
            </a: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quare root of   b</a:t>
            </a:r>
            <a:r>
              <a:rPr b="1" lang="en-US" sz="3200" spc="-1" strike="noStrike" baseline="5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4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Rounded MT Bold"/>
              </a:rPr>
              <a:t>	</a:t>
            </a:r>
            <a:r>
              <a:rPr b="0" lang="en-US" sz="3200" spc="-1" strike="noStrike">
                <a:solidFill>
                  <a:srgbClr val="663300"/>
                </a:solidFill>
                <a:latin typeface="Arial Rounded MT Bold"/>
              </a:rPr>
              <a:t>	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qrt ( b * b - 4.0 * a * c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quare root of the average of myAge and you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 Rounded MT Bold"/>
              </a:rPr>
              <a:t>	</a:t>
            </a:r>
            <a:r>
              <a:rPr b="0" lang="en-US" sz="3200" spc="-1" strike="noStrike">
                <a:solidFill>
                  <a:srgbClr val="993300"/>
                </a:solidFill>
                <a:latin typeface="Arial Rounded MT Bold"/>
              </a:rPr>
              <a:t>	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qrt ( ( myAge  +  yourAge ) / 2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28600" y="4038480"/>
            <a:ext cx="853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12BE-01A3-466F-B7F4-75DDC5558E6E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6356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Arial"/>
              </a:rPr>
              <a:t>C++  Data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382840" y="1523880"/>
            <a:ext cx="1046160" cy="95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57840" y="1447920"/>
            <a:ext cx="1220760" cy="365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34040" y="1467000"/>
            <a:ext cx="1303560" cy="10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11920" y="2384280"/>
            <a:ext cx="1692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truct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64960" y="3421080"/>
            <a:ext cx="347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ray   struct   union  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332040" y="2800440"/>
            <a:ext cx="2362680" cy="704880"/>
            <a:chOff x="6332040" y="2800440"/>
            <a:chExt cx="2362680" cy="704880"/>
          </a:xfrm>
        </p:grpSpPr>
        <p:sp>
          <p:nvSpPr>
            <p:cNvPr id="99" name=""/>
            <p:cNvSpPr/>
            <p:nvPr/>
          </p:nvSpPr>
          <p:spPr>
            <a:xfrm>
              <a:off x="8008920" y="2800440"/>
              <a:ext cx="685800" cy="63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80320" y="2800440"/>
              <a:ext cx="152280" cy="63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7113240" y="2800440"/>
              <a:ext cx="362160" cy="70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332040" y="2800440"/>
              <a:ext cx="685800" cy="63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315400" y="5051520"/>
            <a:ext cx="2475720" cy="1281240"/>
            <a:chOff x="5315400" y="5051520"/>
            <a:chExt cx="2475720" cy="1281240"/>
          </a:xfrm>
        </p:grpSpPr>
        <p:sp>
          <p:nvSpPr>
            <p:cNvPr id="104" name=""/>
            <p:cNvSpPr/>
            <p:nvPr/>
          </p:nvSpPr>
          <p:spPr>
            <a:xfrm>
              <a:off x="5700960" y="5051520"/>
              <a:ext cx="1437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addr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5640480" y="5448240"/>
              <a:ext cx="457200" cy="53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30840" y="5448240"/>
              <a:ext cx="533520" cy="45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15400" y="5935320"/>
              <a:ext cx="2475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ointer    refer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1737360" y="2384280"/>
            <a:ext cx="1151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220400" y="2781360"/>
            <a:ext cx="7621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2360" y="2781360"/>
            <a:ext cx="14479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7800" y="3421080"/>
            <a:ext cx="2693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integral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2160" y="4335480"/>
            <a:ext cx="3374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  short   int  long  b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611280" y="377208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068120" y="3772080"/>
            <a:ext cx="759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73040" y="377208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1640" y="3772080"/>
            <a:ext cx="6858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402280" y="3421080"/>
            <a:ext cx="3347280" cy="2169360"/>
            <a:chOff x="2402280" y="3421080"/>
            <a:chExt cx="3347280" cy="2169360"/>
          </a:xfrm>
        </p:grpSpPr>
        <p:sp>
          <p:nvSpPr>
            <p:cNvPr id="118" name=""/>
            <p:cNvSpPr/>
            <p:nvPr/>
          </p:nvSpPr>
          <p:spPr>
            <a:xfrm>
              <a:off x="3793320" y="3421080"/>
              <a:ext cx="1104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Arial"/>
                </a:rPr>
                <a:t>fl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02280" y="5193000"/>
              <a:ext cx="3347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loat  double   long dou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2896920" y="3772080"/>
              <a:ext cx="152352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3440" y="3772080"/>
              <a:ext cx="15192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3582360" y="3772080"/>
              <a:ext cx="91404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754280" y="3772080"/>
            <a:ext cx="12189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66920" y="2781360"/>
            <a:ext cx="495360" cy="74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F3CE-1CCB-4697-9602-468ED5D9A7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797120" y="1873080"/>
            <a:ext cx="5321160" cy="1130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797120" y="3397320"/>
            <a:ext cx="5321160" cy="1206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797120" y="5073480"/>
            <a:ext cx="5321160" cy="1283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6320" y="22860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Program with Several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562040" y="2095560"/>
            <a:ext cx="594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in 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86080" y="3676680"/>
            <a:ext cx="594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quare 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86080" y="5372280"/>
            <a:ext cx="594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Cube 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143000" y="1638360"/>
            <a:ext cx="6686640" cy="501012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3A8C-1D00-498E-B51B-138EEEFB7A3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87360" y="1663560"/>
            <a:ext cx="8292960" cy="4864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3808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Program with Thre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41000" y="1755720"/>
            <a:ext cx="8109720" cy="12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&lt;iostream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int Square( int );</a:t>
            </a:r>
            <a:r>
              <a:rPr b="1" lang="en-US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99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990000"/>
                </a:solidFill>
                <a:latin typeface="Courier New"/>
              </a:rPr>
              <a:t>// declares these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Courier New"/>
              </a:rPr>
              <a:t>int Cube( int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1360" y="3124080"/>
            <a:ext cx="811224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ing namespace std 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ain(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“The square of 27 is 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&lt;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Square(27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&lt;&lt; endl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990000"/>
                </a:solidFill>
                <a:latin typeface="Courier New"/>
              </a:rPr>
              <a:t>// function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“The cube of 27 is 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&lt; </a:t>
            </a:r>
            <a:r>
              <a:rPr b="1" lang="en-US" sz="2000" spc="-1" strike="noStrike">
                <a:solidFill>
                  <a:srgbClr val="cc0066"/>
                </a:solidFill>
                <a:latin typeface="Courier New"/>
              </a:rPr>
              <a:t>Cube(27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&lt;&lt; endl;       </a:t>
            </a:r>
            <a:r>
              <a:rPr b="1" i="1" lang="en-US" sz="2000" spc="-1" strike="noStrike">
                <a:solidFill>
                  <a:srgbClr val="990000"/>
                </a:solidFill>
                <a:latin typeface="Courier New"/>
              </a:rPr>
              <a:t>// function cal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04F1-D384-4CC9-B2F8-77B056BA52D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387360" y="1682640"/>
            <a:ext cx="8292960" cy="4845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3808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Rest of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17680" y="1828800"/>
            <a:ext cx="8474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int Square( int n )</a:t>
            </a:r>
            <a:r>
              <a:rPr b="1" lang="en-US" sz="2400" spc="-1" strike="noStrike">
                <a:solidFill>
                  <a:srgbClr val="006633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990000"/>
                </a:solidFill>
                <a:latin typeface="Courier New"/>
              </a:rPr>
              <a:t>// header and body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return n *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Courier New"/>
              </a:rPr>
              <a:t>int Cube( int n )</a:t>
            </a:r>
            <a:r>
              <a:rPr b="1" lang="en-US" sz="2400" spc="-1" strike="noStrike">
                <a:solidFill>
                  <a:srgbClr val="990066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990000"/>
                </a:solidFill>
                <a:latin typeface="Courier New"/>
              </a:rPr>
              <a:t>// header and body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cc0066"/>
                </a:solidFill>
                <a:latin typeface="Courier New"/>
              </a:rPr>
              <a:t>return n * n *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CDD4-64A4-4865-9FAF-C87B3BC1172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Function Call</a:t>
            </a: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7601040" cy="35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unction call temporarily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transfers contro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the called function’s cod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the function’s code has finished executing, control is transferred back to the calling blo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74CC-16F9-445D-8C75-4A166FD66414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419040" y="1809720"/>
            <a:ext cx="7581960" cy="1162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11720" y="1987560"/>
            <a:ext cx="2825640" cy="6159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685800" y="2000160"/>
            <a:ext cx="756288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Name  =  (  Argument List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rgument list is a way for functions to communicate with each other by passing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rgument list can contain 0, 1, or more arguments, separated by commas, depending on the functio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609120" y="19044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Function Call Syntax</a:t>
            </a: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4721-C494-40C9-909B-067A64C3B4C0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371520" y="1209600"/>
            <a:ext cx="8445600" cy="524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65240" y="22212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A void function call stands al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34960" y="1812960"/>
            <a:ext cx="84168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include &lt;iostrea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void  DisplayMessage ( int  n ) ;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// declares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6400" y="3276720"/>
            <a:ext cx="8398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main(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isplayMessage( 15 ) ;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       </a:t>
            </a: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//function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 “Good Bye“  &lt;&lt;    endl 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0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9E56-DF48-4337-96BA-5ADC1EE2415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71520" y="1971720"/>
            <a:ext cx="8445600" cy="354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25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A void function does NOT return a va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36400" y="2057400"/>
            <a:ext cx="8245800" cy="36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// header and body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void  DisplayMessage ( int  n 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ut  &lt;&lt;  “I have liked math for  “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&lt;&lt;  n  &lt;&lt;  “ years”  &lt;&lt; endl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A506-5D9A-4152-B940-AB936C220C1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4610160" y="1886040"/>
            <a:ext cx="4152960" cy="42861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4920" y="1886040"/>
            <a:ext cx="4152960" cy="42861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217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Two Kinds of Functions</a:t>
            </a: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52600" y="2971800"/>
            <a:ext cx="3733560" cy="25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ways retur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ingle valu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its caller and is called from within an expr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876920" y="2971800"/>
            <a:ext cx="3733560" cy="25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ver returns a value to its caller, and is called as a</a:t>
            </a:r>
            <a:r>
              <a:rPr b="1" lang="en-US" sz="3200" spc="-1" strike="noStrike">
                <a:solidFill>
                  <a:srgbClr val="00353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parate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99960" y="1981080"/>
            <a:ext cx="7848720" cy="8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33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6633"/>
                </a:solidFill>
                <a:latin typeface="Arial"/>
              </a:rPr>
              <a:t>Value-Returning               Vo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24000" y="2685960"/>
            <a:ext cx="41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629240" y="2685960"/>
            <a:ext cx="415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361800" y="5448240"/>
            <a:ext cx="8458200" cy="857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26676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&lt;&lt;  is a binary operator</a:t>
            </a: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42720" y="1676520"/>
            <a:ext cx="855324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&lt;  is called the output or insertion op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&lt;  is left associ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Arial"/>
              </a:rPr>
              <a:t>EXPRESSION</a:t>
            </a:r>
            <a:r>
              <a:rPr b="1" lang="en-US" sz="2400" spc="-1" strike="noStrike" u="sng">
                <a:solidFill>
                  <a:srgbClr val="990000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990000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990000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990000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990000"/>
                </a:solidFill>
                <a:uFillTx/>
                <a:latin typeface="Arial"/>
              </a:rPr>
              <a:t>HAS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t  &lt;&lt;  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c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t &lt;&lt; “You are “  &lt;&lt; age  &lt;&lt;  “ years old\n” 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CEDB-C7DF-41BD-B619-DC53FCA6CC50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&lt;iostream&gt;  is header file</a:t>
            </a: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library that defines 3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stream object named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keybo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stream object named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o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scre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stream object named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er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cre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67FF-7F68-4DDC-8363-23D00C5DDA63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Arial"/>
              </a:rPr>
              <a:t>C++ Simple Data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88920" y="2068560"/>
            <a:ext cx="8897760" cy="3880440"/>
            <a:chOff x="88920" y="2068560"/>
            <a:chExt cx="8897760" cy="3880440"/>
          </a:xfrm>
        </p:grpSpPr>
        <p:sp>
          <p:nvSpPr>
            <p:cNvPr id="127" name=""/>
            <p:cNvSpPr/>
            <p:nvPr/>
          </p:nvSpPr>
          <p:spPr>
            <a:xfrm>
              <a:off x="3293280" y="2068560"/>
              <a:ext cx="2032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simple typ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2417400" y="2519280"/>
              <a:ext cx="1467000" cy="66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75120" y="2481120"/>
              <a:ext cx="1687680" cy="70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17280" y="3159000"/>
              <a:ext cx="1104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Arial"/>
                </a:rPr>
                <a:t>integr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94080" y="3159000"/>
              <a:ext cx="1104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Arial"/>
                </a:rPr>
                <a:t>fl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8920" y="4129200"/>
              <a:ext cx="8897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har     short    int    long    bool      enum      float    double    long dou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1525320" y="3548160"/>
              <a:ext cx="53316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923080" y="3537000"/>
              <a:ext cx="325440" cy="60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611760" y="354816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527040" y="3537000"/>
              <a:ext cx="1179360" cy="66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91280" y="3537000"/>
              <a:ext cx="100656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84280" y="3554280"/>
              <a:ext cx="619200" cy="64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30440" y="3537000"/>
              <a:ext cx="1258920" cy="7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88960" y="4489560"/>
              <a:ext cx="787320" cy="1008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41520" y="4489560"/>
              <a:ext cx="92160" cy="9889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1852200" y="4508640"/>
              <a:ext cx="374760" cy="969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2073240" y="4470480"/>
              <a:ext cx="852480" cy="1044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45440" y="5551560"/>
              <a:ext cx="1315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nsign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97400" y="2489400"/>
              <a:ext cx="306360" cy="167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90600" y="3524400"/>
              <a:ext cx="954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E05E-746B-4C05-87F0-F020AC9C5F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No I/O is built into C++</a:t>
            </a: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5960" y="17524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library provides input stream and output 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387360" y="3435480"/>
            <a:ext cx="8217000" cy="2273040"/>
            <a:chOff x="387360" y="3435480"/>
            <a:chExt cx="8217000" cy="2273040"/>
          </a:xfrm>
        </p:grpSpPr>
        <p:sp>
          <p:nvSpPr>
            <p:cNvPr id="417" name=""/>
            <p:cNvSpPr/>
            <p:nvPr/>
          </p:nvSpPr>
          <p:spPr>
            <a:xfrm>
              <a:off x="3816360" y="3435480"/>
              <a:ext cx="1892160" cy="227304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7360" y="3740040"/>
              <a:ext cx="2120760" cy="9018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093080" y="3664080"/>
              <a:ext cx="1511280" cy="11300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896080" y="3881520"/>
              <a:ext cx="933480" cy="647640"/>
            </a:xfrm>
            <a:prstGeom prst="rightArrow">
              <a:avLst>
                <a:gd name="adj1" fmla="val 50000"/>
                <a:gd name="adj2" fmla="val 72074"/>
              </a:avLst>
            </a:pr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594720" y="3946680"/>
              <a:ext cx="7905240" cy="900000"/>
              <a:chOff x="594720" y="3946680"/>
              <a:chExt cx="7905240" cy="900000"/>
            </a:xfrm>
          </p:grpSpPr>
          <p:sp>
            <p:nvSpPr>
              <p:cNvPr id="422" name=""/>
              <p:cNvSpPr/>
              <p:nvPr/>
            </p:nvSpPr>
            <p:spPr>
              <a:xfrm>
                <a:off x="594720" y="3946680"/>
                <a:ext cx="15886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Keyboar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300080" y="3946680"/>
                <a:ext cx="11998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Scre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022640" y="4022640"/>
                <a:ext cx="16070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execut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rogra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2422440" y="4784760"/>
              <a:ext cx="1270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tre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75840" y="4784760"/>
              <a:ext cx="1370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stre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695680" y="3881520"/>
              <a:ext cx="933480" cy="647640"/>
            </a:xfrm>
            <a:prstGeom prst="rightArrow">
              <a:avLst>
                <a:gd name="adj1" fmla="val 50000"/>
                <a:gd name="adj2" fmla="val 72074"/>
              </a:avLst>
            </a:pr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9E6B-210A-4AE2-9707-D1EB8F57508E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Manipulators </a:t>
            </a: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ipulators are used only in input and output stat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endl, fixed, showpoint, setw, and setprecis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re manipulators that can be used to control output form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dl is use to terminate the current output line, and create blank lines in outp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B37F-67A0-4558-9E17-B34DEF1F0DF0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Insertion Operator ( &lt;&lt; )</a:t>
            </a: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insertion operator  &lt;&lt;  takes 2 operan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eft operand is a stream expression, such as cou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the right operand is an expression of simple type, or a string, or a manipulat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93F8-13F8-4510-B5B9-5FA9EF4FE638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Output Statements</a:t>
            </a: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SYNTAX (revis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44560" y="3206880"/>
            <a:ext cx="7454880" cy="1434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368440" y="3892680"/>
            <a:ext cx="4407120" cy="5014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423800" y="3394080"/>
            <a:ext cx="613800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pressionOrManipulat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&lt;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pressionOrManipulat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. . .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22D3-5D43-43AA-ADAC-715A1FC13FB6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"/>
          <p:cNvGrpSpPr/>
          <p:nvPr/>
        </p:nvGrpSpPr>
        <p:grpSpPr>
          <a:xfrm>
            <a:off x="920880" y="4197240"/>
            <a:ext cx="7378560" cy="2044800"/>
            <a:chOff x="920880" y="4197240"/>
            <a:chExt cx="7378560" cy="2044800"/>
          </a:xfrm>
        </p:grpSpPr>
        <p:sp>
          <p:nvSpPr>
            <p:cNvPr id="438" name=""/>
            <p:cNvSpPr/>
            <p:nvPr/>
          </p:nvSpPr>
          <p:spPr>
            <a:xfrm>
              <a:off x="920880" y="4197240"/>
              <a:ext cx="7378560" cy="981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920880" y="5403960"/>
              <a:ext cx="7378560" cy="838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Output Statements</a:t>
            </a: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hese examples yield the same outp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 “The answer is “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 3 * 4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 “The answer is “  &lt;&lt;  3 * 4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920880" y="2292480"/>
            <a:ext cx="7378560" cy="901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692600" y="2502000"/>
            <a:ext cx="2235240" cy="52056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345680" y="2498760"/>
            <a:ext cx="6376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pres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&lt;&lt;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pres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. . .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A2DF-73A3-45B1-8FAA-3EF53F36317E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5774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Using Manipulators</a:t>
            </a:r>
            <a:br>
              <a:rPr sz="4400"/>
            </a:b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Fixed and Showpoint</a:t>
            </a: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the following statement to specify that  (for output sent to the cout stream) decimal format (not scientific notation) be used, and that a decimal point be included (even for floating values with 0 as fractional par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out  &lt;&lt;   fixed  &lt;&lt;   showpoint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EE7F-78F7-4731-A575-428455554FF0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setprecision(n)</a:t>
            </a: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76280" y="1886040"/>
            <a:ext cx="82677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ires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#include &lt;iomanip&gt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appears in an expression using insertion operator (&lt;&lt;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fix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has already been specified, argument n determines the number of places displayed after the decimal point for floating point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mains in effect until explicitly changed by another call to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setprecis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2DCC-7556-4F51-8586-6A92B1FD6099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83808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What is exact outpu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7360" y="1549440"/>
            <a:ext cx="8292960" cy="501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41360" y="1676520"/>
            <a:ext cx="8245440" cy="48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include  &lt;iomanip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// for setw( ) and setprecision(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include  &lt;iostream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 namespace  st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main ( 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at   myNumber  =  123.4587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t  &lt;&lt;  fixed  &lt;&lt;   showpoint  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// use decimal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// print decimal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t  &lt;&lt;  “Number is ”  &lt;&lt;  setprecision ( 3 )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&lt;  myNumber     &lt;&lt;  endl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 0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3BA6-4074-4140-A79F-AD1667772F43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1225440" y="3664080"/>
            <a:ext cx="7074000" cy="1206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OUTPU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06040" y="2087640"/>
            <a:ext cx="48376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Number is 123.45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355040" y="3794040"/>
            <a:ext cx="675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is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round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 necessary to be display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exactly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3 places</a:t>
            </a:r>
            <a:r>
              <a:rPr b="1" lang="en-US" sz="2400" spc="-1" strike="noStrike">
                <a:solidFill>
                  <a:srgbClr val="a3f25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the decimal po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4F7B-B82D-41C7-831E-E26CA498011A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Manipulator setw</a:t>
            </a: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7601040" cy="35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 width” lets us control how many character positions the next data item should occupy when it is outp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w is only for formatting numbers and strings, not char type 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782D-E858-4771-A52B-752CB84B772B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9044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Standard Data Types in C++</a:t>
            </a: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52208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l Typ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99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whole numbers and their neg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99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ed as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hor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or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ating Typ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99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real numbers with a decimal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99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ed as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ou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acter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99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s single charac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99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ed as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h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0F35-5307-4A6F-92C4-D75E787F41E9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setw(n)</a:t>
            </a: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s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#include &lt;iomanip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appears in an expression using insertion operator (&lt;&lt;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gument n is called the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ieldwidth specification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determines the number of character positions in which to display a right-justified number or string (not char data).  The number of positions used is expanded if n is too narr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 width”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affects only the very next it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splayed, and is useful to align columns of outp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02C7-B102-465A-9351-28A5D969F65E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387360" y="1301760"/>
            <a:ext cx="8369280" cy="549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38080" y="133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What is exact outpu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41360" y="1352520"/>
            <a:ext cx="847404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include  &lt;iomanip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// for setw(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include  &lt;iostream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include  &lt;string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 namespace  st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 main ( 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 myNumber    =  123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 yourNumber  =  5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t  &lt;&lt;  setw ( 10 )     &lt;&lt;   “Mine”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&lt;   setw ( 10 )     &lt;&lt;  “Yours”           &lt;&lt;   endl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&lt;   setw ( 10 )     &lt;&lt;  my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&lt;   setw ( 10 )     &lt;&lt;  yourNumber   &lt;&lt;   endl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0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F126-C3D3-4329-9FF1-539A44E28147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OUTPU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235240" y="2101680"/>
            <a:ext cx="5987880" cy="16448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289240" y="1598760"/>
            <a:ext cx="57942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99"/>
                </a:solidFill>
                <a:latin typeface="Courier New"/>
              </a:rPr>
              <a:t>123456789012345678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ine     Yo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123        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096280" y="4281480"/>
            <a:ext cx="64058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is displayed 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right-justifi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is located in a total of 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10 pos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93640" y="163980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99"/>
                </a:solidFill>
                <a:latin typeface="Arial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DA2A-FF1B-41F7-8F86-8D07ED723224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387360" y="1301760"/>
            <a:ext cx="8369280" cy="549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38080" y="133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What is exact outpu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1360" y="1352520"/>
            <a:ext cx="8474040" cy="54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include  &lt;iomanip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// for setw( ) and setprecision(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include  &lt;iostream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 namespace  st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 main ( 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at myNumber    =  123.4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at yourNumber  =  3.14159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t  &lt;&lt;  fixed  &lt;&lt;   showpoint  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// use decimal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// print decimal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t  &lt;&lt;  “Numbers are: ”  &lt;&lt;  setprecision ( 4 ) &lt;&lt;  end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&lt;   setw ( 10 )            &lt;&lt;  myNumber      &lt;&lt;   en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&lt;   setw ( 10 )            &lt;&lt;  yourNumber   &lt;&lt;   endl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0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885E-CC23-4C30-AF5F-AD510D31B002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OUTPU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44560" y="2158920"/>
            <a:ext cx="4635360" cy="18925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9080" y="2131920"/>
            <a:ext cx="37512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Numbers are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123.4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63440" y="4281480"/>
            <a:ext cx="60080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is displayed 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right-justifi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round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necessary and each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ed in a total of 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10 positions</a:t>
            </a:r>
            <a:r>
              <a:rPr b="0" lang="en-US" sz="2800" spc="-1" strike="noStrike">
                <a:solidFill>
                  <a:srgbClr val="8cf4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4 places</a:t>
            </a:r>
            <a:r>
              <a:rPr b="0" lang="en-US" sz="2800" spc="-1" strike="noStrike">
                <a:solidFill>
                  <a:srgbClr val="8cf4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the decimal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917640" y="1560600"/>
            <a:ext cx="6708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99"/>
                </a:solidFill>
                <a:latin typeface="Courier New"/>
              </a:rPr>
              <a:t>1234567890123456789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FCA5-2EE9-4C3B-9933-64A178B20A26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387360" y="1682640"/>
            <a:ext cx="5397480" cy="501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026040" y="3359160"/>
            <a:ext cx="2425680" cy="33400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5040" y="1752480"/>
            <a:ext cx="847404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at  x   =  312.0 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at  y   =  4.827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t  &lt;&lt;  fixed  &lt;&lt;   showpoint  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t  &lt;&lt;  setprecision ( 2 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&lt;   setw ( 10 )       &lt;&lt;  x   &lt;&lt;   end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’’’’</a:t>
            </a:r>
            <a:r>
              <a:rPr b="1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&lt;   setw ( 10 )       &lt;&lt;  y   &lt;&lt;   endl 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’’’’’’</a:t>
            </a:r>
            <a:r>
              <a:rPr b="1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.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t  &lt;&lt;  setprecision ( 1 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&lt;   setw ( 10 )       &lt;&lt;  x   &lt;&lt;   end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’’’’’</a:t>
            </a:r>
            <a:r>
              <a:rPr b="1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&lt;   setw ( 10 )       &lt;&lt;  y   &lt;&lt;   endl 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’’’’’’’</a:t>
            </a:r>
            <a:r>
              <a:rPr b="1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t  &lt;&lt;  setprecision ( 5 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&lt;   setw ( 7 )       &lt;&lt;  x   &lt;&lt;   end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.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&lt;   setw ( 7 )       &lt;&lt;  y   &lt;&lt;   endl 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.82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380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9640" y="311040"/>
            <a:ext cx="1359000" cy="6732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974880" y="9748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93280" y="395280"/>
            <a:ext cx="1251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312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245360" y="311040"/>
            <a:ext cx="1359000" cy="6732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756560" y="9748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299000" y="395280"/>
            <a:ext cx="1251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4.8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ED8F-7294-4309-8022-E91B46CE927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51920" y="5335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99"/>
                </a:solidFill>
                <a:latin typeface="Arial"/>
              </a:rPr>
              <a:t>HEADER      MANIPULATOR    ARGUMENT     EFFECT </a:t>
            </a:r>
            <a:br>
              <a:rPr sz="2400"/>
            </a:br>
            <a:r>
              <a:rPr b="1" lang="en-US" sz="2400" spc="-1" strike="noStrike">
                <a:solidFill>
                  <a:srgbClr val="330099"/>
                </a:solidFill>
                <a:latin typeface="Arial"/>
              </a:rPr>
              <a:t>FILE </a:t>
            </a:r>
            <a:r>
              <a:rPr b="1" lang="en-US" sz="2400" spc="-1" strike="noStrike">
                <a:solidFill>
                  <a:srgbClr val="33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0099"/>
                </a:solidFill>
                <a:latin typeface="Arial"/>
              </a:rPr>
              <a:t>                                         TYPE</a:t>
            </a:r>
            <a:endParaRPr b="1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52280" y="1581120"/>
            <a:ext cx="8782200" cy="49528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52280" y="2610000"/>
            <a:ext cx="878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52280" y="3600360"/>
            <a:ext cx="878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52280" y="4610160"/>
            <a:ext cx="878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52280" y="5619600"/>
            <a:ext cx="878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86840" y="2670120"/>
            <a:ext cx="8210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iostream&gt;    showpoint          n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displa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mal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85760" y="3679920"/>
            <a:ext cx="885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iostream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fix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n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suppre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ientific n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7800" y="5699160"/>
            <a:ext cx="832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iomanip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setprecision(n)   int              sets preci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n dig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24640" y="4746600"/>
            <a:ext cx="838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iomanip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setw(n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int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sets fieldwid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n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7520" y="1660680"/>
            <a:ext cx="781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iostream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end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n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termin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put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9A65-B89D-4FAB-B21C-F43AABDA26EF}" type="slidenum">
              <a:t>7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6212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Courier New"/>
              </a:rPr>
              <a:t>length</a:t>
            </a: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 Function</a:t>
            </a: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5819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eturns an unsigned integer value that equals the number of characters currently in the string </a:t>
            </a: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s the same value as function length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must use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dot not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the call to function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ABC8-AA67-4702-BE1F-A0F7CBA59ED0}" type="slidenum">
              <a:t>77</a:t>
            </a:fld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6212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Courier New"/>
              </a:rPr>
              <a:t>find</a:t>
            </a: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 Function</a:t>
            </a: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440" y="1638360"/>
            <a:ext cx="7753320" cy="46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i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turns an unsigned integer value that is the beginning position for the first occurrence of a particular substring within the string </a:t>
            </a: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bstring argument can be a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ant, a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on, or a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alu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substring was not found, funct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i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s the special value 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string::npos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465F-C969-4F5C-B89D-6A0485E9B4F0}" type="slidenum">
              <a:t>78</a:t>
            </a:fld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6212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Courier New"/>
              </a:rPr>
              <a:t>substr</a:t>
            </a: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 Function</a:t>
            </a: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440" y="1847520"/>
            <a:ext cx="7753320" cy="422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ubst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turns a particular substring of a st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rst argument is an unsigned integer that specifies a starting position within the str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cond argument is an unsigned integer that specifies the length of the desired subst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osition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characters within a string are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numbered starting from 0, not from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CD2D-C244-45B2-93D7-601718A2EC0D}" type="slidenum">
              <a:t>79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9044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Samples of C++ Data Values</a:t>
            </a: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i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ample valu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578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457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loat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5.27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2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521E-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95E-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5.213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ha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ample val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EC31-8BFC-467E-AAC2-9E9930B6C3BD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387360" y="1301760"/>
            <a:ext cx="8369280" cy="549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838080" y="133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What is exact outpu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41360" y="1352520"/>
            <a:ext cx="8474040" cy="52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include  &lt;iostream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include  &lt;string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// for functions length, find, sub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 namespace  st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 main ( 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ng  stateName = “Mississippi”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t  &lt;&lt;  stateName.length( )  &lt;&lt; endl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t  &lt;&lt;   stateName.find(“is”) &lt;&lt;  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t &lt;&lt;  stateName.substr( 0, 4 ) &lt;&lt;  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t &lt;&lt; stateName.substr( 4, 2 ) &lt;&lt;  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t &lt;&lt; stateName.substr( 9, 5 ) &lt;&lt;  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0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DFC4-F306-44C0-88B1-A9D2E2CA4B53}" type="slidenum">
              <a:t>80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387360" y="1301760"/>
            <a:ext cx="8369280" cy="549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38080" y="133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What is exact outpu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41360" y="1352520"/>
            <a:ext cx="8474040" cy="52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include  &lt;iostream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include  &lt;string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// for functions length, find, sub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 namespace  st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 main ( 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ng  stateName = “Mississippi”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t  &lt;&lt;  stateName.length( )  &lt;&lt; endl;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// value 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t  &lt;&lt;   stateName.find(“is”) &lt;&lt;  endl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// valu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t &lt;&lt;  stateName.substr( 0, 4 ) &lt;&lt;  endl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// value “Mis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t &lt;&lt; stateName.substr( 4, 2 ) &lt;&lt;  endl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// value “i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t &lt;&lt; stateName.substr( 9, 5 ) &lt;&lt;  endl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// value “pi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0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AF52-59E1-4649-AADC-9460ABA0706A}" type="slidenum">
              <a:t>81</a:t>
            </a:fld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6212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Map Measurement Case Study</a:t>
            </a: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You want a program to determine walking distances between 4 sights in the city. Your city map legend says one inch on the map equals 1/4 mile in the city. You use the measured distances between 4 sights on the ma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Display the walking distances (rounded to the nearest tenth) between each of the 4 sigh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6ACB-63B8-4075-B426-CF43947D1EC3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371520" y="1209600"/>
            <a:ext cx="8445600" cy="524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25520" y="1366920"/>
            <a:ext cx="839772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*************************************************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 Walk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 This program computes the mileage (rounded to near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 tenth of mile) for each of 4 distances, given 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 measurements on map with scale of 1 in = 0.25 m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************************************************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include &lt;iostream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for cout, en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include &lt;iomanip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For </a:t>
            </a:r>
            <a:r>
              <a:rPr b="1" lang="en-US" sz="1800" spc="-1" strike="noStrike">
                <a:solidFill>
                  <a:srgbClr val="990033"/>
                </a:solidFill>
                <a:latin typeface="Courier New"/>
              </a:rPr>
              <a:t>setprec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ing namespace st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  RoundToNearestTenth( float );  </a:t>
            </a:r>
            <a:r>
              <a:rPr b="1" lang="en-US" sz="1800" spc="-1" strike="noStrike">
                <a:solidFill>
                  <a:srgbClr val="990033"/>
                </a:solidFill>
                <a:latin typeface="Courier New"/>
              </a:rPr>
              <a:t>// declare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t  float  SCALE = 0.25;     // Map scale (mi. per in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2560" y="131400"/>
            <a:ext cx="7848720" cy="10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C++ Program </a:t>
            </a: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E524-16BC-4399-80D5-C505C544FCF9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71520" y="1209600"/>
            <a:ext cx="8445600" cy="524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38000" y="259920"/>
            <a:ext cx="7848360" cy="85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C++ Code Continued</a:t>
            </a: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17680" y="1106640"/>
            <a:ext cx="8302320" cy="53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t  float  DISTANCE1 = 1.5;  // First map di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t  float  DISTANCE2 = 2.3;  // Second map di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t  float  DISTANCE3 = 5.9;  // Third map di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t  float  DISTANCE4 = 4.0;  // Fourth map di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 main(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     totMiles;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Total of rounded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     miles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One rounded mile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t &lt;&lt; fixed &lt;&lt; showpoint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  // Set outpu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&lt; setprecision(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tMiles = 0.0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Initialize total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3548-F8E2-47C1-B933-DE610BE78660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387360" y="882720"/>
            <a:ext cx="8426520" cy="5570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41360" y="880920"/>
            <a:ext cx="870264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Compute miles for each distance on 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iles = RoundToNearestTenth( DISTANCE1 * SCALE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t &lt;&lt;  DISTANCE1 &lt;&lt; “ inches on map is 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&lt;  miles  &lt;&lt; “ miles in city.”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tMiles = totMiles + mil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iles = RoundToNearestTenth( DISTANCE2 * SCALE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t &lt;&lt;  DISTANCE2 &lt;&lt; “ inches on map is 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&lt;  miles  &lt;&lt; “ miles in city.”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tMiles = totMiles + mil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33DA-1754-4355-B719-7A7752C7FF87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387360" y="882720"/>
            <a:ext cx="8407440" cy="5570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1360" y="880920"/>
            <a:ext cx="870264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Compute miles for other distances on 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iles = RoundToNearestTenth( DISTANCE3 * SCALE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t &lt;&lt;  DISTANCE3 &lt;&lt; “ inches on map is 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&lt;  miles  &lt;&lt; “ miles in city.”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tMiles = totMiles + mil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iles = RoundToNearestTenth( DISTANCE4 * SCALE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t &lt;&lt;  DISTANCE4 &lt;&lt; “ inches on map is 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&lt;  miles  &lt;&lt; “ miles in city.”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tMiles = totMiles + mil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AE34-B00B-44BD-AC75-DD2E40E973BF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387360" y="882720"/>
            <a:ext cx="8426520" cy="5570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19040" y="496800"/>
            <a:ext cx="84870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t &lt;&lt;  endl &lt;&lt; “Total walking mileage is  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&lt;  totMiles  &lt;&lt;  “ miles.” 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0 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 Successful comple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************************************************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  RoundToNearestTenth ( 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* in */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float floatVal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 Function returns floatValue rounded to nearest ten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 float(int(floatValue * 10.0 + 0.5)) / 10.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A317-0014-4A14-891F-0A4B61E020A4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Scientific Notation</a:t>
            </a:r>
            <a:endParaRPr b="1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0960" y="1523880"/>
            <a:ext cx="7385040" cy="2259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8360" y="3960720"/>
            <a:ext cx="7385040" cy="2314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09680" y="1620720"/>
            <a:ext cx="6813720" cy="50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2.7E4</a:t>
            </a:r>
            <a:r>
              <a:rPr b="1" lang="en-US" sz="3600" spc="-1" strike="noStrike">
                <a:solidFill>
                  <a:srgbClr val="330099"/>
                </a:solidFill>
                <a:latin typeface="Arial"/>
              </a:rPr>
              <a:t>   means   2.7 x 10</a:t>
            </a:r>
            <a:r>
              <a:rPr b="1" lang="en-US" sz="3600" spc="-1" strike="noStrike" baseline="50000">
                <a:solidFill>
                  <a:srgbClr val="330099"/>
                </a:solidFill>
                <a:latin typeface="Arial"/>
              </a:rPr>
              <a:t> 4</a:t>
            </a:r>
            <a:r>
              <a:rPr b="1" lang="en-US" sz="3600" spc="-1" strike="noStrike">
                <a:solidFill>
                  <a:srgbClr val="330099"/>
                </a:solidFill>
                <a:latin typeface="Arial"/>
              </a:rPr>
              <a:t>   =</a:t>
            </a: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2.7000        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27000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2.7E-4</a:t>
            </a:r>
            <a:r>
              <a:rPr b="1" lang="en-US" sz="3600" spc="-1" strike="noStrike">
                <a:solidFill>
                  <a:srgbClr val="330099"/>
                </a:solidFill>
                <a:latin typeface="Arial"/>
              </a:rPr>
              <a:t>   means   2.7 x 10</a:t>
            </a:r>
            <a:r>
              <a:rPr b="1" lang="en-US" sz="3600" spc="-1" strike="noStrike" baseline="50000">
                <a:solidFill>
                  <a:srgbClr val="330099"/>
                </a:solidFill>
                <a:latin typeface="Arial"/>
              </a:rPr>
              <a:t> - 4</a:t>
            </a:r>
            <a:r>
              <a:rPr b="1" lang="en-US" sz="3600" spc="-1" strike="noStrike">
                <a:solidFill>
                  <a:srgbClr val="330099"/>
                </a:solidFill>
                <a:latin typeface="Arial"/>
              </a:rPr>
              <a:t> =</a:t>
            </a: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0002.7       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0.000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730040" y="1694160"/>
            <a:ext cx="1938240" cy="4193640"/>
            <a:chOff x="4730040" y="1694160"/>
            <a:chExt cx="1938240" cy="4193640"/>
          </a:xfrm>
        </p:grpSpPr>
        <p:sp>
          <p:nvSpPr>
            <p:cNvPr id="156" name=""/>
            <p:cNvSpPr/>
            <p:nvPr/>
          </p:nvSpPr>
          <p:spPr>
            <a:xfrm rot="3180000">
              <a:off x="5349600" y="1738440"/>
              <a:ext cx="878760" cy="153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8440">
              <a:solidFill>
                <a:srgbClr val="cc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3180000">
              <a:off x="5118480" y="4200840"/>
              <a:ext cx="1136520" cy="153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8440">
              <a:solidFill>
                <a:srgbClr val="cc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3147-6BD4-443F-83B6-FA5B80FB7E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15T14:37:07Z</dcterms:created>
  <dc:creator>Sylvia Sorkin</dc:creator>
  <dc:description/>
  <dc:language>en-US</dc:language>
  <cp:lastModifiedBy>Victor R. Volkman</cp:lastModifiedBy>
  <cp:lastPrinted>1999-04-25T01:40:36Z</cp:lastPrinted>
  <dcterms:modified xsi:type="dcterms:W3CDTF">2000-09-19T01:06:57Z</dcterms:modified>
  <cp:revision>217</cp:revision>
  <dc:subject>C++ expressions, library functions, manipulators, string functions length, find, substr</dc:subject>
  <dc:title>Programming and Problem Solving with C++, 2/e</dc:title>
</cp:coreProperties>
</file>