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25C1D-9B46-4474-9193-08FFBF589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1458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93626-4F07-4C3D-9E85-B5B0A3E27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1458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314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646E2-C3A5-473C-9E4F-7BBE2519A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1458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6340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1732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6340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1732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D612E-550F-4EDF-9723-90C69C52E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2A39E-F175-455E-A3F6-3DC936D96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480" y="1458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876D4-4DE2-4440-993B-66DEF6541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1458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34A43-EBB3-4729-9F27-DB9D8A4A4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1458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55788-0A7D-4487-AF5E-FA3D94AAD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1458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3872A-8839-4B08-BB72-6D740D397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09480" y="145800"/>
            <a:ext cx="7848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E4D77-4DAA-4911-9AD4-1FE281759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1458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94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CA334-5CC9-4364-845E-93B6163CE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1458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FCE08-BFED-41C1-B5CC-355F20B27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1458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314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E6A58-EAA1-40BE-B11A-13D55E4E1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1458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94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D777B-BFE0-4D91-83F6-778374713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480" y="1458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094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2C81B-67F8-4175-ACDD-8693896A5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1458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314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F52A6-887A-404B-87BF-F0318D19B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458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6340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1732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0948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6340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1732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52D59-1EA7-4806-8A95-2225C87CB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1458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DFC27-4570-46B6-9B2B-A9FFBCE36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1458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0E2FB-418C-4037-A326-8C0570C02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1458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8B0EC-CDCD-4A33-8C84-D14DB91D8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145800"/>
            <a:ext cx="7848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4E054-9213-47A8-8F9C-83B0B1EC6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1458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D996C-19A2-42A5-A8B5-8DF7168A1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1458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314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5FEE9-7873-482F-BA94-597413416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1458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F4302-A48D-46AC-9187-A196A3621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1458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9999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99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9999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5A633-2C91-4CB2-B579-86B5D5B9FA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F17D7-1E1E-4541-9BB8-3ECC6E672C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99"/>
              </a:buClr>
              <a:buSzPct val="65000"/>
              <a:buFont typeface="Monotype Sort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SzPct val="80000"/>
              <a:buFont typeface="Monotype Sort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imes New Roman"/>
              </a:rPr>
              <a:t>CPS171</a:t>
            </a:r>
            <a:br>
              <a:rPr sz="4400"/>
            </a:br>
            <a:r>
              <a:rPr b="1" lang="en-US" sz="4400" spc="-1" strike="noStrike">
                <a:solidFill>
                  <a:srgbClr val="000099"/>
                </a:solidFill>
                <a:latin typeface="Times New Roman"/>
              </a:rPr>
              <a:t>Introduction to Programming with C++</a:t>
            </a:r>
            <a:endParaRPr b="1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ptember 19th, 2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68970-57C7-427C-B2E4-F811F2FE3E6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" name=""/>
          <p:cNvGrpSpPr/>
          <p:nvPr/>
        </p:nvGrpSpPr>
        <p:grpSpPr>
          <a:xfrm>
            <a:off x="920880" y="4197240"/>
            <a:ext cx="7378560" cy="2044800"/>
            <a:chOff x="920880" y="4197240"/>
            <a:chExt cx="7378560" cy="2044800"/>
          </a:xfrm>
        </p:grpSpPr>
        <p:sp>
          <p:nvSpPr>
            <p:cNvPr id="114" name=""/>
            <p:cNvSpPr/>
            <p:nvPr/>
          </p:nvSpPr>
          <p:spPr>
            <a:xfrm>
              <a:off x="920880" y="4197240"/>
              <a:ext cx="7378560" cy="981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920880" y="5403960"/>
              <a:ext cx="7378560" cy="8380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685800" y="160020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SYNTA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These examples yield the same resul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in  &gt;&gt;  length 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in  &gt;&gt;  width 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in  &gt;&gt; length  &gt;&gt; width ;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09480" y="1458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imes New Roman"/>
              </a:rPr>
              <a:t>Input Statements</a:t>
            </a:r>
            <a:endParaRPr b="1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920880" y="2292480"/>
            <a:ext cx="7378560" cy="9014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816360" y="2444760"/>
            <a:ext cx="1739880" cy="52056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350000" y="2498760"/>
            <a:ext cx="5007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in  &gt;&gt;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Variabl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&gt;&gt;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Variabl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.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.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9139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imes New Roman"/>
              </a:rPr>
              <a:t>Whitespace Characters Include . . .</a:t>
            </a:r>
            <a:endParaRPr b="1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09480" y="1980720"/>
            <a:ext cx="784872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n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b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d-of-line (newline) charac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977400" y="4129200"/>
            <a:ext cx="711612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newline character is created b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itting Enter or Return at the keyboard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 by using the manipulator endl or “\n”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 a progra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480" y="1458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imes New Roman"/>
              </a:rPr>
              <a:t>Extraction Operator &gt;&gt;</a:t>
            </a:r>
            <a:endParaRPr b="1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skips over”</a:t>
            </a:r>
            <a:r>
              <a:rPr b="0" lang="en-US" sz="3200" spc="-1" strike="noStrike">
                <a:solidFill>
                  <a:srgbClr val="51dc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actually </a:t>
            </a: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reads but does not store anywher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ading white space charac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it reads your data from the input stream (either keyboard or disk fil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289080" y="1981080"/>
            <a:ext cx="8245440" cy="442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ar   first 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ar   middle 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ar   last 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in  &gt;&gt;   first  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in  &gt;&gt;   middle  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in  &gt;&gt;   last  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NOTE:  A file reading marker is left pointing to the        newline character after the ‘C’ in the input stre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097880" y="4861080"/>
            <a:ext cx="762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r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317560" y="4861080"/>
            <a:ext cx="11682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dd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993720" y="4861080"/>
            <a:ext cx="711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280" y="507960"/>
            <a:ext cx="883944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At keyboard you type:</a:t>
            </a:r>
            <a:br>
              <a:rPr sz="4000"/>
            </a:br>
            <a:r>
              <a:rPr b="0" lang="en-US" sz="3200" spc="-1" strike="noStrike">
                <a:solidFill>
                  <a:srgbClr val="000099"/>
                </a:solidFill>
                <a:latin typeface="Courier New"/>
              </a:rPr>
              <a:t> </a:t>
            </a:r>
            <a:r>
              <a:rPr b="1" lang="en-US" sz="3600" spc="-1" strike="noStrike">
                <a:solidFill>
                  <a:srgbClr val="cc0000"/>
                </a:solidFill>
                <a:latin typeface="Courier New"/>
              </a:rPr>
              <a:t>A</a:t>
            </a:r>
            <a:r>
              <a:rPr b="1" lang="en-US" sz="3200" spc="-1" strike="noStrike">
                <a:solidFill>
                  <a:srgbClr val="cc0000"/>
                </a:solidFill>
                <a:latin typeface="Courier New"/>
              </a:rPr>
              <a:t>[</a:t>
            </a:r>
            <a:r>
              <a:rPr b="1" lang="en-US" sz="3600" spc="-1" strike="noStrike">
                <a:solidFill>
                  <a:srgbClr val="cc0000"/>
                </a:solidFill>
                <a:latin typeface="Courier New"/>
              </a:rPr>
              <a:t>space]B</a:t>
            </a:r>
            <a:r>
              <a:rPr b="1" lang="en-US" sz="3200" spc="-1" strike="noStrike">
                <a:solidFill>
                  <a:srgbClr val="cc0000"/>
                </a:solidFill>
                <a:latin typeface="Courier New"/>
              </a:rPr>
              <a:t>[</a:t>
            </a:r>
            <a:r>
              <a:rPr b="1" lang="en-US" sz="3600" spc="-1" strike="noStrike">
                <a:solidFill>
                  <a:srgbClr val="cc0000"/>
                </a:solidFill>
                <a:latin typeface="Courier New"/>
              </a:rPr>
              <a:t>space</a:t>
            </a:r>
            <a:r>
              <a:rPr b="1" lang="en-US" sz="3200" spc="-1" strike="noStrike">
                <a:solidFill>
                  <a:srgbClr val="cc0000"/>
                </a:solidFill>
                <a:latin typeface="Courier New"/>
              </a:rPr>
              <a:t>]</a:t>
            </a:r>
            <a:r>
              <a:rPr b="1" lang="en-US" sz="3600" spc="-1" strike="noStrike">
                <a:solidFill>
                  <a:srgbClr val="cc0000"/>
                </a:solidFill>
                <a:latin typeface="Courier New"/>
              </a:rPr>
              <a:t>C</a:t>
            </a:r>
            <a:r>
              <a:rPr b="1" lang="en-US" sz="3200" spc="-1" strike="noStrike">
                <a:solidFill>
                  <a:srgbClr val="cc0000"/>
                </a:solidFill>
                <a:latin typeface="Courier New"/>
              </a:rPr>
              <a:t>[</a:t>
            </a:r>
            <a:r>
              <a:rPr b="1" lang="en-US" sz="3600" spc="-1" strike="noStrike">
                <a:solidFill>
                  <a:srgbClr val="cc0000"/>
                </a:solidFill>
                <a:latin typeface="Courier New"/>
              </a:rPr>
              <a:t>Enter]</a:t>
            </a:r>
            <a:endParaRPr b="1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3968640" y="2063880"/>
            <a:ext cx="3873600" cy="2654280"/>
            <a:chOff x="3968640" y="2063880"/>
            <a:chExt cx="3873600" cy="2654280"/>
          </a:xfrm>
        </p:grpSpPr>
        <p:sp>
          <p:nvSpPr>
            <p:cNvPr id="132" name=""/>
            <p:cNvSpPr/>
            <p:nvPr/>
          </p:nvSpPr>
          <p:spPr>
            <a:xfrm>
              <a:off x="3968640" y="3968640"/>
              <a:ext cx="978120" cy="74952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416560" y="3968640"/>
              <a:ext cx="977760" cy="74952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864480" y="3968640"/>
              <a:ext cx="977760" cy="74952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68640" y="2063880"/>
              <a:ext cx="978120" cy="74916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416560" y="2063880"/>
              <a:ext cx="977760" cy="74916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864480" y="2063880"/>
              <a:ext cx="977760" cy="74916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4097880" y="2955960"/>
            <a:ext cx="762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r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317560" y="2955960"/>
            <a:ext cx="11682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dd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993720" y="2955960"/>
            <a:ext cx="711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098600" y="4129200"/>
            <a:ext cx="639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‘</a:t>
            </a: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A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622480" y="4129200"/>
            <a:ext cx="639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‘</a:t>
            </a: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B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070400" y="4129200"/>
            <a:ext cx="639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‘</a:t>
            </a: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C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52280" y="571680"/>
            <a:ext cx="883944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At keyboard you type:</a:t>
            </a:r>
            <a:br>
              <a:rPr sz="4000"/>
            </a:br>
            <a:r>
              <a:rPr b="1" lang="en-US" sz="3200" spc="-1" strike="noStrike">
                <a:solidFill>
                  <a:srgbClr val="cc0000"/>
                </a:solidFill>
                <a:latin typeface="Courier New"/>
              </a:rPr>
              <a:t>[</a:t>
            </a:r>
            <a:r>
              <a:rPr b="1" lang="en-US" sz="3600" spc="-1" strike="noStrike">
                <a:solidFill>
                  <a:srgbClr val="cc0000"/>
                </a:solidFill>
                <a:latin typeface="Courier New"/>
              </a:rPr>
              <a:t>space</a:t>
            </a:r>
            <a:r>
              <a:rPr b="1" lang="en-US" sz="3200" spc="-1" strike="noStrike">
                <a:solidFill>
                  <a:srgbClr val="cc0000"/>
                </a:solidFill>
                <a:latin typeface="Courier New"/>
              </a:rPr>
              <a:t>]</a:t>
            </a:r>
            <a:r>
              <a:rPr b="1" lang="en-US" sz="3600" spc="-1" strike="noStrike">
                <a:solidFill>
                  <a:srgbClr val="cc0000"/>
                </a:solidFill>
                <a:latin typeface="Courier New"/>
              </a:rPr>
              <a:t>25</a:t>
            </a:r>
            <a:r>
              <a:rPr b="1" lang="en-US" sz="3200" spc="-1" strike="noStrike">
                <a:solidFill>
                  <a:srgbClr val="cc0000"/>
                </a:solidFill>
                <a:latin typeface="Courier New"/>
              </a:rPr>
              <a:t>[</a:t>
            </a:r>
            <a:r>
              <a:rPr b="1" lang="en-US" sz="3600" spc="-1" strike="noStrike">
                <a:solidFill>
                  <a:srgbClr val="cc0000"/>
                </a:solidFill>
                <a:latin typeface="Courier New"/>
              </a:rPr>
              <a:t>space</a:t>
            </a:r>
            <a:r>
              <a:rPr b="1" lang="en-US" sz="3200" spc="-1" strike="noStrike">
                <a:solidFill>
                  <a:srgbClr val="cc0000"/>
                </a:solidFill>
                <a:latin typeface="Courier New"/>
              </a:rPr>
              <a:t>]</a:t>
            </a:r>
            <a:r>
              <a:rPr b="1" lang="en-US" sz="3600" spc="-1" strike="noStrike">
                <a:solidFill>
                  <a:srgbClr val="cc0000"/>
                </a:solidFill>
                <a:latin typeface="Courier New"/>
              </a:rPr>
              <a:t>J</a:t>
            </a:r>
            <a:r>
              <a:rPr b="1" lang="en-US" sz="3200" spc="-1" strike="noStrike">
                <a:solidFill>
                  <a:srgbClr val="cc0000"/>
                </a:solidFill>
                <a:latin typeface="Courier New"/>
              </a:rPr>
              <a:t>[</a:t>
            </a:r>
            <a:r>
              <a:rPr b="1" lang="en-US" sz="3600" spc="-1" strike="noStrike">
                <a:solidFill>
                  <a:srgbClr val="cc0000"/>
                </a:solidFill>
                <a:latin typeface="Courier New"/>
              </a:rPr>
              <a:t>space]2</a:t>
            </a:r>
            <a:r>
              <a:rPr b="1" lang="en-US" sz="3200" spc="-1" strike="noStrike">
                <a:solidFill>
                  <a:srgbClr val="cc0000"/>
                </a:solidFill>
                <a:latin typeface="Courier New"/>
              </a:rPr>
              <a:t>[</a:t>
            </a:r>
            <a:r>
              <a:rPr b="1" lang="en-US" sz="3600" spc="-1" strike="noStrike">
                <a:solidFill>
                  <a:srgbClr val="cc0000"/>
                </a:solidFill>
                <a:latin typeface="Courier New"/>
              </a:rPr>
              <a:t>Enter</a:t>
            </a:r>
            <a:r>
              <a:rPr b="1" lang="en-US" sz="3200" spc="-1" strike="noStrike">
                <a:solidFill>
                  <a:srgbClr val="cc0000"/>
                </a:solidFill>
                <a:latin typeface="Courier New"/>
              </a:rPr>
              <a:t>]</a:t>
            </a:r>
            <a:endParaRPr b="1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89080" y="1981080"/>
            <a:ext cx="8245440" cy="47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      age 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ar   initial 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loat   bill 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in  &gt;&gt;  age 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in  &gt;&gt;  initial 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in  &gt;&gt; bill 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NOTE:  A file reading marker is left pointing to the    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   newline character after the 2 in the input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   stre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968640" y="4044960"/>
            <a:ext cx="978120" cy="7491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492880" y="4044960"/>
            <a:ext cx="825480" cy="7491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64480" y="4044960"/>
            <a:ext cx="1434960" cy="7491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3968640" y="2063880"/>
            <a:ext cx="4330800" cy="749160"/>
            <a:chOff x="3968640" y="2063880"/>
            <a:chExt cx="4330800" cy="749160"/>
          </a:xfrm>
        </p:grpSpPr>
        <p:sp>
          <p:nvSpPr>
            <p:cNvPr id="150" name=""/>
            <p:cNvSpPr/>
            <p:nvPr/>
          </p:nvSpPr>
          <p:spPr>
            <a:xfrm>
              <a:off x="3968640" y="2063880"/>
              <a:ext cx="978120" cy="74916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492880" y="2063880"/>
              <a:ext cx="825480" cy="74916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864480" y="2063880"/>
              <a:ext cx="1434960" cy="74916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3" name=""/>
          <p:cNvGrpSpPr/>
          <p:nvPr/>
        </p:nvGrpSpPr>
        <p:grpSpPr>
          <a:xfrm>
            <a:off x="4098960" y="2879640"/>
            <a:ext cx="3749760" cy="2439720"/>
            <a:chOff x="4098960" y="2879640"/>
            <a:chExt cx="3749760" cy="2439720"/>
          </a:xfrm>
        </p:grpSpPr>
        <p:sp>
          <p:nvSpPr>
            <p:cNvPr id="154" name=""/>
            <p:cNvSpPr/>
            <p:nvPr/>
          </p:nvSpPr>
          <p:spPr>
            <a:xfrm>
              <a:off x="4098960" y="4861080"/>
              <a:ext cx="7092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g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468760" y="4861080"/>
              <a:ext cx="9835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initi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221600" y="4861080"/>
              <a:ext cx="6271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bil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098960" y="2879640"/>
              <a:ext cx="7092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g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468760" y="2879640"/>
              <a:ext cx="9835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initi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221600" y="2879640"/>
              <a:ext cx="6271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bil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4175280" y="4129200"/>
            <a:ext cx="581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622120" y="4129200"/>
            <a:ext cx="581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‘</a:t>
            </a: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J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146720" y="4129200"/>
            <a:ext cx="680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2.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imes New Roman"/>
              </a:rPr>
              <a:t>Keyboard and Screen I/O</a:t>
            </a:r>
            <a:endParaRPr b="1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75960" y="1752120"/>
            <a:ext cx="8915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69000"/>
          </a:bodyPr>
          <a:p>
            <a:pPr marL="236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#include &lt;iostream&gt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1810440" y="4861080"/>
            <a:ext cx="5946480" cy="1189800"/>
            <a:chOff x="1810440" y="4861080"/>
            <a:chExt cx="5946480" cy="1189800"/>
          </a:xfrm>
        </p:grpSpPr>
        <p:sp>
          <p:nvSpPr>
            <p:cNvPr id="166" name=""/>
            <p:cNvSpPr/>
            <p:nvPr/>
          </p:nvSpPr>
          <p:spPr>
            <a:xfrm>
              <a:off x="1810440" y="4861080"/>
              <a:ext cx="2644920" cy="11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66"/>
                  </a:solidFill>
                  <a:latin typeface="Arial"/>
                </a:rPr>
                <a:t>        </a:t>
              </a:r>
              <a:r>
                <a:rPr b="1" lang="en-US" sz="2400" spc="-1" strike="noStrike">
                  <a:solidFill>
                    <a:srgbClr val="990000"/>
                  </a:solidFill>
                  <a:latin typeface="Arial"/>
                </a:rPr>
                <a:t>ci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(of  type istream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011560" y="4861080"/>
              <a:ext cx="2745360" cy="11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90000"/>
                  </a:solidFill>
                  <a:latin typeface="Arial"/>
                </a:rPr>
                <a:t>        </a:t>
              </a:r>
              <a:r>
                <a:rPr b="1" lang="en-US" sz="2400" spc="-1" strike="noStrike">
                  <a:solidFill>
                    <a:srgbClr val="990000"/>
                  </a:solidFill>
                  <a:latin typeface="Arial"/>
                </a:rPr>
                <a:t>cout</a:t>
              </a:r>
              <a:r>
                <a:rPr b="1" lang="en-US" sz="2400" spc="-1" strike="noStrike">
                  <a:solidFill>
                    <a:srgbClr val="8cf4ea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(of  type ostream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387360" y="2727360"/>
            <a:ext cx="8298720" cy="2295360"/>
            <a:chOff x="387360" y="2727360"/>
            <a:chExt cx="8298720" cy="2295360"/>
          </a:xfrm>
        </p:grpSpPr>
        <p:sp>
          <p:nvSpPr>
            <p:cNvPr id="169" name=""/>
            <p:cNvSpPr/>
            <p:nvPr/>
          </p:nvSpPr>
          <p:spPr>
            <a:xfrm>
              <a:off x="3587760" y="2749680"/>
              <a:ext cx="1892160" cy="2273040"/>
            </a:xfrm>
            <a:prstGeom prst="ellipse">
              <a:avLst/>
            </a:prstGeom>
            <a:solidFill>
              <a:srgbClr val="c0fef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87360" y="3359160"/>
              <a:ext cx="1892160" cy="74916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18400" y="3565440"/>
              <a:ext cx="15886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Keyboar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864480" y="3282840"/>
              <a:ext cx="1739880" cy="1435320"/>
            </a:xfrm>
            <a:prstGeom prst="rect">
              <a:avLst/>
            </a:prstGeom>
            <a:solidFill>
              <a:srgbClr val="ffcc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070760" y="3565440"/>
              <a:ext cx="11998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Scree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794040" y="3336840"/>
              <a:ext cx="16070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execu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progra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467080" y="3500280"/>
              <a:ext cx="933480" cy="648000"/>
            </a:xfrm>
            <a:prstGeom prst="rightArrow">
              <a:avLst>
                <a:gd name="adj1" fmla="val 50000"/>
                <a:gd name="adj2" fmla="val 72034"/>
              </a:avLst>
            </a:prstGeom>
            <a:solidFill>
              <a:srgbClr val="dbffb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16600" y="2803680"/>
              <a:ext cx="16419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input dat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841440" y="2727360"/>
              <a:ext cx="18446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output dat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743440" y="3500280"/>
              <a:ext cx="933480" cy="648000"/>
            </a:xfrm>
            <a:prstGeom prst="rightArrow">
              <a:avLst>
                <a:gd name="adj1" fmla="val 50000"/>
                <a:gd name="adj2" fmla="val 72034"/>
              </a:avLst>
            </a:prstGeom>
            <a:solidFill>
              <a:srgbClr val="dbffb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9" name=""/>
          <p:cNvGrpSpPr/>
          <p:nvPr/>
        </p:nvGrpSpPr>
        <p:grpSpPr>
          <a:xfrm>
            <a:off x="3664080" y="2500200"/>
            <a:ext cx="2654280" cy="554040"/>
            <a:chOff x="3664080" y="2500200"/>
            <a:chExt cx="2654280" cy="554040"/>
          </a:xfrm>
        </p:grpSpPr>
        <p:sp>
          <p:nvSpPr>
            <p:cNvPr id="180" name=""/>
            <p:cNvSpPr/>
            <p:nvPr/>
          </p:nvSpPr>
          <p:spPr>
            <a:xfrm>
              <a:off x="5649840" y="2500200"/>
              <a:ext cx="668520" cy="55404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664080" y="2500200"/>
              <a:ext cx="668160" cy="55404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659480" y="2500200"/>
              <a:ext cx="664920" cy="55404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136440" y="1600200"/>
            <a:ext cx="9006120" cy="502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STATEMENTS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  CONTENTS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     MAR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POSITION</a:t>
            </a:r>
            <a:r>
              <a:rPr b="1" lang="en-US" sz="24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        i ;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25  A\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ar     ch ;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16.9\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loat     x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in  &gt;&gt;  i ;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cc33"/>
                </a:solidFill>
                <a:latin typeface="Arial"/>
              </a:rPr>
              <a:t>25</a:t>
            </a:r>
            <a:r>
              <a:rPr b="1" lang="en-US" sz="2400" spc="-1" strike="noStrike">
                <a:solidFill>
                  <a:srgbClr val="99ff66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\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6.9\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in  &gt;&gt; ch ;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cc33"/>
                </a:solidFill>
                <a:latin typeface="Arial"/>
              </a:rPr>
              <a:t>25  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\n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6.9\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in  &gt;&gt;  x ;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cc33"/>
                </a:solidFill>
                <a:latin typeface="Arial"/>
              </a:rPr>
              <a:t>25  A\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99ff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cc33"/>
                </a:solidFill>
                <a:latin typeface="Arial"/>
              </a:rPr>
              <a:t>16.9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\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83944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Another example using &gt;&gt;</a:t>
            </a:r>
            <a:br>
              <a:rPr sz="4000"/>
            </a:br>
            <a:endParaRPr b="1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429000" y="1600200"/>
            <a:ext cx="0" cy="5181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74520" y="2362320"/>
            <a:ext cx="8991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553080" y="1523880"/>
            <a:ext cx="0" cy="5257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711840" y="2444760"/>
            <a:ext cx="139680" cy="44460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093080" y="3511440"/>
            <a:ext cx="139680" cy="44460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3826440" y="3084480"/>
            <a:ext cx="2342880" cy="458280"/>
            <a:chOff x="3826440" y="3084480"/>
            <a:chExt cx="2342880" cy="458280"/>
          </a:xfrm>
        </p:grpSpPr>
        <p:sp>
          <p:nvSpPr>
            <p:cNvPr id="191" name=""/>
            <p:cNvSpPr/>
            <p:nvPr/>
          </p:nvSpPr>
          <p:spPr>
            <a:xfrm>
              <a:off x="3826440" y="3084480"/>
              <a:ext cx="2703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664160" y="3084480"/>
              <a:ext cx="5400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815080" y="3084480"/>
              <a:ext cx="3542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4" name=""/>
          <p:cNvGrpSpPr/>
          <p:nvPr/>
        </p:nvGrpSpPr>
        <p:grpSpPr>
          <a:xfrm>
            <a:off x="3664080" y="3567240"/>
            <a:ext cx="2654280" cy="554040"/>
            <a:chOff x="3664080" y="3567240"/>
            <a:chExt cx="2654280" cy="554040"/>
          </a:xfrm>
        </p:grpSpPr>
        <p:sp>
          <p:nvSpPr>
            <p:cNvPr id="195" name=""/>
            <p:cNvSpPr/>
            <p:nvPr/>
          </p:nvSpPr>
          <p:spPr>
            <a:xfrm>
              <a:off x="5649840" y="3567240"/>
              <a:ext cx="668520" cy="55404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664080" y="3567240"/>
              <a:ext cx="668160" cy="55404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659480" y="3567240"/>
              <a:ext cx="664920" cy="55404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8" name=""/>
          <p:cNvGrpSpPr/>
          <p:nvPr/>
        </p:nvGrpSpPr>
        <p:grpSpPr>
          <a:xfrm>
            <a:off x="3664080" y="5700600"/>
            <a:ext cx="2654280" cy="554040"/>
            <a:chOff x="3664080" y="5700600"/>
            <a:chExt cx="2654280" cy="554040"/>
          </a:xfrm>
        </p:grpSpPr>
        <p:sp>
          <p:nvSpPr>
            <p:cNvPr id="199" name=""/>
            <p:cNvSpPr/>
            <p:nvPr/>
          </p:nvSpPr>
          <p:spPr>
            <a:xfrm>
              <a:off x="5649840" y="5700600"/>
              <a:ext cx="668520" cy="55404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3664080" y="5700600"/>
              <a:ext cx="668160" cy="55404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659480" y="5700600"/>
              <a:ext cx="664920" cy="55404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3664080" y="4633920"/>
            <a:ext cx="2654280" cy="554040"/>
            <a:chOff x="3664080" y="4633920"/>
            <a:chExt cx="2654280" cy="554040"/>
          </a:xfrm>
        </p:grpSpPr>
        <p:sp>
          <p:nvSpPr>
            <p:cNvPr id="203" name=""/>
            <p:cNvSpPr/>
            <p:nvPr/>
          </p:nvSpPr>
          <p:spPr>
            <a:xfrm>
              <a:off x="5649840" y="4633920"/>
              <a:ext cx="668520" cy="55404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664080" y="4633920"/>
              <a:ext cx="668160" cy="55404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659480" y="4633920"/>
              <a:ext cx="664920" cy="55404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6" name=""/>
          <p:cNvSpPr/>
          <p:nvPr/>
        </p:nvSpPr>
        <p:spPr>
          <a:xfrm>
            <a:off x="3718080" y="3595680"/>
            <a:ext cx="581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321680" y="6102360"/>
            <a:ext cx="291960" cy="44460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3718080" y="4662360"/>
            <a:ext cx="1629000" cy="519120"/>
            <a:chOff x="3718080" y="4662360"/>
            <a:chExt cx="1629000" cy="519120"/>
          </a:xfrm>
        </p:grpSpPr>
        <p:sp>
          <p:nvSpPr>
            <p:cNvPr id="209" name=""/>
            <p:cNvSpPr/>
            <p:nvPr/>
          </p:nvSpPr>
          <p:spPr>
            <a:xfrm>
              <a:off x="3718080" y="4662360"/>
              <a:ext cx="5814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90000"/>
                  </a:solidFill>
                  <a:latin typeface="Arial"/>
                </a:rPr>
                <a:t>25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708080" y="4662360"/>
              <a:ext cx="6390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90000"/>
                  </a:solidFill>
                  <a:latin typeface="Arial"/>
                </a:rPr>
                <a:t>‘</a:t>
              </a:r>
              <a:r>
                <a:rPr b="1" lang="en-US" sz="2800" spc="-1" strike="noStrike">
                  <a:solidFill>
                    <a:srgbClr val="990000"/>
                  </a:solidFill>
                  <a:latin typeface="Arial"/>
                </a:rPr>
                <a:t>A’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1" name=""/>
          <p:cNvGrpSpPr/>
          <p:nvPr/>
        </p:nvGrpSpPr>
        <p:grpSpPr>
          <a:xfrm>
            <a:off x="3826440" y="4151160"/>
            <a:ext cx="2342880" cy="458280"/>
            <a:chOff x="3826440" y="4151160"/>
            <a:chExt cx="2342880" cy="458280"/>
          </a:xfrm>
        </p:grpSpPr>
        <p:sp>
          <p:nvSpPr>
            <p:cNvPr id="212" name=""/>
            <p:cNvSpPr/>
            <p:nvPr/>
          </p:nvSpPr>
          <p:spPr>
            <a:xfrm>
              <a:off x="3826440" y="4151160"/>
              <a:ext cx="2703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664160" y="4151160"/>
              <a:ext cx="5400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815080" y="4151160"/>
              <a:ext cx="3542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5" name=""/>
          <p:cNvGrpSpPr/>
          <p:nvPr/>
        </p:nvGrpSpPr>
        <p:grpSpPr>
          <a:xfrm>
            <a:off x="3826440" y="5218200"/>
            <a:ext cx="2342880" cy="458280"/>
            <a:chOff x="3826440" y="5218200"/>
            <a:chExt cx="2342880" cy="458280"/>
          </a:xfrm>
        </p:grpSpPr>
        <p:sp>
          <p:nvSpPr>
            <p:cNvPr id="216" name=""/>
            <p:cNvSpPr/>
            <p:nvPr/>
          </p:nvSpPr>
          <p:spPr>
            <a:xfrm>
              <a:off x="3826440" y="5218200"/>
              <a:ext cx="2703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664160" y="5218200"/>
              <a:ext cx="5400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815080" y="5218200"/>
              <a:ext cx="3542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3826440" y="6361200"/>
            <a:ext cx="2342880" cy="458280"/>
            <a:chOff x="3826440" y="6361200"/>
            <a:chExt cx="2342880" cy="458280"/>
          </a:xfrm>
        </p:grpSpPr>
        <p:sp>
          <p:nvSpPr>
            <p:cNvPr id="220" name=""/>
            <p:cNvSpPr/>
            <p:nvPr/>
          </p:nvSpPr>
          <p:spPr>
            <a:xfrm>
              <a:off x="3826440" y="6361200"/>
              <a:ext cx="2703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664160" y="6361200"/>
              <a:ext cx="5400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815080" y="6361200"/>
              <a:ext cx="3542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3" name=""/>
          <p:cNvSpPr/>
          <p:nvPr/>
        </p:nvSpPr>
        <p:spPr>
          <a:xfrm>
            <a:off x="5546520" y="5729400"/>
            <a:ext cx="878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16.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3718080" y="5729400"/>
            <a:ext cx="1629000" cy="519120"/>
            <a:chOff x="3718080" y="5729400"/>
            <a:chExt cx="1629000" cy="519120"/>
          </a:xfrm>
        </p:grpSpPr>
        <p:sp>
          <p:nvSpPr>
            <p:cNvPr id="225" name=""/>
            <p:cNvSpPr/>
            <p:nvPr/>
          </p:nvSpPr>
          <p:spPr>
            <a:xfrm>
              <a:off x="3718080" y="5729400"/>
              <a:ext cx="5814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90000"/>
                  </a:solidFill>
                  <a:latin typeface="Arial"/>
                </a:rPr>
                <a:t>25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708080" y="5729400"/>
              <a:ext cx="6390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90000"/>
                  </a:solidFill>
                  <a:latin typeface="Arial"/>
                </a:rPr>
                <a:t>‘</a:t>
              </a:r>
              <a:r>
                <a:rPr b="1" lang="en-US" sz="2800" spc="-1" strike="noStrike">
                  <a:solidFill>
                    <a:srgbClr val="990000"/>
                  </a:solidFill>
                  <a:latin typeface="Arial"/>
                </a:rPr>
                <a:t>A’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7" name=""/>
          <p:cNvSpPr/>
          <p:nvPr/>
        </p:nvSpPr>
        <p:spPr>
          <a:xfrm>
            <a:off x="7473960" y="4654440"/>
            <a:ext cx="216000" cy="44460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514440" y="844560"/>
            <a:ext cx="7932960" cy="512280"/>
            <a:chOff x="514440" y="844560"/>
            <a:chExt cx="7932960" cy="512280"/>
          </a:xfrm>
        </p:grpSpPr>
        <p:sp>
          <p:nvSpPr>
            <p:cNvPr id="229" name=""/>
            <p:cNvSpPr/>
            <p:nvPr/>
          </p:nvSpPr>
          <p:spPr>
            <a:xfrm>
              <a:off x="514440" y="898560"/>
              <a:ext cx="79329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NOTE:        shows the location of the file reading marker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758960" y="844560"/>
              <a:ext cx="291960" cy="444600"/>
            </a:xfrm>
            <a:prstGeom prst="rect">
              <a:avLst/>
            </a:prstGeom>
            <a:noFill/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1" name=""/>
          <p:cNvSpPr/>
          <p:nvPr/>
        </p:nvSpPr>
        <p:spPr>
          <a:xfrm flipH="1">
            <a:off x="-360" y="5629320"/>
            <a:ext cx="8653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H="1">
            <a:off x="136440" y="4545000"/>
            <a:ext cx="8653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0" y="3589200"/>
            <a:ext cx="3421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436920" y="3471840"/>
            <a:ext cx="3124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561000" y="3556080"/>
            <a:ext cx="258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974880" y="2019240"/>
            <a:ext cx="7235640" cy="350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 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get( )</a:t>
            </a:r>
            <a:r>
              <a:rPr b="0" lang="en-US" sz="3200" spc="-1" strike="noStrike">
                <a:solidFill>
                  <a:srgbClr val="51dc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 can be used to read a single character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obtains the very next character from the input stream without skipping any leading whitespace</a:t>
            </a: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racters.</a:t>
            </a: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948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imes New Roman"/>
              </a:rPr>
              <a:t>Another Way to Read char Da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F2838-63C4-4E7A-82B2-F7C86EB7631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289080" y="1981080"/>
            <a:ext cx="8245440" cy="454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ar   first 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ar   middle 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ar   last 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in.get ( first ) 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in.get ( middle ) 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in.get ( last ) 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NOTE:  The file reading marker is left pointing to the    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   space after the ‘B’ in the input stre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968640" y="3968640"/>
            <a:ext cx="978120" cy="7495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416560" y="3968640"/>
            <a:ext cx="977760" cy="7495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64480" y="3968640"/>
            <a:ext cx="977760" cy="7495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097880" y="4861080"/>
            <a:ext cx="762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r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317560" y="4861080"/>
            <a:ext cx="11682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dd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993720" y="4861080"/>
            <a:ext cx="711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52280" y="457200"/>
            <a:ext cx="883944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At keyboard you type:</a:t>
            </a:r>
            <a:br>
              <a:rPr sz="4000"/>
            </a:br>
            <a:r>
              <a:rPr b="0" lang="en-US" sz="3200" spc="-1" strike="noStrike">
                <a:solidFill>
                  <a:srgbClr val="000099"/>
                </a:solidFill>
                <a:latin typeface="Courier New"/>
              </a:rPr>
              <a:t> </a:t>
            </a:r>
            <a:r>
              <a:rPr b="1" lang="en-US" sz="3600" spc="-1" strike="noStrike">
                <a:solidFill>
                  <a:srgbClr val="cc0000"/>
                </a:solidFill>
                <a:latin typeface="Courier New"/>
              </a:rPr>
              <a:t>A</a:t>
            </a:r>
            <a:r>
              <a:rPr b="1" lang="en-US" sz="3200" spc="-1" strike="noStrike">
                <a:solidFill>
                  <a:srgbClr val="cc0000"/>
                </a:solidFill>
                <a:latin typeface="Courier New"/>
              </a:rPr>
              <a:t>[</a:t>
            </a:r>
            <a:r>
              <a:rPr b="1" lang="en-US" sz="3600" spc="-1" strike="noStrike">
                <a:solidFill>
                  <a:srgbClr val="cc0000"/>
                </a:solidFill>
                <a:latin typeface="Courier New"/>
              </a:rPr>
              <a:t>space]B</a:t>
            </a:r>
            <a:r>
              <a:rPr b="1" lang="en-US" sz="3200" spc="-1" strike="noStrike">
                <a:solidFill>
                  <a:srgbClr val="cc0000"/>
                </a:solidFill>
                <a:latin typeface="Courier New"/>
              </a:rPr>
              <a:t>[</a:t>
            </a:r>
            <a:r>
              <a:rPr b="1" lang="en-US" sz="3600" spc="-1" strike="noStrike">
                <a:solidFill>
                  <a:srgbClr val="cc0000"/>
                </a:solidFill>
                <a:latin typeface="Courier New"/>
              </a:rPr>
              <a:t>space</a:t>
            </a:r>
            <a:r>
              <a:rPr b="1" lang="en-US" sz="3200" spc="-1" strike="noStrike">
                <a:solidFill>
                  <a:srgbClr val="cc0000"/>
                </a:solidFill>
                <a:latin typeface="Courier New"/>
              </a:rPr>
              <a:t>]</a:t>
            </a:r>
            <a:r>
              <a:rPr b="1" lang="en-US" sz="3600" spc="-1" strike="noStrike">
                <a:solidFill>
                  <a:srgbClr val="cc0000"/>
                </a:solidFill>
                <a:latin typeface="Courier New"/>
              </a:rPr>
              <a:t>C</a:t>
            </a:r>
            <a:r>
              <a:rPr b="1" lang="en-US" sz="3200" spc="-1" strike="noStrike">
                <a:solidFill>
                  <a:srgbClr val="cc0000"/>
                </a:solidFill>
                <a:latin typeface="Courier New"/>
              </a:rPr>
              <a:t>[</a:t>
            </a:r>
            <a:r>
              <a:rPr b="1" lang="en-US" sz="3600" spc="-1" strike="noStrike">
                <a:solidFill>
                  <a:srgbClr val="cc0000"/>
                </a:solidFill>
                <a:latin typeface="Courier New"/>
              </a:rPr>
              <a:t>Enter]</a:t>
            </a:r>
            <a:endParaRPr b="1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968640" y="2063880"/>
            <a:ext cx="978120" cy="7491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416560" y="2063880"/>
            <a:ext cx="977760" cy="7491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864480" y="2063880"/>
            <a:ext cx="977760" cy="7491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097880" y="2955960"/>
            <a:ext cx="762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r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317560" y="2955960"/>
            <a:ext cx="11682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dd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993720" y="2955960"/>
            <a:ext cx="711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098600" y="4129200"/>
            <a:ext cx="639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‘</a:t>
            </a: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A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621400" y="4129200"/>
            <a:ext cx="482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‘ 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994080" y="4129200"/>
            <a:ext cx="639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‘</a:t>
            </a: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B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762120" y="596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imes New Roman"/>
              </a:rPr>
              <a:t>Use function ignore( ) </a:t>
            </a:r>
            <a:br>
              <a:rPr sz="4400"/>
            </a:br>
            <a:r>
              <a:rPr b="1" lang="en-US" sz="4400" spc="-1" strike="noStrike">
                <a:solidFill>
                  <a:srgbClr val="000099"/>
                </a:solidFill>
                <a:latin typeface="Times New Roman"/>
              </a:rPr>
              <a:t>to skip charact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89080" y="2057400"/>
            <a:ext cx="8474040" cy="39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ignore( )</a:t>
            </a:r>
            <a:r>
              <a:rPr b="0" lang="en-US" sz="3200" spc="-1" strike="noStrike">
                <a:solidFill>
                  <a:srgbClr val="51dc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nction is used to skip (read and discard) characters in the input stream.  The ca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cin.ignore ( howMany, whatChar ) 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ll skip over up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owMan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haracters or until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Cha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has been read, whichever comes first.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119F7-5F1B-40D7-BAFA-EBCAC5FD056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480" y="1458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imes New Roman"/>
              </a:rPr>
              <a:t>Agenda</a:t>
            </a:r>
            <a:endParaRPr b="1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turn assignment MP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lect assignment MP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nd out assignment MP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pter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6C1E9-A6E5-4D03-8611-1147DC6EE04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83944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An Example Using cin.ignore( )</a:t>
            </a:r>
            <a:br>
              <a:rPr sz="4000"/>
            </a:br>
            <a:endParaRPr b="1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429000" y="1600200"/>
            <a:ext cx="0" cy="5181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4520" y="2362320"/>
            <a:ext cx="8991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553080" y="1523880"/>
            <a:ext cx="0" cy="5257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711840" y="2444760"/>
            <a:ext cx="139680" cy="44460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7702560" y="3511440"/>
            <a:ext cx="139680" cy="44460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3" name=""/>
          <p:cNvGrpSpPr/>
          <p:nvPr/>
        </p:nvGrpSpPr>
        <p:grpSpPr>
          <a:xfrm>
            <a:off x="3664080" y="2500200"/>
            <a:ext cx="2654280" cy="554040"/>
            <a:chOff x="3664080" y="2500200"/>
            <a:chExt cx="2654280" cy="554040"/>
          </a:xfrm>
        </p:grpSpPr>
        <p:sp>
          <p:nvSpPr>
            <p:cNvPr id="264" name=""/>
            <p:cNvSpPr/>
            <p:nvPr/>
          </p:nvSpPr>
          <p:spPr>
            <a:xfrm>
              <a:off x="5649840" y="2500200"/>
              <a:ext cx="668520" cy="55404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664080" y="2500200"/>
              <a:ext cx="668160" cy="55404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4659480" y="2500200"/>
              <a:ext cx="664920" cy="55404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3827520" y="3084480"/>
            <a:ext cx="2341800" cy="458280"/>
            <a:chOff x="3827520" y="3084480"/>
            <a:chExt cx="2341800" cy="458280"/>
          </a:xfrm>
        </p:grpSpPr>
        <p:sp>
          <p:nvSpPr>
            <p:cNvPr id="268" name=""/>
            <p:cNvSpPr/>
            <p:nvPr/>
          </p:nvSpPr>
          <p:spPr>
            <a:xfrm>
              <a:off x="3827520" y="3084480"/>
              <a:ext cx="3542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4816080" y="3084480"/>
              <a:ext cx="3708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815080" y="3084480"/>
              <a:ext cx="3542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1" name=""/>
          <p:cNvGrpSpPr/>
          <p:nvPr/>
        </p:nvGrpSpPr>
        <p:grpSpPr>
          <a:xfrm>
            <a:off x="3664080" y="5700600"/>
            <a:ext cx="2654280" cy="554040"/>
            <a:chOff x="3664080" y="5700600"/>
            <a:chExt cx="2654280" cy="554040"/>
          </a:xfrm>
        </p:grpSpPr>
        <p:sp>
          <p:nvSpPr>
            <p:cNvPr id="272" name=""/>
            <p:cNvSpPr/>
            <p:nvPr/>
          </p:nvSpPr>
          <p:spPr>
            <a:xfrm>
              <a:off x="5649840" y="5700600"/>
              <a:ext cx="668520" cy="55404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664080" y="5700600"/>
              <a:ext cx="668160" cy="55404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659480" y="5700600"/>
              <a:ext cx="664920" cy="55404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3827520" y="6284880"/>
            <a:ext cx="2341800" cy="458280"/>
            <a:chOff x="3827520" y="6284880"/>
            <a:chExt cx="2341800" cy="458280"/>
          </a:xfrm>
        </p:grpSpPr>
        <p:sp>
          <p:nvSpPr>
            <p:cNvPr id="276" name=""/>
            <p:cNvSpPr/>
            <p:nvPr/>
          </p:nvSpPr>
          <p:spPr>
            <a:xfrm>
              <a:off x="3827520" y="6284880"/>
              <a:ext cx="3542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816080" y="6284880"/>
              <a:ext cx="3708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815080" y="6284880"/>
              <a:ext cx="3542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664080" y="3567240"/>
            <a:ext cx="2654280" cy="554040"/>
            <a:chOff x="3664080" y="3567240"/>
            <a:chExt cx="2654280" cy="554040"/>
          </a:xfrm>
        </p:grpSpPr>
        <p:sp>
          <p:nvSpPr>
            <p:cNvPr id="280" name=""/>
            <p:cNvSpPr/>
            <p:nvPr/>
          </p:nvSpPr>
          <p:spPr>
            <a:xfrm>
              <a:off x="5649840" y="3567240"/>
              <a:ext cx="668520" cy="55404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3664080" y="3567240"/>
              <a:ext cx="668160" cy="55404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659480" y="3567240"/>
              <a:ext cx="664920" cy="55404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3" name=""/>
          <p:cNvGrpSpPr/>
          <p:nvPr/>
        </p:nvGrpSpPr>
        <p:grpSpPr>
          <a:xfrm>
            <a:off x="3827520" y="4151160"/>
            <a:ext cx="2341800" cy="458280"/>
            <a:chOff x="3827520" y="4151160"/>
            <a:chExt cx="2341800" cy="458280"/>
          </a:xfrm>
        </p:grpSpPr>
        <p:sp>
          <p:nvSpPr>
            <p:cNvPr id="284" name=""/>
            <p:cNvSpPr/>
            <p:nvPr/>
          </p:nvSpPr>
          <p:spPr>
            <a:xfrm>
              <a:off x="3827520" y="4151160"/>
              <a:ext cx="3542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816080" y="4151160"/>
              <a:ext cx="3708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5815080" y="4151160"/>
              <a:ext cx="3542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3664080" y="4633920"/>
            <a:ext cx="2654280" cy="554040"/>
            <a:chOff x="3664080" y="4633920"/>
            <a:chExt cx="2654280" cy="554040"/>
          </a:xfrm>
        </p:grpSpPr>
        <p:sp>
          <p:nvSpPr>
            <p:cNvPr id="288" name=""/>
            <p:cNvSpPr/>
            <p:nvPr/>
          </p:nvSpPr>
          <p:spPr>
            <a:xfrm>
              <a:off x="5649840" y="4633920"/>
              <a:ext cx="668520" cy="55404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3664080" y="4633920"/>
              <a:ext cx="668160" cy="55404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659480" y="4633920"/>
              <a:ext cx="664920" cy="55404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1" name=""/>
          <p:cNvGrpSpPr/>
          <p:nvPr/>
        </p:nvGrpSpPr>
        <p:grpSpPr>
          <a:xfrm>
            <a:off x="3827520" y="5218200"/>
            <a:ext cx="2341800" cy="458280"/>
            <a:chOff x="3827520" y="5218200"/>
            <a:chExt cx="2341800" cy="458280"/>
          </a:xfrm>
        </p:grpSpPr>
        <p:sp>
          <p:nvSpPr>
            <p:cNvPr id="292" name=""/>
            <p:cNvSpPr/>
            <p:nvPr/>
          </p:nvSpPr>
          <p:spPr>
            <a:xfrm>
              <a:off x="3827520" y="5218200"/>
              <a:ext cx="3542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816080" y="5218200"/>
              <a:ext cx="3708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5815080" y="5218200"/>
              <a:ext cx="3542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5" name=""/>
          <p:cNvGrpSpPr/>
          <p:nvPr/>
        </p:nvGrpSpPr>
        <p:grpSpPr>
          <a:xfrm>
            <a:off x="3641040" y="3595680"/>
            <a:ext cx="1648080" cy="519120"/>
            <a:chOff x="3641040" y="3595680"/>
            <a:chExt cx="1648080" cy="519120"/>
          </a:xfrm>
        </p:grpSpPr>
        <p:sp>
          <p:nvSpPr>
            <p:cNvPr id="296" name=""/>
            <p:cNvSpPr/>
            <p:nvPr/>
          </p:nvSpPr>
          <p:spPr>
            <a:xfrm>
              <a:off x="3641040" y="3595680"/>
              <a:ext cx="7794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99"/>
                  </a:solidFill>
                  <a:latin typeface="Arial"/>
                </a:rPr>
                <a:t>957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707720" y="3595680"/>
              <a:ext cx="5814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99"/>
                  </a:solidFill>
                  <a:latin typeface="Arial"/>
                </a:rPr>
                <a:t>3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8" name=""/>
          <p:cNvSpPr/>
          <p:nvPr/>
        </p:nvSpPr>
        <p:spPr>
          <a:xfrm>
            <a:off x="6711840" y="5035680"/>
            <a:ext cx="139680" cy="44424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7245360" y="6102360"/>
            <a:ext cx="139680" cy="44460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0" name=""/>
          <p:cNvGrpSpPr/>
          <p:nvPr/>
        </p:nvGrpSpPr>
        <p:grpSpPr>
          <a:xfrm>
            <a:off x="3641040" y="5729400"/>
            <a:ext cx="2760480" cy="519120"/>
            <a:chOff x="3641040" y="5729400"/>
            <a:chExt cx="2760480" cy="519120"/>
          </a:xfrm>
        </p:grpSpPr>
        <p:grpSp>
          <p:nvGrpSpPr>
            <p:cNvPr id="301" name=""/>
            <p:cNvGrpSpPr/>
            <p:nvPr/>
          </p:nvGrpSpPr>
          <p:grpSpPr>
            <a:xfrm>
              <a:off x="3641040" y="5729400"/>
              <a:ext cx="1648080" cy="519120"/>
              <a:chOff x="3641040" y="5729400"/>
              <a:chExt cx="1648080" cy="519120"/>
            </a:xfrm>
          </p:grpSpPr>
          <p:sp>
            <p:nvSpPr>
              <p:cNvPr id="302" name=""/>
              <p:cNvSpPr/>
              <p:nvPr/>
            </p:nvSpPr>
            <p:spPr>
              <a:xfrm>
                <a:off x="3641040" y="5729400"/>
                <a:ext cx="77940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99"/>
                    </a:solidFill>
                    <a:latin typeface="Arial"/>
                  </a:rPr>
                  <a:t>957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4707720" y="5729400"/>
                <a:ext cx="58140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99"/>
                    </a:solidFill>
                    <a:latin typeface="Arial"/>
                  </a:rPr>
                  <a:t>34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4" name=""/>
            <p:cNvSpPr/>
            <p:nvPr/>
          </p:nvSpPr>
          <p:spPr>
            <a:xfrm>
              <a:off x="5622120" y="5729400"/>
              <a:ext cx="7794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99"/>
                  </a:solidFill>
                  <a:latin typeface="Arial"/>
                </a:rPr>
                <a:t>128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5" name=""/>
          <p:cNvGrpSpPr/>
          <p:nvPr/>
        </p:nvGrpSpPr>
        <p:grpSpPr>
          <a:xfrm>
            <a:off x="3641040" y="4662360"/>
            <a:ext cx="1648080" cy="519120"/>
            <a:chOff x="3641040" y="4662360"/>
            <a:chExt cx="1648080" cy="519120"/>
          </a:xfrm>
        </p:grpSpPr>
        <p:sp>
          <p:nvSpPr>
            <p:cNvPr id="306" name=""/>
            <p:cNvSpPr/>
            <p:nvPr/>
          </p:nvSpPr>
          <p:spPr>
            <a:xfrm>
              <a:off x="3641040" y="4662360"/>
              <a:ext cx="7794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99"/>
                  </a:solidFill>
                  <a:latin typeface="Arial"/>
                </a:rPr>
                <a:t>957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07720" y="4662360"/>
              <a:ext cx="5814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99"/>
                  </a:solidFill>
                  <a:latin typeface="Arial"/>
                </a:rPr>
                <a:t>3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8" name=""/>
          <p:cNvGrpSpPr/>
          <p:nvPr/>
        </p:nvGrpSpPr>
        <p:grpSpPr>
          <a:xfrm>
            <a:off x="514440" y="844560"/>
            <a:ext cx="7932960" cy="512280"/>
            <a:chOff x="514440" y="844560"/>
            <a:chExt cx="7932960" cy="512280"/>
          </a:xfrm>
        </p:grpSpPr>
        <p:sp>
          <p:nvSpPr>
            <p:cNvPr id="309" name=""/>
            <p:cNvSpPr/>
            <p:nvPr/>
          </p:nvSpPr>
          <p:spPr>
            <a:xfrm>
              <a:off x="514440" y="898560"/>
              <a:ext cx="79329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NOTE:        shows the location of the file reading marker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1758960" y="844560"/>
              <a:ext cx="291960" cy="444600"/>
            </a:xfrm>
            <a:prstGeom prst="rect">
              <a:avLst/>
            </a:prstGeom>
            <a:noFill/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1" name=""/>
          <p:cNvSpPr/>
          <p:nvPr/>
        </p:nvSpPr>
        <p:spPr>
          <a:xfrm>
            <a:off x="136440" y="1600200"/>
            <a:ext cx="9006120" cy="502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STATEMENTS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  CONTENTS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     MAR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POSITION</a:t>
            </a:r>
            <a:r>
              <a:rPr b="1" lang="en-US" sz="24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      a, b, c;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957  34   1235\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28  96\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in  &gt;&gt;  a  &gt;&gt;  b ;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cc33"/>
                </a:solidFill>
                <a:latin typeface="Arial"/>
              </a:rPr>
              <a:t>957  34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1235\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28  96\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in.ignore(100, ‘\n’) ;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cc33"/>
                </a:solidFill>
                <a:latin typeface="Arial"/>
              </a:rPr>
              <a:t>957  34   1235\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28  96\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in  &gt;&gt;  c ;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cc33"/>
                </a:solidFill>
                <a:latin typeface="Arial"/>
              </a:rPr>
              <a:t>957  34   1235\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99ff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cc33"/>
                </a:solidFill>
                <a:latin typeface="Arial"/>
              </a:rPr>
              <a:t>128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96\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flipH="1">
            <a:off x="330120" y="6653160"/>
            <a:ext cx="8653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 flipH="1">
            <a:off x="304560" y="5611680"/>
            <a:ext cx="8653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 flipH="1">
            <a:off x="355320" y="4529160"/>
            <a:ext cx="8653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 flipH="1">
            <a:off x="210960" y="3513240"/>
            <a:ext cx="8653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83944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Another Example Using cin.ignore( )</a:t>
            </a:r>
            <a:br>
              <a:rPr sz="4000"/>
            </a:br>
            <a:endParaRPr b="1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429000" y="1600200"/>
            <a:ext cx="0" cy="5181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74520" y="2362320"/>
            <a:ext cx="8991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943600" y="1600200"/>
            <a:ext cx="0" cy="5181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178680" y="2444760"/>
            <a:ext cx="139680" cy="44460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6407280" y="3587760"/>
            <a:ext cx="139680" cy="44460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2" name=""/>
          <p:cNvGrpSpPr/>
          <p:nvPr/>
        </p:nvGrpSpPr>
        <p:grpSpPr>
          <a:xfrm>
            <a:off x="3664080" y="2500200"/>
            <a:ext cx="1736640" cy="554040"/>
            <a:chOff x="3664080" y="2500200"/>
            <a:chExt cx="1736640" cy="554040"/>
          </a:xfrm>
        </p:grpSpPr>
        <p:sp>
          <p:nvSpPr>
            <p:cNvPr id="323" name=""/>
            <p:cNvSpPr/>
            <p:nvPr/>
          </p:nvSpPr>
          <p:spPr>
            <a:xfrm>
              <a:off x="3664080" y="2500200"/>
              <a:ext cx="668160" cy="55404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4735440" y="2500200"/>
              <a:ext cx="665280" cy="55404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5" name=""/>
          <p:cNvSpPr/>
          <p:nvPr/>
        </p:nvSpPr>
        <p:spPr>
          <a:xfrm>
            <a:off x="3826440" y="3084480"/>
            <a:ext cx="2703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4816440" y="3084480"/>
            <a:ext cx="540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7" name=""/>
          <p:cNvGrpSpPr/>
          <p:nvPr/>
        </p:nvGrpSpPr>
        <p:grpSpPr>
          <a:xfrm>
            <a:off x="3641040" y="3595680"/>
            <a:ext cx="1648080" cy="519120"/>
            <a:chOff x="3641040" y="3595680"/>
            <a:chExt cx="1648080" cy="519120"/>
          </a:xfrm>
        </p:grpSpPr>
        <p:sp>
          <p:nvSpPr>
            <p:cNvPr id="328" name=""/>
            <p:cNvSpPr/>
            <p:nvPr/>
          </p:nvSpPr>
          <p:spPr>
            <a:xfrm>
              <a:off x="3641040" y="3595680"/>
              <a:ext cx="7794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957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4707720" y="3595680"/>
              <a:ext cx="5814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0" name=""/>
          <p:cNvSpPr/>
          <p:nvPr/>
        </p:nvSpPr>
        <p:spPr>
          <a:xfrm>
            <a:off x="7321680" y="4654440"/>
            <a:ext cx="139680" cy="44460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7778880" y="5721480"/>
            <a:ext cx="139680" cy="44424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2" name=""/>
          <p:cNvGrpSpPr/>
          <p:nvPr/>
        </p:nvGrpSpPr>
        <p:grpSpPr>
          <a:xfrm>
            <a:off x="3641040" y="5729400"/>
            <a:ext cx="1648080" cy="519120"/>
            <a:chOff x="3641040" y="5729400"/>
            <a:chExt cx="1648080" cy="519120"/>
          </a:xfrm>
        </p:grpSpPr>
        <p:sp>
          <p:nvSpPr>
            <p:cNvPr id="333" name=""/>
            <p:cNvSpPr/>
            <p:nvPr/>
          </p:nvSpPr>
          <p:spPr>
            <a:xfrm>
              <a:off x="3641040" y="5729400"/>
              <a:ext cx="7794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957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4707720" y="5729400"/>
              <a:ext cx="5814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5" name=""/>
          <p:cNvGrpSpPr/>
          <p:nvPr/>
        </p:nvGrpSpPr>
        <p:grpSpPr>
          <a:xfrm>
            <a:off x="3641040" y="4662360"/>
            <a:ext cx="1648080" cy="519120"/>
            <a:chOff x="3641040" y="4662360"/>
            <a:chExt cx="1648080" cy="519120"/>
          </a:xfrm>
        </p:grpSpPr>
        <p:sp>
          <p:nvSpPr>
            <p:cNvPr id="336" name=""/>
            <p:cNvSpPr/>
            <p:nvPr/>
          </p:nvSpPr>
          <p:spPr>
            <a:xfrm>
              <a:off x="3641040" y="4662360"/>
              <a:ext cx="7794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957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4707720" y="4662360"/>
              <a:ext cx="5814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8" name=""/>
          <p:cNvGrpSpPr/>
          <p:nvPr/>
        </p:nvGrpSpPr>
        <p:grpSpPr>
          <a:xfrm>
            <a:off x="3664080" y="3567240"/>
            <a:ext cx="1736640" cy="554040"/>
            <a:chOff x="3664080" y="3567240"/>
            <a:chExt cx="1736640" cy="554040"/>
          </a:xfrm>
        </p:grpSpPr>
        <p:sp>
          <p:nvSpPr>
            <p:cNvPr id="339" name=""/>
            <p:cNvSpPr/>
            <p:nvPr/>
          </p:nvSpPr>
          <p:spPr>
            <a:xfrm>
              <a:off x="3664080" y="3567240"/>
              <a:ext cx="668160" cy="55404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4735440" y="3567240"/>
              <a:ext cx="665280" cy="55404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1" name=""/>
          <p:cNvSpPr/>
          <p:nvPr/>
        </p:nvSpPr>
        <p:spPr>
          <a:xfrm>
            <a:off x="3826440" y="4151160"/>
            <a:ext cx="2703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816440" y="4151160"/>
            <a:ext cx="540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664080" y="4633920"/>
            <a:ext cx="668160" cy="5540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735440" y="4633920"/>
            <a:ext cx="665280" cy="5540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3826440" y="5218200"/>
            <a:ext cx="2703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816440" y="5218200"/>
            <a:ext cx="540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664080" y="5700600"/>
            <a:ext cx="668160" cy="5540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4735440" y="5700600"/>
            <a:ext cx="665280" cy="5540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3826440" y="6284880"/>
            <a:ext cx="2703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816440" y="6284880"/>
            <a:ext cx="540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3641040" y="5729400"/>
            <a:ext cx="1767960" cy="519120"/>
            <a:chOff x="3641040" y="5729400"/>
            <a:chExt cx="1767960" cy="519120"/>
          </a:xfrm>
        </p:grpSpPr>
        <p:sp>
          <p:nvSpPr>
            <p:cNvPr id="352" name=""/>
            <p:cNvSpPr/>
            <p:nvPr/>
          </p:nvSpPr>
          <p:spPr>
            <a:xfrm>
              <a:off x="3641040" y="5729400"/>
              <a:ext cx="6242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r>
                <a:rPr b="1" lang="en-US" sz="2800" spc="-1" strike="noStrike">
                  <a:solidFill>
                    <a:srgbClr val="000099"/>
                  </a:solidFill>
                  <a:latin typeface="Arial"/>
                </a:rPr>
                <a:t>16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770000" y="5729400"/>
              <a:ext cx="6390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99"/>
                  </a:solidFill>
                  <a:latin typeface="Arial"/>
                </a:rPr>
                <a:t>‘</a:t>
              </a:r>
              <a:r>
                <a:rPr b="1" lang="en-US" sz="2800" spc="-1" strike="noStrike">
                  <a:solidFill>
                    <a:srgbClr val="000099"/>
                  </a:solidFill>
                  <a:latin typeface="Arial"/>
                </a:rPr>
                <a:t>A’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4" name=""/>
          <p:cNvGrpSpPr/>
          <p:nvPr/>
        </p:nvGrpSpPr>
        <p:grpSpPr>
          <a:xfrm>
            <a:off x="3641760" y="4662360"/>
            <a:ext cx="1767240" cy="519120"/>
            <a:chOff x="3641760" y="4662360"/>
            <a:chExt cx="1767240" cy="519120"/>
          </a:xfrm>
        </p:grpSpPr>
        <p:sp>
          <p:nvSpPr>
            <p:cNvPr id="355" name=""/>
            <p:cNvSpPr/>
            <p:nvPr/>
          </p:nvSpPr>
          <p:spPr>
            <a:xfrm>
              <a:off x="3641760" y="4846680"/>
              <a:ext cx="1839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4770000" y="4662360"/>
              <a:ext cx="6390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99"/>
                  </a:solidFill>
                  <a:latin typeface="Arial"/>
                </a:rPr>
                <a:t>‘</a:t>
              </a:r>
              <a:r>
                <a:rPr b="1" lang="en-US" sz="2800" spc="-1" strike="noStrike">
                  <a:solidFill>
                    <a:srgbClr val="000099"/>
                  </a:solidFill>
                  <a:latin typeface="Arial"/>
                </a:rPr>
                <a:t>A’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7" name=""/>
          <p:cNvGrpSpPr/>
          <p:nvPr/>
        </p:nvGrpSpPr>
        <p:grpSpPr>
          <a:xfrm>
            <a:off x="3641760" y="3595680"/>
            <a:ext cx="1767240" cy="519120"/>
            <a:chOff x="3641760" y="3595680"/>
            <a:chExt cx="1767240" cy="519120"/>
          </a:xfrm>
        </p:grpSpPr>
        <p:sp>
          <p:nvSpPr>
            <p:cNvPr id="358" name=""/>
            <p:cNvSpPr/>
            <p:nvPr/>
          </p:nvSpPr>
          <p:spPr>
            <a:xfrm>
              <a:off x="3641760" y="3780000"/>
              <a:ext cx="18396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4770000" y="3595680"/>
              <a:ext cx="6390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99"/>
                  </a:solidFill>
                  <a:latin typeface="Arial"/>
                </a:rPr>
                <a:t>‘</a:t>
              </a:r>
              <a:r>
                <a:rPr b="1" lang="en-US" sz="2800" spc="-1" strike="noStrike">
                  <a:solidFill>
                    <a:srgbClr val="000099"/>
                  </a:solidFill>
                  <a:latin typeface="Arial"/>
                </a:rPr>
                <a:t>A’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0" name=""/>
          <p:cNvGrpSpPr/>
          <p:nvPr/>
        </p:nvGrpSpPr>
        <p:grpSpPr>
          <a:xfrm>
            <a:off x="590400" y="844560"/>
            <a:ext cx="7932960" cy="512280"/>
            <a:chOff x="590400" y="844560"/>
            <a:chExt cx="7932960" cy="512280"/>
          </a:xfrm>
        </p:grpSpPr>
        <p:sp>
          <p:nvSpPr>
            <p:cNvPr id="361" name=""/>
            <p:cNvSpPr/>
            <p:nvPr/>
          </p:nvSpPr>
          <p:spPr>
            <a:xfrm>
              <a:off x="590400" y="898560"/>
              <a:ext cx="79329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NOTE:        shows the location of the file reading marker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835280" y="844560"/>
              <a:ext cx="291960" cy="444600"/>
            </a:xfrm>
            <a:prstGeom prst="rect">
              <a:avLst/>
            </a:prstGeom>
            <a:noFill/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3" name=""/>
          <p:cNvSpPr/>
          <p:nvPr/>
        </p:nvSpPr>
        <p:spPr>
          <a:xfrm>
            <a:off x="60480" y="1600200"/>
            <a:ext cx="900576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STATEMENTS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          CONTENTS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            MAR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           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POSITION</a:t>
            </a:r>
            <a:r>
              <a:rPr b="1" lang="en-US" sz="24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      i ;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A  22  B  16  C  19\n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ar   ch 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in  &gt;&gt;  ch ;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33cc33"/>
                </a:solidFill>
                <a:latin typeface="Arial"/>
              </a:rPr>
              <a:t>A</a:t>
            </a:r>
            <a:r>
              <a:rPr b="1" lang="en-US" sz="2400" spc="-1" strike="noStrike">
                <a:solidFill>
                  <a:srgbClr val="99ff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22  B  16  C  19\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in.ignore(100, ‘B’) ;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33cc33"/>
                </a:solidFill>
                <a:latin typeface="Arial"/>
              </a:rPr>
              <a:t>A  22  B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16  C  19\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in  &gt;&gt;  i ;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33cc33"/>
                </a:solidFill>
                <a:latin typeface="Arial"/>
              </a:rPr>
              <a:t>A  22  B  16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C  19\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 flipH="1">
            <a:off x="-360" y="5629320"/>
            <a:ext cx="8653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 flipH="1">
            <a:off x="152280" y="4519440"/>
            <a:ext cx="8653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 flipH="1">
            <a:off x="152280" y="3503520"/>
            <a:ext cx="8653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/>
          <p:nvPr/>
        </p:nvSpPr>
        <p:spPr>
          <a:xfrm>
            <a:off x="800280" y="4114800"/>
            <a:ext cx="4762440" cy="156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45840" y="3405240"/>
            <a:ext cx="8044200" cy="283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EXAMPL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ing    message 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in    &gt;&gt;  message 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ut  &lt;&lt;  message 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HOWEVER . . 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imes New Roman"/>
              </a:rPr>
              <a:t>String Input in C++ </a:t>
            </a:r>
            <a:endParaRPr b="1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761760" y="1924200"/>
            <a:ext cx="73911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put of a string is possible using the extraction operator  &gt;&gt;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08357-FE5D-4BDF-B252-89D5FD6DED5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09480" y="1458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000099"/>
                </a:solidFill>
                <a:latin typeface="Times New Roman"/>
              </a:rPr>
              <a:t>Extraction operator &gt;&gt;</a:t>
            </a:r>
            <a:endParaRPr b="1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08040" y="182880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using the extraction operator ( &gt;&gt; )  to read input characters into a string variabl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&gt;&gt; operator 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skips any leading whitespa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haracters such as blanks and newlines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then reads successive characters into the string, and 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stops at the first trailing whitespa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haracter (which is not consumed, but remains waiting in the input stream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919EA-C852-4E77-960F-C88AB629877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/>
          <p:nvPr/>
        </p:nvSpPr>
        <p:spPr>
          <a:xfrm>
            <a:off x="457200" y="1638360"/>
            <a:ext cx="7943760" cy="1771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09480" y="1458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imes New Roman"/>
              </a:rPr>
              <a:t>String Input Using  &gt;&gt;</a:t>
            </a:r>
            <a:endParaRPr b="1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742680" y="1752120"/>
            <a:ext cx="6172200" cy="2210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62000"/>
          </a:bodyPr>
          <a:p>
            <a:pPr marL="212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ring    firstName 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2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ring    lastName 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2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in  &gt;&gt;  firstName &gt;&gt; lastName 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2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2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2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uppose input stream looks like th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24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2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oe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ernandez    2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1054080" y="4788000"/>
            <a:ext cx="216000" cy="291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1339920" y="4788000"/>
            <a:ext cx="216000" cy="291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2120760" y="4788000"/>
            <a:ext cx="216000" cy="291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987720" y="4807080"/>
            <a:ext cx="216000" cy="291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169440" y="5621400"/>
            <a:ext cx="525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WHAT ARE THE STRING VALU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79723-1661-406E-B16E-6CF80D545C81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/>
          <p:nvPr/>
        </p:nvSpPr>
        <p:spPr>
          <a:xfrm>
            <a:off x="990720" y="4800600"/>
            <a:ext cx="2724120" cy="70488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419720" y="4800600"/>
            <a:ext cx="2724120" cy="70488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57200" y="1638360"/>
            <a:ext cx="7943760" cy="1771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09480" y="1458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imes New Roman"/>
              </a:rPr>
              <a:t>Results Using  &gt;&gt;</a:t>
            </a:r>
            <a:endParaRPr b="1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742680" y="1752120"/>
            <a:ext cx="6172200" cy="179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39000"/>
          </a:bodyPr>
          <a:p>
            <a:pPr marL="1335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ring    firstName 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335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ring    lastName 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335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in  &gt;&gt;  firstName &gt;&gt; lastName 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335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335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335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335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335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335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   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 o e”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ernandez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335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335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rstNam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last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9CEB2-35A1-4811-9A56-734B98931CF8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/>
          <p:nvPr/>
        </p:nvSpPr>
        <p:spPr>
          <a:xfrm>
            <a:off x="685800" y="5238720"/>
            <a:ext cx="6991200" cy="120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imes New Roman"/>
              </a:rPr>
              <a:t>getline( ) Function</a:t>
            </a:r>
            <a:endParaRPr b="1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781200" y="1619280"/>
            <a:ext cx="773424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cause the extraction operator stops reading at the first trailing whitespace, 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&gt;&gt;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cannot be used to input a string with blanks in i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 getline function with 2 arguments to overcome this obstac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rst argument is an input stream variable, and second argument is a string variab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ring    message 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tline (cin,  message ) ;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3C49C-2C94-4CCB-934D-961A946D9DC0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98080" y="571320"/>
            <a:ext cx="8591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Courier New"/>
              </a:rPr>
              <a:t>getline(inFileStream, str)</a:t>
            </a:r>
            <a:endParaRPr b="1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08040" y="1981080"/>
            <a:ext cx="7848720" cy="381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tline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does no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skip leading whitespac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haracters such as blanks and newlin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tline reads successive characters (including blanks) into the string, and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stops when it reaches the newline character ‘\n’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 newline is consume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by get,  but is not stored into the string variabl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88ED0-182A-4421-A6C2-B368954C26A9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/>
          <p:nvPr/>
        </p:nvSpPr>
        <p:spPr>
          <a:xfrm>
            <a:off x="457200" y="1638360"/>
            <a:ext cx="7943760" cy="2152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09480" y="1458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imes New Roman"/>
              </a:rPr>
              <a:t>String Input Using  getline</a:t>
            </a:r>
            <a:endParaRPr b="1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742680" y="1752120"/>
            <a:ext cx="6172200" cy="2210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62000"/>
          </a:bodyPr>
          <a:p>
            <a:pPr marL="212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ring    firstName 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2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ring    lastName 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2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tline (cin,  firstName 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2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tline (cin,  lastName 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2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2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uppose input stream looks like th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24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2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oe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ernandez    2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3169440" y="5621400"/>
            <a:ext cx="525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WHAT ARE THE STRING VALU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5" name=""/>
          <p:cNvGrpSpPr/>
          <p:nvPr/>
        </p:nvGrpSpPr>
        <p:grpSpPr>
          <a:xfrm>
            <a:off x="1054080" y="4788000"/>
            <a:ext cx="3149640" cy="311040"/>
            <a:chOff x="1054080" y="4788000"/>
            <a:chExt cx="3149640" cy="311040"/>
          </a:xfrm>
        </p:grpSpPr>
        <p:sp>
          <p:nvSpPr>
            <p:cNvPr id="396" name=""/>
            <p:cNvSpPr/>
            <p:nvPr/>
          </p:nvSpPr>
          <p:spPr>
            <a:xfrm>
              <a:off x="1054080" y="4788000"/>
              <a:ext cx="216000" cy="291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339920" y="4788000"/>
              <a:ext cx="216000" cy="291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2120760" y="4788000"/>
              <a:ext cx="216000" cy="291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87720" y="4807080"/>
              <a:ext cx="216000" cy="291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5811B-4173-4D6E-AA7F-9181B00B7E39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/>
          <p:nvPr/>
        </p:nvSpPr>
        <p:spPr>
          <a:xfrm>
            <a:off x="990720" y="4800600"/>
            <a:ext cx="3390840" cy="70488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429160" y="4800600"/>
            <a:ext cx="2724120" cy="70488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09480" y="1458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imes New Roman"/>
              </a:rPr>
              <a:t>Results Using  getline</a:t>
            </a:r>
            <a:endParaRPr b="1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742680" y="1752120"/>
            <a:ext cx="6172200" cy="179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39000"/>
          </a:bodyPr>
          <a:p>
            <a:pPr marL="1335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335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335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335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335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335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335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335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335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 “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oe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ernandez  23”                            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335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335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rstNam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last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57200" y="1638360"/>
            <a:ext cx="7943760" cy="2152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743040" y="1752480"/>
            <a:ext cx="6172200" cy="22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ring    firstName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ring    lastName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tline (cin,  firstName 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tline (cin,  lastName 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A6614-D108-43CB-B7F6-F18CE196C531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09680" y="1558800"/>
            <a:ext cx="6648480" cy="501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hapter 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gram Input and the Software Design Proc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ale/Weems/Headingt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A2398-3AE5-46BE-8291-75727D4861F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09480" y="1458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imes New Roman"/>
              </a:rPr>
              <a:t>Interactive I/O</a:t>
            </a:r>
            <a:endParaRPr b="1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792468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an interactive program the user enters information while the program is execu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fore the user enters data, a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promp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should be provided to explain what type of information should be enter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the user enters data, the value of the data should be printed out for verification.  This is called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echo printin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at way, the user will have the opportunity to check for erroneous dat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324000" y="1542960"/>
            <a:ext cx="8439120" cy="5086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09480" y="1458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imes New Roman"/>
              </a:rPr>
              <a:t>Prompting for Interactive I/O</a:t>
            </a:r>
            <a:endParaRPr b="1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26760" y="1617480"/>
            <a:ext cx="8155080" cy="506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t  &lt;&lt;  “Enter part number : “  &lt;&lt;  endl ;                   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// prom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in    &gt;&gt;  partNumber 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t  &lt;&lt;  “Enter quantity ordered : “  &lt;&lt;  endl 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in    &gt;&gt;  quantity 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t  &lt;&lt;  “Enter unit price : “ &lt;&lt;  endl 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in    &gt;&gt;  unitPrice 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talPrice  =  quantity * unitPrice ;</a:t>
            </a:r>
            <a:r>
              <a:rPr b="1" lang="en-US" sz="2000" spc="-1" strike="noStrike">
                <a:solidFill>
                  <a:srgbClr val="0066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6633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6633"/>
                </a:solidFill>
                <a:latin typeface="Arial"/>
              </a:rPr>
              <a:t>                          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// calcul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cout  &lt;&lt;  “Part # “  &lt;&lt;  partNumber  &lt;&lt;  endl ;   </a:t>
            </a: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// ech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cout  &lt;&lt;  “Quantity: “  &lt;&lt;  quantity  &lt;&lt;  endl 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cout  &lt;&lt;  “Unit Cost: $ “  &lt;&lt;  setprecision(2)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&lt;&lt;  unitPrice  &lt;&lt;  endl 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cout  &lt;&lt;  “Total Cost: $ “  &lt;&lt;  totalPrice  &lt;&lt;  endl 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imes New Roman"/>
              </a:rPr>
              <a:t>Diskette Files for I/O</a:t>
            </a:r>
            <a:endParaRPr b="1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412" name=""/>
          <p:cNvGrpSpPr/>
          <p:nvPr/>
        </p:nvGrpSpPr>
        <p:grpSpPr>
          <a:xfrm>
            <a:off x="228600" y="2575080"/>
            <a:ext cx="8724960" cy="3704400"/>
            <a:chOff x="228600" y="2575080"/>
            <a:chExt cx="8724960" cy="3704400"/>
          </a:xfrm>
        </p:grpSpPr>
        <p:sp>
          <p:nvSpPr>
            <p:cNvPr id="413" name=""/>
            <p:cNvSpPr/>
            <p:nvPr/>
          </p:nvSpPr>
          <p:spPr>
            <a:xfrm>
              <a:off x="1812960" y="5089680"/>
              <a:ext cx="2759040" cy="11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90000"/>
                  </a:solidFill>
                  <a:latin typeface="Arial"/>
                </a:rPr>
                <a:t>  </a:t>
              </a:r>
              <a:r>
                <a:rPr b="1" lang="en-US" sz="2400" spc="-1" strike="noStrike">
                  <a:solidFill>
                    <a:srgbClr val="990000"/>
                  </a:solidFill>
                  <a:latin typeface="Arial"/>
                </a:rPr>
                <a:t>your variab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(of type ifstream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4861080" y="5089680"/>
              <a:ext cx="3063600" cy="11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90000"/>
                  </a:solidFill>
                  <a:latin typeface="Arial"/>
                </a:rPr>
                <a:t>   </a:t>
              </a:r>
              <a:r>
                <a:rPr b="1" lang="en-US" sz="2400" spc="-1" strike="noStrike">
                  <a:solidFill>
                    <a:srgbClr val="990000"/>
                  </a:solidFill>
                  <a:latin typeface="Arial"/>
                </a:rPr>
                <a:t>your variable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(of type ofstream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15" name=""/>
            <p:cNvGrpSpPr/>
            <p:nvPr/>
          </p:nvGrpSpPr>
          <p:grpSpPr>
            <a:xfrm>
              <a:off x="228600" y="2575080"/>
              <a:ext cx="8724960" cy="2676240"/>
              <a:chOff x="228600" y="2575080"/>
              <a:chExt cx="8724960" cy="2676240"/>
            </a:xfrm>
          </p:grpSpPr>
          <p:sp>
            <p:nvSpPr>
              <p:cNvPr id="416" name=""/>
              <p:cNvSpPr/>
              <p:nvPr/>
            </p:nvSpPr>
            <p:spPr>
              <a:xfrm>
                <a:off x="3740040" y="2901960"/>
                <a:ext cx="1663920" cy="2349360"/>
              </a:xfrm>
              <a:prstGeom prst="ellipse">
                <a:avLst/>
              </a:prstGeom>
              <a:solidFill>
                <a:srgbClr val="c0fef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235080" y="3130560"/>
                <a:ext cx="2120760" cy="1587600"/>
              </a:xfrm>
              <a:prstGeom prst="rect">
                <a:avLst/>
              </a:prstGeom>
              <a:solidFill>
                <a:srgbClr val="ffff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228600" y="3565440"/>
                <a:ext cx="2209680" cy="763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disk fil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33cc"/>
                    </a:solidFill>
                    <a:latin typeface="Arial"/>
                  </a:rPr>
                  <a:t>“</a:t>
                </a:r>
                <a:r>
                  <a:rPr b="1" lang="en-US" sz="2000" spc="-1" strike="noStrike">
                    <a:solidFill>
                      <a:srgbClr val="0033cc"/>
                    </a:solidFill>
                    <a:latin typeface="Arial"/>
                  </a:rPr>
                  <a:t>A:\myInfile.dat”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6864480" y="3130560"/>
                <a:ext cx="2044440" cy="1663560"/>
              </a:xfrm>
              <a:prstGeom prst="rect">
                <a:avLst/>
              </a:prstGeom>
              <a:solidFill>
                <a:srgbClr val="ffcc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6913800" y="3565440"/>
                <a:ext cx="2039760" cy="763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disk fil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6633"/>
                    </a:solidFill>
                    <a:latin typeface="Arial"/>
                  </a:rPr>
                  <a:t>“</a:t>
                </a:r>
                <a:r>
                  <a:rPr b="1" lang="en-US" sz="2000" spc="-1" strike="noStrike">
                    <a:solidFill>
                      <a:srgbClr val="006633"/>
                    </a:solidFill>
                    <a:latin typeface="Arial"/>
                  </a:rPr>
                  <a:t>A:\myOut.dat”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3794040" y="3641760"/>
                <a:ext cx="160704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Arial"/>
                  </a:rPr>
                  <a:t>executing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Arial"/>
                  </a:rPr>
                  <a:t>program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5667480" y="3805200"/>
                <a:ext cx="933480" cy="647640"/>
              </a:xfrm>
              <a:prstGeom prst="rightArrow">
                <a:avLst>
                  <a:gd name="adj1" fmla="val 50000"/>
                  <a:gd name="adj2" fmla="val 72074"/>
                </a:avLst>
              </a:prstGeom>
              <a:solidFill>
                <a:srgbClr val="dbffb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2620800" y="3807000"/>
                <a:ext cx="930600" cy="644400"/>
              </a:xfrm>
              <a:prstGeom prst="rightArrow">
                <a:avLst>
                  <a:gd name="adj1" fmla="val 50000"/>
                  <a:gd name="adj2" fmla="val 72213"/>
                </a:avLst>
              </a:prstGeom>
              <a:solidFill>
                <a:srgbClr val="dbffb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24" name=""/>
              <p:cNvGrpSpPr/>
              <p:nvPr/>
            </p:nvGrpSpPr>
            <p:grpSpPr>
              <a:xfrm>
                <a:off x="440280" y="2575080"/>
                <a:ext cx="8398080" cy="458280"/>
                <a:chOff x="440280" y="2575080"/>
                <a:chExt cx="8398080" cy="458280"/>
              </a:xfrm>
            </p:grpSpPr>
            <p:sp>
              <p:nvSpPr>
                <p:cNvPr id="425" name=""/>
                <p:cNvSpPr/>
                <p:nvPr/>
              </p:nvSpPr>
              <p:spPr>
                <a:xfrm>
                  <a:off x="440280" y="2575080"/>
                  <a:ext cx="1641960" cy="45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input data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6" name=""/>
                <p:cNvSpPr/>
                <p:nvPr/>
              </p:nvSpPr>
              <p:spPr>
                <a:xfrm>
                  <a:off x="6993720" y="2575080"/>
                  <a:ext cx="1844640" cy="45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output data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152280" y="16761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#include &lt;fstream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09480" y="1458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imes New Roman"/>
              </a:rPr>
              <a:t>To Use Disk I/O, you must</a:t>
            </a:r>
            <a:endParaRPr b="1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743040" y="1600200"/>
            <a:ext cx="765792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#include &lt;fstream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oose valid identifiers for your filestreams and declare th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 the files and associate them with disk na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your filestream identifiers in your I/O statements (using  &gt;&gt; and &lt;&lt; , manipulators, get, ignor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ose th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"/>
          <p:cNvSpPr/>
          <p:nvPr/>
        </p:nvSpPr>
        <p:spPr>
          <a:xfrm>
            <a:off x="495360" y="1562040"/>
            <a:ext cx="8077320" cy="4343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09480" y="1458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imes New Roman"/>
              </a:rPr>
              <a:t>Statements for Using Disk I/O</a:t>
            </a:r>
            <a:endParaRPr b="1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47280" y="1676520"/>
            <a:ext cx="796284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#include &lt;fstream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stream   myInfile;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ff3300"/>
                </a:solidFill>
                <a:latin typeface="Arial"/>
              </a:rPr>
              <a:t>// decla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fstream  myOutfile;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yInfile.open(“A:\\myIn.dat”);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ff3300"/>
                </a:solidFill>
                <a:latin typeface="Arial"/>
              </a:rPr>
              <a:t>// open f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yOutfile.open(“A:\\myOut.dat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yInfile.close( );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ff3300"/>
                </a:solidFill>
                <a:latin typeface="Arial"/>
              </a:rPr>
              <a:t>// close f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yOutfile.close( 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09480" y="1458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imes New Roman"/>
              </a:rPr>
              <a:t>What does opening a file do?</a:t>
            </a:r>
            <a:endParaRPr b="1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792468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ociates the C++ identifier for your file with the physical (disk) name for the f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the input file does not exist on disk, open is not success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the output file does not exist on disk, a new file with that name is cre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the output file already exists, it is era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ces a </a:t>
            </a:r>
            <a:r>
              <a:rPr b="0" i="1" lang="en-US" sz="2800" spc="-1" strike="noStrike">
                <a:solidFill>
                  <a:srgbClr val="ff3300"/>
                </a:solidFill>
                <a:latin typeface="Arial"/>
              </a:rPr>
              <a:t>file reading marker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t the very beginning of the file, pointing to the first character in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762120" y="17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imes New Roman"/>
              </a:rPr>
              <a:t>Map Measurement Case Study</a:t>
            </a:r>
            <a:endParaRPr b="1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80010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neva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Geneva"/>
              </a:rPr>
              <a:t>You want a program to determine walking distances between 4 sights in the city. Your city map legend says one inch on the map equals 1/4 mile in the city. Read from a file the 4 measured distances between sights on the map and the map scal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neva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Geneva"/>
              </a:rPr>
              <a:t>Output to a file the rounded (to the nearest tenth) walking distances between the 4 sigh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52371-24AF-450A-AACD-031A61FE71BA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/>
          <p:nvPr/>
        </p:nvSpPr>
        <p:spPr>
          <a:xfrm>
            <a:off x="371520" y="1209600"/>
            <a:ext cx="8445600" cy="5245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25520" y="1366920"/>
            <a:ext cx="8397720" cy="44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Courier New"/>
              </a:rPr>
              <a:t>// ***************************************************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Courier New"/>
              </a:rPr>
              <a:t>//  Walk program using file I/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Courier New"/>
              </a:rPr>
              <a:t>//  This program computes the mileage (rounded to near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Courier New"/>
              </a:rPr>
              <a:t>//  tenth of mile) for each of 4 distances, using in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Courier New"/>
              </a:rPr>
              <a:t>//  map measurements and map scal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Courier New"/>
              </a:rPr>
              <a:t>// ***************************************************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#include &lt;iostream&gt;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990000"/>
                </a:solidFill>
                <a:latin typeface="Courier New"/>
              </a:rPr>
              <a:t>// for cout, end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#include &lt;iomanip&gt;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990000"/>
                </a:solidFill>
                <a:latin typeface="Courier New"/>
              </a:rPr>
              <a:t>// for </a:t>
            </a:r>
            <a:r>
              <a:rPr b="1" lang="en-US" sz="1800" spc="-1" strike="noStrike">
                <a:solidFill>
                  <a:srgbClr val="990033"/>
                </a:solidFill>
                <a:latin typeface="Courier New"/>
              </a:rPr>
              <a:t>setpreci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#include &lt;iostream&gt;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990000"/>
                </a:solidFill>
                <a:latin typeface="Courier New"/>
              </a:rPr>
              <a:t>// for file I/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using namespace std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loat  RoundToNearestTenth( float );  </a:t>
            </a:r>
            <a:r>
              <a:rPr b="1" lang="en-US" sz="1800" spc="-1" strike="noStrike">
                <a:solidFill>
                  <a:srgbClr val="990033"/>
                </a:solidFill>
                <a:latin typeface="Courier New"/>
              </a:rPr>
              <a:t>// declare fun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2560" y="131400"/>
            <a:ext cx="7848720" cy="100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imes New Roman"/>
              </a:rPr>
              <a:t>Using File I/O </a:t>
            </a:r>
            <a:endParaRPr b="1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16397-A5B8-41D9-B083-DCB30FDD4248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"/>
          <p:cNvSpPr/>
          <p:nvPr/>
        </p:nvSpPr>
        <p:spPr>
          <a:xfrm>
            <a:off x="371520" y="523800"/>
            <a:ext cx="8445600" cy="5931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517680" y="630360"/>
            <a:ext cx="8302320" cy="58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 main(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loat     distance1;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990000"/>
                </a:solidFill>
                <a:latin typeface="Courier New"/>
              </a:rPr>
              <a:t>// First map dist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loat     distance2;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990000"/>
                </a:solidFill>
                <a:latin typeface="Courier New"/>
              </a:rPr>
              <a:t>// Second map dist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loat     distance3;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990000"/>
                </a:solidFill>
                <a:latin typeface="Courier New"/>
              </a:rPr>
              <a:t>// Third map dist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loat     distance4;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990000"/>
                </a:solidFill>
                <a:latin typeface="Courier New"/>
              </a:rPr>
              <a:t>// Fourth map dist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loat     scale;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990000"/>
                </a:solidFill>
                <a:latin typeface="Courier New"/>
              </a:rPr>
              <a:t>// Map scale (miles/inch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loat     totMiles;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990000"/>
                </a:solidFill>
                <a:latin typeface="Courier New"/>
              </a:rPr>
              <a:t>// Total of rounded mi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loat     miles;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990000"/>
                </a:solidFill>
                <a:latin typeface="Courier New"/>
              </a:rPr>
              <a:t>// One rounded mile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stream  inFile;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990000"/>
                </a:solidFill>
                <a:latin typeface="Courier New"/>
              </a:rPr>
              <a:t>// First map dist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fstream  outFile;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990000"/>
                </a:solidFill>
                <a:latin typeface="Courier New"/>
              </a:rPr>
              <a:t>// Second map dist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utFile &lt;&lt; fixed &lt;&lt; showpoint</a:t>
            </a:r>
            <a:r>
              <a:rPr b="1" lang="en-US" sz="1800" spc="-1" strike="noStrike">
                <a:solidFill>
                  <a:srgbClr val="990000"/>
                </a:solidFill>
                <a:latin typeface="Courier New"/>
              </a:rPr>
              <a:t>  // output file for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&lt; setprecision(1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99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99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99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99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990000"/>
                </a:solidFill>
                <a:latin typeface="Courier New"/>
              </a:rPr>
              <a:t>// Open the fi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File.open(“walk.dat”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utFile.open(“results.dat”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0EF2C-9701-4B5B-83B2-CB6C188C2002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87360" y="882720"/>
            <a:ext cx="8426520" cy="5570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41360" y="880920"/>
            <a:ext cx="8702640" cy="54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990000"/>
                </a:solidFill>
                <a:latin typeface="Courier New"/>
              </a:rPr>
              <a:t>// Get data from f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File &gt;&gt;  distance1  &gt;&gt; distance2  &gt;&gt; distance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gt;&gt;  distance4  &gt;&gt; scal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otMiles = 0.0;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990000"/>
                </a:solidFill>
                <a:latin typeface="Courier New"/>
              </a:rPr>
              <a:t>// Initialize total mi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99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990000"/>
                </a:solidFill>
                <a:latin typeface="Courier New"/>
              </a:rPr>
              <a:t>// Compute miles for each distance on m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iles = RoundToNearestTenth( distance1 * scale 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utFile &lt;&lt;  distance1 &lt;&lt; “ inches on map is 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&lt;  miles  &lt;&lt; “ miles in city.” &lt;&lt; 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otMiles = totMiles + mile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D587B-51D5-4E5F-B05A-5B79BFA895AE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23880" y="507600"/>
            <a:ext cx="7772400" cy="800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imes New Roman"/>
              </a:rPr>
              <a:t>Chapter 4 Topics</a:t>
            </a:r>
            <a:endParaRPr b="1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66720" y="1604520"/>
            <a:ext cx="8020080" cy="3652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put Statements to Read Values for a Program using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&gt;&gt;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and functions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ge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ignor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get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mpting for Interactive Input/Outp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sing Data Files for Input and Outp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bject-Oriented Design Princip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unctional Decomposition Method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B754C-41D0-4ED9-85DF-529B8FE92270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"/>
          <p:cNvSpPr/>
          <p:nvPr/>
        </p:nvSpPr>
        <p:spPr>
          <a:xfrm>
            <a:off x="387360" y="463680"/>
            <a:ext cx="8407440" cy="5989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41360" y="652320"/>
            <a:ext cx="8188200" cy="59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iles = RoundToNearestTenth( distance2 * scale 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utFile &lt;&lt;  distance2 &lt;&lt; “ inches on map is 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&lt;  miles  &lt;&lt; “ miles in city.” &lt;&lt; 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otMiles = totMiles + mile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iles = RoundToNearestTenth( distance3 * scale 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utFile &lt;&lt;  distance3 &lt;&lt; “ inches on map is 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&lt;  miles  &lt;&lt; “ miles in city.” &lt;&lt; 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otMiles = totMiles + mile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iles = RoundToNearestTenth( distance4 * scale 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utFile &lt;&lt;  distance4 &lt;&lt; “ inches on map is 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&lt;  miles  &lt;&lt; “ miles in city.” &lt;&lt; 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otMiles = totMiles + mile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247DA-7A22-4490-BF60-11233DF79017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"/>
          <p:cNvSpPr/>
          <p:nvPr/>
        </p:nvSpPr>
        <p:spPr>
          <a:xfrm>
            <a:off x="387360" y="882720"/>
            <a:ext cx="8426520" cy="5570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419040" y="496800"/>
            <a:ext cx="8487000" cy="55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990000"/>
                </a:solidFill>
                <a:latin typeface="Courier New"/>
              </a:rPr>
              <a:t>//  Write total miles to output f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utFile &lt;&lt;  endl &lt;&lt; “Total walking mileage is  “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&lt;  totMiles  &lt;&lt;  “ miles.”  &lt;&lt; 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0 ;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990000"/>
                </a:solidFill>
                <a:latin typeface="Courier New"/>
              </a:rPr>
              <a:t>//  Successful comple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// ***************************************************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loat  RoundToNearestTenth ( </a:t>
            </a:r>
            <a:r>
              <a:rPr b="1" lang="en-US" sz="1800" spc="-1" strike="noStrike">
                <a:solidFill>
                  <a:srgbClr val="990000"/>
                </a:solidFill>
                <a:latin typeface="Courier New"/>
              </a:rPr>
              <a:t>/* in */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float floatVal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Courier New"/>
              </a:rPr>
              <a:t>//  Function returns floatValue rounded to nearest tenth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 float(int(floatValue * 10.0 + 0.5)) / 10.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7EFD4-27D7-40F8-B382-3B36C1982DA3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09480" y="1458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000099"/>
                </a:solidFill>
                <a:latin typeface="Times New Roman"/>
              </a:rPr>
              <a:t>Stream Fail State</a:t>
            </a:r>
            <a:endParaRPr b="1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792468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a stream enters the fail state, 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further I/O operations using that stream have no effec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t all.  But the computer does not automatically halt the program or give any error message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reasons for entering fail state includ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33cc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valid input data (often the wrong type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33cc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ing an input file that doesn’t exis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33cc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ing an output file on a diskette that is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ready full or is write-protected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"/>
          <p:cNvSpPr/>
          <p:nvPr/>
        </p:nvSpPr>
        <p:spPr>
          <a:xfrm>
            <a:off x="324000" y="2152800"/>
            <a:ext cx="8439120" cy="3943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09480" y="1458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imes New Roman"/>
              </a:rPr>
              <a:t>Entering File Name at Run Time</a:t>
            </a:r>
            <a:endParaRPr b="1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26760" y="2265120"/>
            <a:ext cx="8155080" cy="380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#include  &lt;string&gt;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// contains conversion function c_st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stream    inFil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ring        fileNam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t  &lt;&lt;  “Enter input file name : “  &lt;&lt;  endl ;                   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// prom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in    &gt;&gt;  fileName 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           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// convert string fileName to a C string 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File.open( fileName.c_str( ) 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09480" y="1458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imes New Roman"/>
              </a:rPr>
              <a:t>Redirection of input to your program</a:t>
            </a:r>
            <a:endParaRPr b="1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put responses can be prepared ahead of time and stored in a disk f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put responses can be captured and saved for later use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myprog.exe &lt; input.txt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put.txt takes the place of c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A1C63-6AA1-4807-A675-27470E48C256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09480" y="1458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imes New Roman"/>
              </a:rPr>
              <a:t>Redirection of output from your program</a:t>
            </a:r>
            <a:endParaRPr b="1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in from keyboard and saving cout results to output.txt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myprog.exe &gt; output.t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iques can be combined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myprog &lt;input.txt &gt;output.t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E718A-5F97-46A4-813C-FE3A0E769A3C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09480" y="1458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imes New Roman"/>
              </a:rPr>
              <a:t>Concatenation of output</a:t>
            </a:r>
            <a:endParaRPr b="1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output logfile can be accumulated from several successive runs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myprog &lt;inp1.txt &gt;output.txt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myprog &lt;inp2.txt &gt;&gt;output.txt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myprog &lt;inp3.txt &gt;&gt;output.t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10C80-4D61-4E2B-8873-D94BB0119F26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76320" y="609120"/>
            <a:ext cx="89136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imes New Roman"/>
              </a:rPr>
              <a:t>Functional Decomposition</a:t>
            </a:r>
            <a:endParaRPr b="1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608040" y="1903320"/>
            <a:ext cx="7926480" cy="41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technique for developing a program in which the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problem is divided into more easily handled subproblems,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solutions of which create a solution to the overall probl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functional decomposition, we work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from the abstrac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a list of the major steps in our solution)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to the particula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algorithmic steps that can be translated directly into code in C++ or another language).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76320" y="609120"/>
            <a:ext cx="89136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imes New Roman"/>
              </a:rPr>
              <a:t>Functional Decomposition</a:t>
            </a:r>
            <a:endParaRPr b="1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455760" y="1674720"/>
            <a:ext cx="853596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FOCU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s on actions and algorith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BEGIN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by breaking the solution into a series of major steps.  This process continues until each subproblem cannot be divided further or has an obvious solution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UNIT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re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modul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representing algorithms.   A module is a collection of concrete and abstract steps that solves a subproblem.  A module structure chart (hierarchical solution tree) is often create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DAT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ays a secondary role in support of actions to be perform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"/>
          <p:cNvSpPr/>
          <p:nvPr/>
        </p:nvSpPr>
        <p:spPr>
          <a:xfrm>
            <a:off x="5562720" y="3657600"/>
            <a:ext cx="1447560" cy="990720"/>
          </a:xfrm>
          <a:prstGeom prst="rect">
            <a:avLst/>
          </a:prstGeom>
          <a:solidFill>
            <a:srgbClr val="ccecff"/>
          </a:solidFill>
          <a:ln w="0">
            <a:noFill/>
          </a:ln>
          <a:effectLst>
            <a:outerShdw dist="53966" dir="13500000" blurRad="0" rotWithShape="0">
              <a:srgbClr val="cc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3505320" y="1828800"/>
            <a:ext cx="2057400" cy="609480"/>
          </a:xfrm>
          <a:prstGeom prst="rect">
            <a:avLst/>
          </a:prstGeom>
          <a:solidFill>
            <a:srgbClr val="ccecff"/>
          </a:solidFill>
          <a:ln w="0">
            <a:noFill/>
          </a:ln>
          <a:effectLst>
            <a:outerShdw dist="53966" dir="13500000" blurRad="0" rotWithShape="0">
              <a:srgbClr val="cc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3733920" y="3657600"/>
            <a:ext cx="1523880" cy="990720"/>
          </a:xfrm>
          <a:prstGeom prst="rect">
            <a:avLst/>
          </a:prstGeom>
          <a:solidFill>
            <a:srgbClr val="ccecff"/>
          </a:solidFill>
          <a:ln w="0">
            <a:noFill/>
          </a:ln>
          <a:effectLst>
            <a:outerShdw dist="53966" dir="13500000" blurRad="0" rotWithShape="0">
              <a:srgbClr val="cc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5334120" y="5486400"/>
            <a:ext cx="2057400" cy="952560"/>
          </a:xfrm>
          <a:prstGeom prst="rect">
            <a:avLst/>
          </a:prstGeom>
          <a:solidFill>
            <a:srgbClr val="ccecff"/>
          </a:solidFill>
          <a:ln w="0">
            <a:noFill/>
          </a:ln>
          <a:effectLst>
            <a:outerShdw dist="53966" dir="13500000" blurRad="0" rotWithShape="0">
              <a:srgbClr val="cc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1905120" y="3657600"/>
            <a:ext cx="1523880" cy="990720"/>
          </a:xfrm>
          <a:prstGeom prst="rect">
            <a:avLst/>
          </a:prstGeom>
          <a:solidFill>
            <a:srgbClr val="ccecff"/>
          </a:solidFill>
          <a:ln w="0">
            <a:noFill/>
          </a:ln>
          <a:effectLst>
            <a:outerShdw dist="53966" dir="13500000" blurRad="0" rotWithShape="0">
              <a:srgbClr val="cc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7391520" y="3657600"/>
            <a:ext cx="1600200" cy="990720"/>
          </a:xfrm>
          <a:prstGeom prst="rect">
            <a:avLst/>
          </a:prstGeom>
          <a:solidFill>
            <a:srgbClr val="ccecff"/>
          </a:solidFill>
          <a:ln w="0">
            <a:noFill/>
          </a:ln>
          <a:effectLst>
            <a:outerShdw dist="53966" dir="13500000" blurRad="0" rotWithShape="0">
              <a:srgbClr val="cc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152280" y="3657600"/>
            <a:ext cx="1524240" cy="990720"/>
          </a:xfrm>
          <a:prstGeom prst="rect">
            <a:avLst/>
          </a:prstGeom>
          <a:solidFill>
            <a:srgbClr val="ccecff"/>
          </a:solidFill>
          <a:ln w="0">
            <a:noFill/>
          </a:ln>
          <a:effectLst>
            <a:outerShdw dist="53966" dir="13500000" blurRad="0" rotWithShape="0">
              <a:srgbClr val="cc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5602680" y="3726000"/>
            <a:ext cx="128844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u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lea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468560" y="3726000"/>
            <a:ext cx="149868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ri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tal M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09480" y="1458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imes New Roman"/>
              </a:rPr>
              <a:t>Module Structure Chart</a:t>
            </a:r>
            <a:endParaRPr b="1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4097880" y="1935000"/>
            <a:ext cx="764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3828960" y="3916440"/>
            <a:ext cx="12337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5429520" y="5592600"/>
            <a:ext cx="188424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ound T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arest Ten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1982160" y="3726000"/>
            <a:ext cx="149868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liz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tal M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153720" y="3897360"/>
            <a:ext cx="1485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en F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8077320" y="3276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248520" y="4648320"/>
            <a:ext cx="0" cy="838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0" name=""/>
          <p:cNvGrpSpPr/>
          <p:nvPr/>
        </p:nvGrpSpPr>
        <p:grpSpPr>
          <a:xfrm>
            <a:off x="838080" y="2438280"/>
            <a:ext cx="7239240" cy="1219320"/>
            <a:chOff x="838080" y="2438280"/>
            <a:chExt cx="7239240" cy="1219320"/>
          </a:xfrm>
        </p:grpSpPr>
        <p:sp>
          <p:nvSpPr>
            <p:cNvPr id="481" name=""/>
            <p:cNvSpPr/>
            <p:nvPr/>
          </p:nvSpPr>
          <p:spPr>
            <a:xfrm>
              <a:off x="4419720" y="2438280"/>
              <a:ext cx="0" cy="1219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838080" y="3276720"/>
              <a:ext cx="7239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838080" y="3276720"/>
              <a:ext cx="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2590920" y="3276720"/>
              <a:ext cx="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6248520" y="3276720"/>
              <a:ext cx="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imes New Roman"/>
              </a:rPr>
              <a:t>No I/O is built into C++</a:t>
            </a:r>
            <a:endParaRPr b="1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560" y="1752120"/>
            <a:ext cx="866772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ead, a library provides input stream and output str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16360" y="3435480"/>
            <a:ext cx="1892160" cy="2273040"/>
          </a:xfrm>
          <a:prstGeom prst="ellipse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87360" y="3740040"/>
            <a:ext cx="2120760" cy="90180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093080" y="3664080"/>
            <a:ext cx="1511280" cy="113004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96080" y="3881520"/>
            <a:ext cx="933480" cy="647640"/>
          </a:xfrm>
          <a:prstGeom prst="rightArrow">
            <a:avLst>
              <a:gd name="adj1" fmla="val 50000"/>
              <a:gd name="adj2" fmla="val 72074"/>
            </a:avLst>
          </a:prstGeom>
          <a:solidFill>
            <a:srgbClr val="6699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594720" y="3946680"/>
            <a:ext cx="7905240" cy="900000"/>
            <a:chOff x="594720" y="3946680"/>
            <a:chExt cx="7905240" cy="900000"/>
          </a:xfrm>
        </p:grpSpPr>
        <p:sp>
          <p:nvSpPr>
            <p:cNvPr id="96" name=""/>
            <p:cNvSpPr/>
            <p:nvPr/>
          </p:nvSpPr>
          <p:spPr>
            <a:xfrm>
              <a:off x="594720" y="3946680"/>
              <a:ext cx="15886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Keyboar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300080" y="3946680"/>
              <a:ext cx="11998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Scree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022640" y="4022640"/>
              <a:ext cx="16070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execu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rogra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9" name=""/>
          <p:cNvSpPr/>
          <p:nvPr/>
        </p:nvSpPr>
        <p:spPr>
          <a:xfrm>
            <a:off x="2422440" y="4784760"/>
            <a:ext cx="12700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stre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775840" y="4784760"/>
            <a:ext cx="1370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stre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695680" y="3881520"/>
            <a:ext cx="933480" cy="647640"/>
          </a:xfrm>
          <a:prstGeom prst="rightArrow">
            <a:avLst>
              <a:gd name="adj1" fmla="val 50000"/>
              <a:gd name="adj2" fmla="val 72074"/>
            </a:avLst>
          </a:prstGeom>
          <a:solidFill>
            <a:srgbClr val="6699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76320" y="533520"/>
            <a:ext cx="89136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imes New Roman"/>
              </a:rPr>
              <a:t>Object-Oriented Design</a:t>
            </a:r>
            <a:endParaRPr b="1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911160" y="1674720"/>
            <a:ext cx="7394760" cy="16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technique for developing a program in which the solution is expressed in terms of objects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--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self- contained entities composed of data and operations on that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5192640" y="3732120"/>
            <a:ext cx="2824200" cy="2824200"/>
          </a:xfrm>
          <a:prstGeom prst="ellipse">
            <a:avLst/>
          </a:prstGeom>
          <a:solidFill>
            <a:srgbClr val="99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4824360" y="4044960"/>
            <a:ext cx="1316160" cy="39852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4824360" y="5657760"/>
            <a:ext cx="1316160" cy="41292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824360" y="4576680"/>
            <a:ext cx="1316160" cy="44604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6254640" y="4594320"/>
            <a:ext cx="1587600" cy="9619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6317280" y="4653000"/>
            <a:ext cx="1486440" cy="6800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4920" bIns="34920" anchor="t">
            <a:spAutoFit/>
          </a:bodyPr>
          <a:p>
            <a:pPr>
              <a:tabLst>
                <a:tab algn="l" pos="0"/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vate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5204520" y="4084560"/>
            <a:ext cx="421200" cy="3445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4920" bIns="349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&l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5114520" y="4614840"/>
            <a:ext cx="593640" cy="3751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4920" bIns="34920" anchor="t">
            <a:spAutoFit/>
          </a:bodyPr>
          <a:p>
            <a:pPr>
              <a:tabLst>
                <a:tab algn="l" pos="0"/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t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5257800" y="4952880"/>
            <a:ext cx="706320" cy="6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4920" bIns="349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1077840" y="3733920"/>
            <a:ext cx="2824200" cy="2824200"/>
          </a:xfrm>
          <a:prstGeom prst="ellipse">
            <a:avLst/>
          </a:prstGeom>
          <a:solidFill>
            <a:srgbClr val="99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709560" y="4046400"/>
            <a:ext cx="1316160" cy="39852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709560" y="5657760"/>
            <a:ext cx="1316160" cy="41292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09560" y="4578480"/>
            <a:ext cx="1316160" cy="44604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2139840" y="4595760"/>
            <a:ext cx="1587600" cy="9619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2202480" y="4654440"/>
            <a:ext cx="1486440" cy="6800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4920" bIns="34920" anchor="t">
            <a:spAutoFit/>
          </a:bodyPr>
          <a:p>
            <a:pPr>
              <a:tabLst>
                <a:tab algn="l" pos="0"/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vate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1127520" y="4086360"/>
            <a:ext cx="421200" cy="3445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4920" bIns="349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gt;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1000080" y="4616280"/>
            <a:ext cx="537120" cy="3751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4920" bIns="34920" anchor="t">
            <a:spAutoFit/>
          </a:bodyPr>
          <a:p>
            <a:pPr>
              <a:tabLst>
                <a:tab algn="l" pos="0"/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g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1143000" y="4954680"/>
            <a:ext cx="706320" cy="6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4920" bIns="349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896760" y="5668920"/>
            <a:ext cx="8784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gn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2117160" y="3260880"/>
            <a:ext cx="625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c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6156000" y="3260880"/>
            <a:ext cx="828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co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4973040" y="5668920"/>
            <a:ext cx="85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t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76320" y="533520"/>
            <a:ext cx="89136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imes New Roman"/>
              </a:rPr>
              <a:t>More about OOD</a:t>
            </a:r>
            <a:endParaRPr b="1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453960" y="1674720"/>
            <a:ext cx="808056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c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nguages supporting OOD include:  C++, Java, Smalltalk, Eiffel, CLOS, and Object-Pascal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c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las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s a programmer-defined data type and objects are variables of that typ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c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C++,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ci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s an object of a data type (class) named istream, and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cout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s an object of a class ostream.  Header files iostream and fstream contain definitions of stream class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c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class generally contains private data and public operations (called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member function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76320" y="533520"/>
            <a:ext cx="89136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imes New Roman"/>
              </a:rPr>
              <a:t>Object-Oriented Design (OOD)</a:t>
            </a:r>
            <a:endParaRPr b="1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453960" y="1674720"/>
            <a:ext cx="853596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FOCU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s on entities called objects and operations on those objects, all bundled toget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BEGINS</a:t>
            </a:r>
            <a:r>
              <a:rPr b="1" lang="en-US" sz="2400" spc="-1" strike="noStrike">
                <a:solidFill>
                  <a:srgbClr val="99ffc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y identifying the major objects in the problem,  and choosing appropriate operations on those objects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UNIT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re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object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 Programs are collections of objects that communicate with each ot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DAT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plays a leading role.  Algorithms are used to implement operations on the objects and to enable interaction of objects with each ot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317520" y="1009800"/>
            <a:ext cx="840096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imes New Roman"/>
              </a:rPr>
              <a:t>Two Programming</a:t>
            </a:r>
            <a:br>
              <a:rPr sz="4400"/>
            </a:br>
            <a:r>
              <a:rPr b="1" lang="en-US" sz="4400" spc="-1" strike="noStrike">
                <a:solidFill>
                  <a:srgbClr val="000099"/>
                </a:solidFill>
                <a:latin typeface="Times New Roman"/>
              </a:rPr>
              <a:t> Methodologies       </a:t>
            </a:r>
            <a:endParaRPr b="1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685800" y="1690560"/>
            <a:ext cx="7848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           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Functional 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  Object-Orien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       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Decomposition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          Desig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311040" y="2673360"/>
            <a:ext cx="4025880" cy="35686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7" name=""/>
          <p:cNvGrpSpPr/>
          <p:nvPr/>
        </p:nvGrpSpPr>
        <p:grpSpPr>
          <a:xfrm>
            <a:off x="670320" y="2871720"/>
            <a:ext cx="1402560" cy="1312920"/>
            <a:chOff x="670320" y="2871720"/>
            <a:chExt cx="1402560" cy="1312920"/>
          </a:xfrm>
        </p:grpSpPr>
        <p:sp>
          <p:nvSpPr>
            <p:cNvPr id="518" name=""/>
            <p:cNvSpPr/>
            <p:nvPr/>
          </p:nvSpPr>
          <p:spPr>
            <a:xfrm>
              <a:off x="670320" y="2871720"/>
              <a:ext cx="14025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FUNC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996840" y="3282840"/>
              <a:ext cx="673200" cy="901800"/>
            </a:xfrm>
            <a:prstGeom prst="rect">
              <a:avLst/>
            </a:prstGeom>
            <a:solidFill>
              <a:srgbClr val="0033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0" name=""/>
          <p:cNvGrpSpPr/>
          <p:nvPr/>
        </p:nvGrpSpPr>
        <p:grpSpPr>
          <a:xfrm>
            <a:off x="2727720" y="3786120"/>
            <a:ext cx="1402560" cy="1312920"/>
            <a:chOff x="2727720" y="3786120"/>
            <a:chExt cx="1402560" cy="1312920"/>
          </a:xfrm>
        </p:grpSpPr>
        <p:sp>
          <p:nvSpPr>
            <p:cNvPr id="521" name=""/>
            <p:cNvSpPr/>
            <p:nvPr/>
          </p:nvSpPr>
          <p:spPr>
            <a:xfrm>
              <a:off x="2727720" y="3786120"/>
              <a:ext cx="14025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FUNC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3054240" y="4197240"/>
              <a:ext cx="673200" cy="901800"/>
            </a:xfrm>
            <a:prstGeom prst="rect">
              <a:avLst/>
            </a:prstGeom>
            <a:solidFill>
              <a:srgbClr val="0033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3" name=""/>
          <p:cNvGrpSpPr/>
          <p:nvPr/>
        </p:nvGrpSpPr>
        <p:grpSpPr>
          <a:xfrm>
            <a:off x="670320" y="4700520"/>
            <a:ext cx="1402560" cy="1312920"/>
            <a:chOff x="670320" y="4700520"/>
            <a:chExt cx="1402560" cy="1312920"/>
          </a:xfrm>
        </p:grpSpPr>
        <p:sp>
          <p:nvSpPr>
            <p:cNvPr id="524" name=""/>
            <p:cNvSpPr/>
            <p:nvPr/>
          </p:nvSpPr>
          <p:spPr>
            <a:xfrm>
              <a:off x="670320" y="4700520"/>
              <a:ext cx="14025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FUNC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996840" y="5111640"/>
              <a:ext cx="673200" cy="901800"/>
            </a:xfrm>
            <a:prstGeom prst="rect">
              <a:avLst/>
            </a:prstGeom>
            <a:solidFill>
              <a:srgbClr val="0033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6" name=""/>
          <p:cNvSpPr/>
          <p:nvPr/>
        </p:nvSpPr>
        <p:spPr>
          <a:xfrm>
            <a:off x="4730760" y="2673360"/>
            <a:ext cx="4025880" cy="35686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7" name=""/>
          <p:cNvGrpSpPr/>
          <p:nvPr/>
        </p:nvGrpSpPr>
        <p:grpSpPr>
          <a:xfrm>
            <a:off x="7238880" y="4014720"/>
            <a:ext cx="1315800" cy="1617840"/>
            <a:chOff x="7238880" y="4014720"/>
            <a:chExt cx="1315800" cy="1617840"/>
          </a:xfrm>
        </p:grpSpPr>
        <p:grpSp>
          <p:nvGrpSpPr>
            <p:cNvPr id="528" name=""/>
            <p:cNvGrpSpPr/>
            <p:nvPr/>
          </p:nvGrpSpPr>
          <p:grpSpPr>
            <a:xfrm>
              <a:off x="7238880" y="4014720"/>
              <a:ext cx="1295640" cy="1617840"/>
              <a:chOff x="7238880" y="4014720"/>
              <a:chExt cx="1295640" cy="1617840"/>
            </a:xfrm>
          </p:grpSpPr>
          <p:sp>
            <p:nvSpPr>
              <p:cNvPr id="529" name=""/>
              <p:cNvSpPr/>
              <p:nvPr/>
            </p:nvSpPr>
            <p:spPr>
              <a:xfrm>
                <a:off x="7299000" y="4014720"/>
                <a:ext cx="109944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OBJEC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7245360" y="4425840"/>
                <a:ext cx="1282680" cy="1206720"/>
              </a:xfrm>
              <a:prstGeom prst="ellipse">
                <a:avLst/>
              </a:prstGeom>
              <a:solidFill>
                <a:srgbClr val="ff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7238880" y="5029200"/>
                <a:ext cx="12956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32" name=""/>
            <p:cNvSpPr/>
            <p:nvPr/>
          </p:nvSpPr>
          <p:spPr>
            <a:xfrm>
              <a:off x="7301160" y="4570560"/>
              <a:ext cx="1253520" cy="82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Opera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3" name=""/>
          <p:cNvGrpSpPr/>
          <p:nvPr/>
        </p:nvGrpSpPr>
        <p:grpSpPr>
          <a:xfrm>
            <a:off x="5029200" y="4471920"/>
            <a:ext cx="1315800" cy="1617840"/>
            <a:chOff x="5029200" y="4471920"/>
            <a:chExt cx="1315800" cy="1617840"/>
          </a:xfrm>
        </p:grpSpPr>
        <p:grpSp>
          <p:nvGrpSpPr>
            <p:cNvPr id="534" name=""/>
            <p:cNvGrpSpPr/>
            <p:nvPr/>
          </p:nvGrpSpPr>
          <p:grpSpPr>
            <a:xfrm>
              <a:off x="5029200" y="4471920"/>
              <a:ext cx="1295280" cy="1617840"/>
              <a:chOff x="5029200" y="4471920"/>
              <a:chExt cx="1295280" cy="1617840"/>
            </a:xfrm>
          </p:grpSpPr>
          <p:sp>
            <p:nvSpPr>
              <p:cNvPr id="535" name=""/>
              <p:cNvSpPr/>
              <p:nvPr/>
            </p:nvSpPr>
            <p:spPr>
              <a:xfrm>
                <a:off x="5089320" y="4471920"/>
                <a:ext cx="109944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OBJEC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5035680" y="4883040"/>
                <a:ext cx="1282680" cy="1206720"/>
              </a:xfrm>
              <a:prstGeom prst="ellipse">
                <a:avLst/>
              </a:prstGeom>
              <a:solidFill>
                <a:srgbClr val="ff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5029200" y="5486400"/>
                <a:ext cx="1295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38" name=""/>
            <p:cNvSpPr/>
            <p:nvPr/>
          </p:nvSpPr>
          <p:spPr>
            <a:xfrm>
              <a:off x="5091480" y="5027760"/>
              <a:ext cx="1253520" cy="82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Opera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9" name=""/>
          <p:cNvGrpSpPr/>
          <p:nvPr/>
        </p:nvGrpSpPr>
        <p:grpSpPr>
          <a:xfrm>
            <a:off x="5867280" y="2795760"/>
            <a:ext cx="1315800" cy="1617480"/>
            <a:chOff x="5867280" y="2795760"/>
            <a:chExt cx="1315800" cy="1617480"/>
          </a:xfrm>
        </p:grpSpPr>
        <p:grpSp>
          <p:nvGrpSpPr>
            <p:cNvPr id="540" name=""/>
            <p:cNvGrpSpPr/>
            <p:nvPr/>
          </p:nvGrpSpPr>
          <p:grpSpPr>
            <a:xfrm>
              <a:off x="5867280" y="2795760"/>
              <a:ext cx="1295640" cy="1617480"/>
              <a:chOff x="5867280" y="2795760"/>
              <a:chExt cx="1295640" cy="1617480"/>
            </a:xfrm>
          </p:grpSpPr>
          <p:sp>
            <p:nvSpPr>
              <p:cNvPr id="541" name=""/>
              <p:cNvSpPr/>
              <p:nvPr/>
            </p:nvSpPr>
            <p:spPr>
              <a:xfrm>
                <a:off x="5927400" y="2795760"/>
                <a:ext cx="109944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OBJEC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5873760" y="3206880"/>
                <a:ext cx="1282680" cy="1206360"/>
              </a:xfrm>
              <a:prstGeom prst="ellipse">
                <a:avLst/>
              </a:prstGeom>
              <a:solidFill>
                <a:srgbClr val="ff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5867280" y="3809880"/>
                <a:ext cx="12956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44" name=""/>
            <p:cNvSpPr/>
            <p:nvPr/>
          </p:nvSpPr>
          <p:spPr>
            <a:xfrm>
              <a:off x="5929560" y="3351240"/>
              <a:ext cx="1253520" cy="82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Opera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D5FBA-CA9A-4E3E-B259-226B37876449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12240" y="380880"/>
            <a:ext cx="8953560" cy="89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What is an object? </a:t>
            </a:r>
            <a:endParaRPr b="1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2029320" y="2224080"/>
            <a:ext cx="1603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BJ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1625760" y="2825640"/>
            <a:ext cx="2485800" cy="2502000"/>
          </a:xfrm>
          <a:prstGeom prst="ellipse">
            <a:avLst/>
          </a:prstGeom>
          <a:solidFill>
            <a:srgbClr val="ff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1951920" y="3405240"/>
            <a:ext cx="1884240" cy="13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per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 flipV="1">
            <a:off x="3753000" y="3200040"/>
            <a:ext cx="129528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5033160" y="2955960"/>
            <a:ext cx="2455920" cy="22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 of fun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nal 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3753000" y="464832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1619280" y="4114800"/>
            <a:ext cx="2514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330FB-B656-4D78-B173-146C30C3590C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73080" y="222120"/>
            <a:ext cx="8966160" cy="98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imes New Roman"/>
              </a:rPr>
              <a:t> </a:t>
            </a:r>
            <a:br>
              <a:rPr sz="4400"/>
            </a:br>
            <a:endParaRPr b="1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255600" y="828720"/>
            <a:ext cx="866448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An object contains data and oper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2557440" y="2368440"/>
            <a:ext cx="3913200" cy="3949920"/>
          </a:xfrm>
          <a:prstGeom prst="ellipse">
            <a:avLst/>
          </a:prstGeom>
          <a:solidFill>
            <a:srgbClr val="ff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2139840" y="2873520"/>
            <a:ext cx="1825560" cy="4078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2139840" y="4054320"/>
            <a:ext cx="1825560" cy="4096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2139840" y="4729320"/>
            <a:ext cx="1825560" cy="4078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2139840" y="5318280"/>
            <a:ext cx="1825560" cy="4111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2139840" y="3465360"/>
            <a:ext cx="1825560" cy="4082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4319640" y="3286080"/>
            <a:ext cx="1706400" cy="217980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4370040" y="3309840"/>
            <a:ext cx="1632960" cy="21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rivate data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ccoutNum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bal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2214360" y="2863800"/>
            <a:ext cx="16862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penAcc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2280960" y="3452760"/>
            <a:ext cx="151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riteChe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263320" y="4044960"/>
            <a:ext cx="16297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keDepos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2268360" y="4737240"/>
            <a:ext cx="16434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sOverdraw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2348280" y="5307120"/>
            <a:ext cx="1443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GetBal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5064120" y="4164120"/>
            <a:ext cx="738360" cy="407880"/>
          </a:xfrm>
          <a:prstGeom prst="rect">
            <a:avLst/>
          </a:pr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5064120" y="4944960"/>
            <a:ext cx="738360" cy="408240"/>
          </a:xfrm>
          <a:prstGeom prst="rect">
            <a:avLst/>
          </a:pr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2541240" y="1722600"/>
            <a:ext cx="38426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checkingAccou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C2E70-AE10-43DB-9803-E604EAB635A6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-360" y="279360"/>
            <a:ext cx="891396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imes New Roman"/>
              </a:rPr>
              <a:t>Why use OOD with large </a:t>
            </a:r>
            <a:br>
              <a:rPr sz="4400"/>
            </a:br>
            <a:r>
              <a:rPr b="1" lang="en-US" sz="4400" spc="-1" strike="noStrike">
                <a:solidFill>
                  <a:srgbClr val="000099"/>
                </a:solidFill>
                <a:latin typeface="Times New Roman"/>
              </a:rPr>
              <a:t>software projects?</a:t>
            </a:r>
            <a:endParaRPr b="1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606600" y="1674720"/>
            <a:ext cx="808020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c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bjects within a program often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model real-lif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bjects in the problem to be solved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c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ny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libraries of pre-written classes and object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re available as-is for re-use in various program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c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OOD concept of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inheritance allows the customization of an existing clas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o meet particular needs without having to inspect and modify the source code for that class--this can reduce the time and effort needed to design, implement, and maintain large system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762120" y="17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imes New Roman"/>
              </a:rPr>
              <a:t>Company Payroll Case Study</a:t>
            </a:r>
            <a:endParaRPr b="1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80010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neva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Geneva"/>
              </a:rPr>
              <a:t>A small company needs an interactive program to figure its weekly payroll. The payroll clerk will input data for each employee. Each employee’s wages and data should be saved in a secondary fil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neva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Geneva"/>
              </a:rPr>
              <a:t>Display the total wages for the week on the scre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5824C-0805-498B-9D92-376B8FD32F04}" type="slidenum">
              <a:t>57</a:t>
            </a:fld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673200" y="622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imes New Roman"/>
              </a:rPr>
              <a:t>Algorithm for Company Payroll Program</a:t>
            </a:r>
            <a:endParaRPr b="1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585360" y="1704960"/>
            <a:ext cx="8363160" cy="4836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itialize total company payroll to 0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peat this process for each employ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.  Get the employee’s  ID empN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  Get the employee’s hourly payRat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.  Get the hours worked this wee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.  Calculate this week’s wages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.  Add wages to total company payro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.  Write empNum, payRate, hours, wages to f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rite total company payroll on screen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5CBB1-D3C8-46A2-ADBA-C1E160A8BA99}" type="slidenum">
              <a:t>58</a:t>
            </a:fld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"/>
          <p:cNvSpPr/>
          <p:nvPr/>
        </p:nvSpPr>
        <p:spPr>
          <a:xfrm>
            <a:off x="371520" y="1209600"/>
            <a:ext cx="8445600" cy="5245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425520" y="1366920"/>
            <a:ext cx="8397720" cy="420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Courier New"/>
              </a:rPr>
              <a:t>// ***************************************************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Courier New"/>
              </a:rPr>
              <a:t>//  Payroll prog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Courier New"/>
              </a:rPr>
              <a:t>//  This program computes each employee’s wages 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Courier New"/>
              </a:rPr>
              <a:t>//  the total company payro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Courier New"/>
              </a:rPr>
              <a:t>// ***************************************************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#include &lt;iostream&gt;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990000"/>
                </a:solidFill>
                <a:latin typeface="Courier New"/>
              </a:rPr>
              <a:t>// for keyboard/screen I/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#include &lt;fstream&gt;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990000"/>
                </a:solidFill>
                <a:latin typeface="Courier New"/>
              </a:rPr>
              <a:t>// for file I/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using namespace std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  CalcPay ( float,  float,  float&amp; ) 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st  float  MAX_HOURS = 40.0;  </a:t>
            </a:r>
            <a:r>
              <a:rPr b="1" lang="en-US" sz="1800" spc="-1" strike="noStrike">
                <a:solidFill>
                  <a:srgbClr val="990000"/>
                </a:solidFill>
                <a:latin typeface="Courier New"/>
              </a:rPr>
              <a:t>// Maximum normal hou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st  float  OVERTIME = 1.5;    </a:t>
            </a:r>
            <a:r>
              <a:rPr b="1" lang="en-US" sz="1800" spc="-1" strike="noStrike">
                <a:solidFill>
                  <a:srgbClr val="990000"/>
                </a:solidFill>
                <a:latin typeface="Courier New"/>
              </a:rPr>
              <a:t>// Overtime pay fa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3960" y="131400"/>
            <a:ext cx="8134560" cy="100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imes New Roman"/>
              </a:rPr>
              <a:t>Company Payroll Program </a:t>
            </a:r>
            <a:endParaRPr b="1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0901B-3CC9-4DB2-A220-9C1389D6E3B5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480" y="1458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imes New Roman"/>
              </a:rPr>
              <a:t>&lt;iostream&gt;  is header file</a:t>
            </a:r>
            <a:endParaRPr b="1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library that defines 3 obj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istream object named 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ci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keyboar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ostream object named 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cou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scree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ostream object named 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cerr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scree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"/>
          <p:cNvSpPr/>
          <p:nvPr/>
        </p:nvSpPr>
        <p:spPr>
          <a:xfrm>
            <a:off x="371520" y="1209600"/>
            <a:ext cx="8445600" cy="5245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738000" y="247320"/>
            <a:ext cx="7848360" cy="85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imes New Roman"/>
              </a:rPr>
              <a:t>C++ Code Continued</a:t>
            </a:r>
            <a:endParaRPr b="1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517680" y="1106640"/>
            <a:ext cx="8321400" cy="34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 main(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loat     payRate;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990000"/>
                </a:solidFill>
                <a:latin typeface="Courier New"/>
              </a:rPr>
              <a:t>//  Employee’s pay r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loat     hours;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990000"/>
                </a:solidFill>
                <a:latin typeface="Courier New"/>
              </a:rPr>
              <a:t>//  Hours  work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loat     wages;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990000"/>
                </a:solidFill>
                <a:latin typeface="Courier New"/>
              </a:rPr>
              <a:t>//  Wages ear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loat     total;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990000"/>
                </a:solidFill>
                <a:latin typeface="Courier New"/>
              </a:rPr>
              <a:t>//  Total company payro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      empNum;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990000"/>
                </a:solidFill>
                <a:latin typeface="Courier New"/>
              </a:rPr>
              <a:t>//  Employee  ID  num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fstream  payFile;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990000"/>
                </a:solidFill>
                <a:latin typeface="Courier New"/>
              </a:rPr>
              <a:t>// Company  payroll f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yFile.open( “payfile.dat” );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990000"/>
                </a:solidFill>
                <a:latin typeface="Courier New"/>
              </a:rPr>
              <a:t>// Open f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otal = 0.0;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990000"/>
                </a:solidFill>
                <a:latin typeface="Courier New"/>
              </a:rPr>
              <a:t>// Initialize to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2DBE5-8A16-40C3-B2B1-2941D6A2A39A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"/>
          <p:cNvSpPr/>
          <p:nvPr/>
        </p:nvSpPr>
        <p:spPr>
          <a:xfrm>
            <a:off x="387360" y="235080"/>
            <a:ext cx="8483760" cy="621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441360" y="214200"/>
            <a:ext cx="8702640" cy="62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ut &lt;&lt; “Enter employee number: “;  </a:t>
            </a:r>
            <a:r>
              <a:rPr b="1" lang="en-US" sz="1800" spc="-1" strike="noStrike">
                <a:solidFill>
                  <a:srgbClr val="990000"/>
                </a:solidFill>
                <a:latin typeface="Courier New"/>
              </a:rPr>
              <a:t>// Promp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in  &gt;&gt; empNum;                     </a:t>
            </a:r>
            <a:r>
              <a:rPr b="1" lang="en-US" sz="1800" spc="-1" strike="noStrike">
                <a:solidFill>
                  <a:srgbClr val="990000"/>
                </a:solidFill>
                <a:latin typeface="Courier New"/>
              </a:rPr>
              <a:t>// Read ID num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( empNum  !=  0 )             </a:t>
            </a:r>
            <a:r>
              <a:rPr b="1" lang="en-US" sz="1800" spc="-1" strike="noStrike">
                <a:solidFill>
                  <a:srgbClr val="990000"/>
                </a:solidFill>
                <a:latin typeface="Courier New"/>
              </a:rPr>
              <a:t>// While not d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ut &lt;&lt; “Enter pay rate: “;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in  &gt;&gt; payRate ;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1" lang="en-US" sz="1800" spc="-1" strike="noStrike">
                <a:solidFill>
                  <a:srgbClr val="990000"/>
                </a:solidFill>
                <a:latin typeface="Courier New"/>
              </a:rPr>
              <a:t>// Read pay r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ut &lt;&lt; “Enter hours worked: “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in  &gt;&gt; hours ;                 </a:t>
            </a:r>
            <a:r>
              <a:rPr b="1" lang="en-US" sz="1800" spc="-1" strike="noStrike">
                <a:solidFill>
                  <a:srgbClr val="990000"/>
                </a:solidFill>
                <a:latin typeface="Courier New"/>
              </a:rPr>
              <a:t>// and hours work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cPay(payRate, hours, wages); </a:t>
            </a:r>
            <a:r>
              <a:rPr b="1" lang="en-US" sz="1800" spc="-1" strike="noStrike">
                <a:solidFill>
                  <a:srgbClr val="990000"/>
                </a:solidFill>
                <a:latin typeface="Courier New"/>
              </a:rPr>
              <a:t>// Compute wag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otal = total + wages;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990000"/>
                </a:solidFill>
                <a:latin typeface="Courier New"/>
              </a:rPr>
              <a:t>// Add to to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yFile &lt;&lt; empNum &lt;&lt; payRat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&lt; hours &lt;&lt; wages &lt;&lt; 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ut &lt;&lt; “Enter employee number: “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in  &gt;&gt; empNum;                 </a:t>
            </a:r>
            <a:r>
              <a:rPr b="1" lang="en-US" sz="1800" spc="-1" strike="noStrike">
                <a:solidFill>
                  <a:srgbClr val="990000"/>
                </a:solidFill>
                <a:latin typeface="Courier New"/>
              </a:rPr>
              <a:t>// Read ID numbe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12BB9-2203-4329-B8C4-4BF289B1DF83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"/>
          <p:cNvSpPr/>
          <p:nvPr/>
        </p:nvSpPr>
        <p:spPr>
          <a:xfrm>
            <a:off x="387360" y="291960"/>
            <a:ext cx="8483760" cy="6351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419040" y="496800"/>
            <a:ext cx="8487000" cy="61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ut &lt;&lt;  “Total payroll is  “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&lt;  total  &lt;&lt; 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0 ;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990000"/>
                </a:solidFill>
                <a:latin typeface="Courier New"/>
              </a:rPr>
              <a:t>//  Successful comple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// ***************************************************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  CalcPay ( </a:t>
            </a:r>
            <a:r>
              <a:rPr b="1" lang="en-US" sz="1800" spc="-1" strike="noStrike">
                <a:solidFill>
                  <a:srgbClr val="990000"/>
                </a:solidFill>
                <a:latin typeface="Courier New"/>
              </a:rPr>
              <a:t>/* in */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float   payRate 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800" spc="-1" strike="noStrike">
                <a:solidFill>
                  <a:srgbClr val="990000"/>
                </a:solidFill>
                <a:latin typeface="Courier New"/>
              </a:rPr>
              <a:t>/* in */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float   hours 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800" spc="-1" strike="noStrike">
                <a:solidFill>
                  <a:srgbClr val="990000"/>
                </a:solidFill>
                <a:latin typeface="Courier New"/>
              </a:rPr>
              <a:t>/* out */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float&amp;  wages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Courier New"/>
              </a:rPr>
              <a:t>//  CalcPay computes wages from the employee’s pay r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Courier New"/>
              </a:rPr>
              <a:t>//  and the hours worked, taking overtime into accou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( hours  &gt;  MAX_HOURS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ages = (MAX_HOURS * payRate ) 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hours - MAX_HOURS) * payRate * OVER_TIM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ages  =  hours * payRat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F9A81-182C-4008-B8F1-9185322F8980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952560" y="2781360"/>
            <a:ext cx="6648480" cy="933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952560" y="4705200"/>
            <a:ext cx="664848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imes New Roman"/>
              </a:rPr>
              <a:t>Giving a Value to a Vari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17680" y="1889280"/>
            <a:ext cx="8016840" cy="37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your program you can assign (give) a value to the variable by using the 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assignment operator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geOfDog = 12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 by another method, such 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out &lt;&lt; “How old is your dog?”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in  &gt;&gt; ageOfDog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1101E-CA44-4C77-BB00-11D2E2F68B3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514440" y="5524560"/>
            <a:ext cx="6648480" cy="876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3520" y="266760"/>
            <a:ext cx="80769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imes New Roman"/>
              </a:rPr>
              <a:t>&gt;&gt; is a binary operator</a:t>
            </a:r>
            <a:endParaRPr b="1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66720" y="1714680"/>
            <a:ext cx="794376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&gt; is called the input or extraction opera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&gt; is left associa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990000"/>
                </a:solidFill>
                <a:uFillTx/>
                <a:latin typeface="Arial"/>
              </a:rPr>
              <a:t>EXPRESSION</a:t>
            </a:r>
            <a:r>
              <a:rPr b="1" lang="en-US" sz="2400" spc="-1" strike="noStrike" u="sng">
                <a:solidFill>
                  <a:srgbClr val="990000"/>
                </a:solidFill>
                <a:uFillTx/>
                <a:latin typeface="Arial"/>
              </a:rPr>
              <a:t>	</a:t>
            </a:r>
            <a:r>
              <a:rPr b="1" lang="en-US" sz="2400" spc="-1" strike="noStrike" u="sng">
                <a:solidFill>
                  <a:srgbClr val="990000"/>
                </a:solidFill>
                <a:uFillTx/>
                <a:latin typeface="Arial"/>
              </a:rPr>
              <a:t>	</a:t>
            </a:r>
            <a:r>
              <a:rPr b="1" lang="en-US" sz="2400" spc="-1" strike="noStrike" u="sng">
                <a:solidFill>
                  <a:srgbClr val="990000"/>
                </a:solidFill>
                <a:uFillTx/>
                <a:latin typeface="Arial"/>
              </a:rPr>
              <a:t>	</a:t>
            </a:r>
            <a:r>
              <a:rPr b="1" lang="en-US" sz="2400" spc="-1" strike="noStrike" u="sng">
                <a:solidFill>
                  <a:srgbClr val="990000"/>
                </a:solidFill>
                <a:uFillTx/>
                <a:latin typeface="Arial"/>
              </a:rPr>
              <a:t>	</a:t>
            </a:r>
            <a:r>
              <a:rPr b="1" lang="en-US" sz="2400" spc="-1" strike="noStrike" u="sng">
                <a:solidFill>
                  <a:srgbClr val="990000"/>
                </a:solidFill>
                <a:uFillTx/>
                <a:latin typeface="Arial"/>
              </a:rPr>
              <a:t>HAS VA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in  &gt;&gt; ag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c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990000"/>
                </a:solidFill>
                <a:uFillTx/>
                <a:latin typeface="Arial"/>
              </a:rPr>
              <a:t>STAT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in  &gt;&gt;  age  &gt;&gt;  weight ;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9480" y="1458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imes New Roman"/>
              </a:rPr>
              <a:t>Extraction Operator ( &gt;&gt; )</a:t>
            </a:r>
            <a:endParaRPr b="1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3160" y="16765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ariable 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ci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s predefined to denote an 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input stream from the standard input device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 the keyboard 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extraction operator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  &gt;&gt;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lled 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“get from”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akes 2 operands.  The left operand is a stream expression, such as cin--the right operand is a variable of simple type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rator  &gt;&gt;  attempts to 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extra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next item from the input stream 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and stor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ts value in the right operand variab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11-15T14:37:07Z</dcterms:created>
  <dc:creator>Sylvia Sorkin</dc:creator>
  <dc:description/>
  <dc:language>en-US</dc:language>
  <cp:lastModifiedBy>Victor R. Volkman</cp:lastModifiedBy>
  <cp:lastPrinted>1999-05-09T03:49:47Z</cp:lastPrinted>
  <dcterms:modified xsi:type="dcterms:W3CDTF">2000-09-19T00:42:38Z</dcterms:modified>
  <cp:revision>162</cp:revision>
  <dc:subject>C++ input, file I/O, cin, getline, extraction operator &gt;&gt;</dc:subject>
  <dc:title>Programming and Problem Solving with C++, 2/e</dc:title>
</cp:coreProperties>
</file>