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5E04-EC70-4D56-AF73-8B8EE61665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1920" y="874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D1A5-554F-433F-92D6-391DAB3D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13BE-682B-44AE-B130-B2CB579F6E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13E3-FDC6-4EFC-8D87-1A3DDAA01B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0EEA-C4ED-4E53-A9BC-2B52624C8C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7A6F-EE3D-44E5-BFCB-97F21A577F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D558-F127-4C51-8C23-9030727B28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2BCD-B6D1-424A-964D-26F06A8BB8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B1AF4-C23C-4A06-959D-537BA0F0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F4222-050A-4A16-9A84-4935A460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D5F53-8E92-49A2-AAE0-BAA0AA23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9906C-96A9-4F57-AEA1-632840C3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40504-36C2-4767-A431-37C4FBDE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70C4D-88B2-4641-B36A-DF512D5B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1EE63-23D1-44C5-A3C9-A14AB912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7DECA-7132-46CA-8A0D-9EFEDE6B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F43B6-6292-4216-B2BE-FDE7697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7AA7C-7D5C-40B1-9834-2D8687D5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8D1E7-C886-489B-9A80-84FB2A31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84550-3EF0-4061-B524-E5586ACA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93840" y="625608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58B-F770-4E91-AB70-DA3F072A1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E492-E468-4127-8114-C91BF74D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336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PS 17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th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1600200"/>
            <a:ext cx="8534160" cy="480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160" y="1598760"/>
            <a:ext cx="830556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// initialize loop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/ test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repeate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bc3700"/>
                </a:solidFill>
                <a:latin typeface="Arial"/>
              </a:rPr>
              <a:t>// update loop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60020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45400" y="3505320"/>
            <a:ext cx="2658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147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28600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45400" y="3505320"/>
            <a:ext cx="2658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156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97180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32520" y="4038480"/>
            <a:ext cx="189216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51880" y="3505320"/>
            <a:ext cx="2658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165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96252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5400" y="3505320"/>
            <a:ext cx="2658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174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72428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45400" y="3505320"/>
            <a:ext cx="2658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183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97180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45400" y="3505320"/>
            <a:ext cx="2658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192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396252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45400" y="3505320"/>
            <a:ext cx="26586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01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472428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45400" y="3505320"/>
            <a:ext cx="26586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10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97180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45400" y="3505320"/>
            <a:ext cx="26586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19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1 - Review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:  Lo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:  Big "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program income.cpp, guess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:  switch, break, and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program rainfall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96252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45400" y="3505320"/>
            <a:ext cx="265860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28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472428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45400" y="3505320"/>
            <a:ext cx="265860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37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97180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45400" y="3505320"/>
            <a:ext cx="265860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46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96252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45400" y="3505320"/>
            <a:ext cx="26586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55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72428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45400" y="3505320"/>
            <a:ext cx="26586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64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297180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1981080"/>
            <a:ext cx="106668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45400" y="3505320"/>
            <a:ext cx="26586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74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04920" y="1600200"/>
            <a:ext cx="487656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791320"/>
            <a:ext cx="4876560" cy="68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unt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 =  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ount &gt;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count  &lt;&lt;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Done”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26040" y="4038480"/>
            <a:ext cx="189252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45400" y="3505320"/>
            <a:ext cx="265860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867280" y="1447920"/>
            <a:ext cx="2210040" cy="1981080"/>
            <a:chOff x="5867280" y="1447920"/>
            <a:chExt cx="2210040" cy="1981080"/>
          </a:xfrm>
        </p:grpSpPr>
        <p:sp>
          <p:nvSpPr>
            <p:cNvPr id="283" name=""/>
            <p:cNvSpPr/>
            <p:nvPr/>
          </p:nvSpPr>
          <p:spPr>
            <a:xfrm>
              <a:off x="6477120" y="1981080"/>
              <a:ext cx="106668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1447920"/>
              <a:ext cx="22100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994440" y="4098960"/>
            <a:ext cx="40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37040" y="4052880"/>
            <a:ext cx="677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3640" y="2147760"/>
            <a:ext cx="778824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Infile contains 100 blood pressur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while loop to read the 100 blood pressures and find their to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808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unt-Controlled Loop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920" y="533520"/>
            <a:ext cx="8534160" cy="601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94440" y="4098960"/>
            <a:ext cx="40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37040" y="4052880"/>
            <a:ext cx="677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662040"/>
            <a:ext cx="8381880" cy="59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stream    myInfil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        thisBP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        tota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        count ;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= 0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// initi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  ( count &lt; 100 )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// test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   &gt;&gt;  thisBP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total + thisBP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++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//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The total = “  &lt;&lt;  total  &lt;&lt;  end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62120" y="1600200"/>
            <a:ext cx="7772400" cy="5029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vent-controlled Loo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entinel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processing data until a special value which is not a possible data value is entered to indicate that processing should 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nd-of-fil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processing data as long as there is more data in the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lag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processing data until the value of a flag changes in the loop 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3429000"/>
            <a:ext cx="7772400" cy="1523880"/>
            <a:chOff x="762120" y="3429000"/>
            <a:chExt cx="7772400" cy="1523880"/>
          </a:xfrm>
        </p:grpSpPr>
        <p:sp>
          <p:nvSpPr>
            <p:cNvPr id="297" name=""/>
            <p:cNvSpPr/>
            <p:nvPr/>
          </p:nvSpPr>
          <p:spPr>
            <a:xfrm>
              <a:off x="762120" y="34290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49528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09680" y="1558800"/>
            <a:ext cx="66484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ing</a:t>
            </a:r>
            <a:r>
              <a:rPr b="0" lang="en-US" sz="3200" spc="-1" strike="noStrike">
                <a:solidFill>
                  <a:srgbClr val="006633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e/Weems/Head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7360" y="1835280"/>
            <a:ext cx="8445600" cy="4635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amples of Kinds of Loo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182880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388620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5840" y="2071800"/>
            <a:ext cx="387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unt controlled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08440" y="1965240"/>
            <a:ext cx="3597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 exactly 100 blood pressures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0720" y="4205160"/>
            <a:ext cx="3758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-of-file contr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84760" y="4175280"/>
            <a:ext cx="3597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 all the blood pressures from a file no matter how many are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7360" y="1682640"/>
            <a:ext cx="8445600" cy="478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amples of Kinds of Loo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167652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380988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4040" y="1873080"/>
            <a:ext cx="3483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ntinel contro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79840" y="1736640"/>
            <a:ext cx="44355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 blood pressures until a special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ke -1) selected by you i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400" y="4052880"/>
            <a:ext cx="2731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lag contr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79840" y="3946680"/>
            <a:ext cx="4359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 blood pressures until a dangerously high BP (200 or more) i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 Sentinel-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 “priming re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ng read” means you read one set of data before the 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09120" y="228240"/>
            <a:ext cx="807732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// Sentinel controlled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Enter a blood pressure (-1 to stop ) 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this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thisBP != -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790015"/>
                </a:solidFill>
                <a:latin typeface="Arial"/>
              </a:rPr>
              <a:t>// while not senti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total + this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 “Enter a blood pressure (-1 to stop ) 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&gt;&gt; this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to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nd-of-File Controll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s on fact that a file goes into fail state when you try to read a data value beyond the end of the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09480" y="304920"/>
            <a:ext cx="7925040" cy="609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91440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  &gt;&gt;  thisB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bc3700"/>
                </a:solidFill>
                <a:latin typeface="Arial"/>
              </a:rPr>
              <a:t>// priming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myInfil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bc3700"/>
                </a:solidFill>
                <a:latin typeface="Arial"/>
              </a:rPr>
              <a:t>// while last read 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total + thisB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  &gt;&gt;  thisB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bc3700"/>
                </a:solidFill>
                <a:latin typeface="Arial"/>
              </a:rPr>
              <a:t>// read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tot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c3700"/>
                </a:solidFill>
                <a:latin typeface="Arial"/>
              </a:rPr>
              <a:t>// End-of-file controlled loo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304920"/>
            <a:ext cx="8001000" cy="601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e0043"/>
                </a:solidFill>
                <a:latin typeface="Arial"/>
              </a:rPr>
              <a:t>//End-of-file at keyboar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Enter blood pressure (Ctrl-Z to stop)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thisB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6e0043"/>
                </a:solidFill>
                <a:latin typeface="Arial"/>
              </a:rPr>
              <a:t>// priming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ci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6e0043"/>
                </a:solidFill>
                <a:latin typeface="Arial"/>
              </a:rPr>
              <a:t>// while last read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total + this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Enter blood pressure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&gt;&gt; thisB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6e0043"/>
                </a:solidFill>
                <a:latin typeface="Arial"/>
              </a:rPr>
              <a:t>// read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to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lag-controlled Loo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initialize a flag (to true or fa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eaningful name for th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dition in the loop body changes the value of th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the flag in the loop test ex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09480" y="304920"/>
            <a:ext cx="792504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GoodReadings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afe = true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bc3700"/>
                </a:solidFill>
                <a:latin typeface="Arial"/>
              </a:rPr>
              <a:t>// initialize Boolean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isSa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this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 thisBP &gt;=  20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afe = false;</a:t>
            </a:r>
            <a:r>
              <a:rPr b="1" lang="en-US" sz="2400" spc="-1" strike="noStrike">
                <a:solidFill>
                  <a:srgbClr val="bc37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bc3700"/>
                </a:solidFill>
                <a:latin typeface="Arial"/>
              </a:rPr>
              <a:t>// change fla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GoodRead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countGoodReadings  &lt;&lt; 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oops often used 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 all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 special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track of previous and curren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3880" y="5076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hapter 6 Top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6360" y="1604880"/>
            <a:ext cx="78678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Statement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-Controlle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-Controlle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he End-of-File Condition to Control Inp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a While Statement for Summing and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sted While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p Testing and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1600200"/>
            <a:ext cx="8001000" cy="510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3276720"/>
            <a:ext cx="6400800" cy="243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initialize oute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 (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uter loop 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itialize inne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ner loop 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ner loop processing and up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ttern of a Nested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tient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le contains blood pressure data for different people. Each line has a patient ID, the number of readings for that patient, followed by the actual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27160" y="4403880"/>
            <a:ext cx="521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howM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073160" y="4883040"/>
            <a:ext cx="6616800" cy="1677960"/>
            <a:chOff x="1073160" y="4883040"/>
            <a:chExt cx="6616800" cy="1677960"/>
          </a:xfrm>
        </p:grpSpPr>
        <p:sp>
          <p:nvSpPr>
            <p:cNvPr id="342" name=""/>
            <p:cNvSpPr/>
            <p:nvPr/>
          </p:nvSpPr>
          <p:spPr>
            <a:xfrm>
              <a:off x="1073160" y="4883040"/>
              <a:ext cx="6616800" cy="1677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25000" y="4998960"/>
              <a:ext cx="6489720" cy="1555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67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0   140   150   170   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3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0   2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23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0   151   15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844560" y="1835280"/>
            <a:ext cx="6770520" cy="3949560"/>
            <a:chOff x="844560" y="1835280"/>
            <a:chExt cx="6770520" cy="3949560"/>
          </a:xfrm>
        </p:grpSpPr>
        <p:sp>
          <p:nvSpPr>
            <p:cNvPr id="345" name=""/>
            <p:cNvSpPr/>
            <p:nvPr/>
          </p:nvSpPr>
          <p:spPr>
            <a:xfrm>
              <a:off x="844560" y="1835280"/>
              <a:ext cx="6770520" cy="39495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95680" y="2162160"/>
              <a:ext cx="4610880" cy="3384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6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3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23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.              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.              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re were 432 patients in fi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Read the data and display a char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00360" y="2117880"/>
            <a:ext cx="463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lgorithm Uses Nested Loo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itialize  patientCount  to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ead  first  ID  and howMany from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ile not end-of-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crement patient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isplay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se a count-controlled loop to read and sum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p this patient’s howMany BP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alculate and display average for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ead next ID and howMany from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isplay patient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o design a nested loop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 with outer l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you get to where the inner loop appears, make it a separate module and come back to its design l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fstream&gt;</a:t>
            </a:r>
            <a:br>
              <a:rPr sz="2400"/>
            </a:br>
            <a:br>
              <a:rPr sz="1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br>
              <a:rPr sz="2400"/>
            </a:br>
            <a:br>
              <a:rPr sz="1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main (  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t           patientCoun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// declar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t           thisID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t           howMany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thisBP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totalForPatien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count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float        averag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fstream  myInfile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7908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.open(“A:\\BP.dat”)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!myInfile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// opening fail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cout &lt;&lt; “File opening error. Program terminated.”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return  1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ID Number      Average BP” &lt;&lt; endl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Count = 0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 &gt;&gt; thisID &gt;&gt; howMany;     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// priming read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 myInfile )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// last read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atientCount++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ut &lt;&lt; this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ForPatient = 0;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         // initialize inne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 count &lt; how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 &gt;&gt; this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ForPatient = totalForPatient  + this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= totalForPatient / float(howMan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int (average + .5) &lt;&lt; endl;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         //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  &gt;&gt; thisID  &gt;&gt;  howMany;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// another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838080"/>
            <a:ext cx="8534160" cy="38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 &lt;&lt;   “There were “ &lt;&lt;   patientCo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 “patients on file.”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 “Program terminated.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sted If stat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gram reads a series of data values from a file. Each set has an  integer age and a character 'M' or 'F' for the sex of a person. It counts  the number of males and females in  each of the age groups children,  teenagers and adults.  It considers any age from 0 to 109 to be acceptable for the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oop i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peti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trol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causes a single statement or block to be executed repeat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17640" y="380520"/>
            <a:ext cx="7540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at is a loop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e ages3.cp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444760" y="2825640"/>
            <a:ext cx="3111480" cy="250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33520"/>
            <a:ext cx="9067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nformation About 20 Books in Disk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25200" y="1736640"/>
            <a:ext cx="223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\\myIn.da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5080" y="2803680"/>
            <a:ext cx="3139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98  P &lt;eol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41  H &lt;eol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79  P &lt;eol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7640" y="2117880"/>
            <a:ext cx="2116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 of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09680" y="2362320"/>
            <a:ext cx="7621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880" y="1889280"/>
            <a:ext cx="196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back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114440" y="2209680"/>
            <a:ext cx="2590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9280" y="5622840"/>
            <a:ext cx="759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RITE A PROGRAM TO FIND TOTAL VALUE OF ALL 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04920" y="1828800"/>
            <a:ext cx="853416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1965240"/>
            <a:ext cx="79246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// for c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fstream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// for file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main 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       price ;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//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         kin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stream    myInfil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       total  =  0.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       count 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6094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gram to Read Info about 20 Books From a Disk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1600200"/>
            <a:ext cx="853416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0492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st of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639800"/>
            <a:ext cx="80773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.open(“A:\\myIn.dat”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// count-controlled processing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  count &lt;= 2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   &gt;&gt;  price  &gt;&gt;  kin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total + pric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++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Total is: “ &lt;&lt; total &lt;&lt; end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.close( 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25440" y="1530360"/>
            <a:ext cx="6616800" cy="4406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ace of Program 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21337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25909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30481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35053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44197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39625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541008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15238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43400" y="15238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67280" y="15238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5410080"/>
            <a:ext cx="510552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19320" y="48769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        price        kind        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3.98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‘P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3.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7.41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‘H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11.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8.79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‘P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20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               so loop term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measure of the amount of work involved in executing an algorithm relative to the size of th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the less complex the algorithm the faster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” means fewer it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g-”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 no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notation for “Order” of complexity (think order of magnitu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is better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) bea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*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stant-time problems</a:t>
            </a:r>
            <a:br>
              <a:rPr sz="4400"/>
            </a:b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takes the same (or fewer) number of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-time is not necessarily small, but is near-totally 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calculating the number of hours, days, weeks represented by a quantity of seconds (MP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near-time Problems</a:t>
            </a:r>
            <a:br>
              <a:rPr sz="4400"/>
            </a:b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loop of “N” iter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“N” is proportional to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ATM transaction validator (MP3) loop performs one iteration per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adratic-time Problems</a:t>
            </a:r>
            <a:br>
              <a:rPr sz="4400"/>
            </a:b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N</a:t>
            </a:r>
            <a:r>
              <a:rPr b="0" lang="en-US" sz="4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nner- and outer- loops are proportional to same amount of d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times N --&gt;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exampl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bble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3657600"/>
            <a:ext cx="7848720" cy="243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848720" cy="167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380520"/>
            <a:ext cx="7540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wo Types of Loo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 Antiqua"/>
              </a:rPr>
              <a:t>count controll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at a specified number of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 Antiqua"/>
              </a:rPr>
              <a:t>event-controll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condition within the loop body changes and this causes the repeating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olynomial Times vs. Exponenti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530360"/>
            <a:ext cx="8534160" cy="4406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04920" y="2895480"/>
            <a:ext cx="8533800" cy="2438640"/>
            <a:chOff x="304920" y="2895480"/>
            <a:chExt cx="8533800" cy="2438640"/>
          </a:xfrm>
        </p:grpSpPr>
        <p:sp>
          <p:nvSpPr>
            <p:cNvPr id="408" name=""/>
            <p:cNvSpPr/>
            <p:nvPr/>
          </p:nvSpPr>
          <p:spPr>
            <a:xfrm>
              <a:off x="304920" y="2895480"/>
              <a:ext cx="853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4920" y="3505320"/>
              <a:ext cx="853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4920" y="4114800"/>
              <a:ext cx="853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4920" y="4724280"/>
              <a:ext cx="853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920" y="5334120"/>
              <a:ext cx="853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        N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 N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2  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             2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stant     linear         quadratic                      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1                     1          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100                          1,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10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10,000                           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1,000       1,000,00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10,000   100,000,000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3880" y="15238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15238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15238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5238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n-Polynomial (NP)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as exponentia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rather than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er of Han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ling Sale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that requires more tha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ons is probably unsol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oop Testing and Debugg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data should test all sections o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are of infinite loops -- program doesn’t s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loop termination condition, and watch for “off-by-1”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get function for loops controlled by detection of ‘\n’ chara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lgorithm walk-through to verify pre- and postcond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 execution of loop by hand with code walk-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 debugger to run program in “slow motion” or use debug output stat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come.cp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, break, and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14400" y="2057400"/>
            <a:ext cx="7074000" cy="4178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witch Stat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 a selection control structure for multi-way bran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 (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IntegralExpression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 Constant1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(s)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 Constant2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(s)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(s)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04920" y="0"/>
            <a:ext cx="853416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800" y="1440"/>
            <a:ext cx="7957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    weightInPounds  = 165.8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    weightUni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 .   .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//  user enters letter for desired weight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  ( weightUni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‘P’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‘p’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 &lt;&lt; weightInPounds  &lt;&lt; “ pounds “ &lt;&lt; endl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‘O’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‘o’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 &lt;&lt; 16.0 * weightInPounds  &lt;&lt; “ ounces “ &lt;&lt; endl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‘K’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‘k’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 &lt;&lt; weightInPounds / 2.2  &lt;&lt; “ kilos “ &lt;&lt; endl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‘G’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‘g’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 &lt;&lt; 454.0 * weightInPounds  &lt;&lt; “ grams “ &lt;&lt; endl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 &lt;&lt; “That unit is not handled! “ &lt;&lt; endl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witch Stat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15328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Integral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f char, short, int, long or enum type ) determines which branch is execu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 labels are constant ( possibly named ) integral expressions.  Several case labels can precede a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rol in Switch Stat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branches to the statement following the case label that matches the value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gral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Control proceeds through all remaining statements, including the default, unless redirected with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 case label matches the value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gral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ntrol branches to the default label, if present--otherwise control passes to the statement following the entire switch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getting to use break can cause logical err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 after a branch is taken, control proceeds  sequentially until either break or the end of the switch statement occ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reak Stat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153280" cy="47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 statement can be used with Switch or any of the 3 looping stru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causes an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mmediate ex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the Switch, While, Do-While, or For statement in which it app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break is inside nested structures, control exits only the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nermost struc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taining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2280" y="2292480"/>
            <a:ext cx="7302240" cy="2806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ile Stat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598400"/>
            <a:ext cx="7467480" cy="48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 (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Express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loop bod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Book Antiqua"/>
              </a:rPr>
              <a:t>NOTE:  Loop body can be a single     statement, a null statement, or a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reak as an escape hatch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rposeful infinite lo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o read pairs of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reak to bail out if input is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nteger must be less than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integer must be greater than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EOF is OK at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10 pairs of data will be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some calculation 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965240" y="87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01320" y="1182600"/>
            <a:ext cx="5397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Count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 // purposeful infinit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 &gt;&gt; num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cin || num1 &g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 &gt;&gt; nu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cin || num2 &lt;=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sqrt(float(num+num2))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Count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loopCount &gt;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ontinue Stat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valid only within lo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erminates the current loop iteration, but not the entire l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For or While, continue causes the rest of the body statement to be skipped--in a For statement, the update is d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Do-While, the exit condition is tested, and if true, the next loop iteration is begu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inue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integer data from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over negativ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432080" y="80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01320" y="1182600"/>
            <a:ext cx="555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Count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 // purposeful infinit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 &gt;&gt; n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c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num &lt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;   // irrelevant data ign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sqrt(float(num))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Count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loopCount &gt;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reak and continue are never logically required in loo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break or continue statement can be replaced by an equivalent “if” statement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use break or continue at all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nesting level from building up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semantics are immediately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ainfall.cp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When the expression is tested and found to be false, the loop is exited and control passes to the statement which follows the loop body</a:t>
            </a:r>
            <a:r>
              <a:rPr b="1" lang="en-US" sz="3200" spc="-1" strike="noStrike">
                <a:solidFill>
                  <a:srgbClr val="003366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 Antiqua"/>
              </a:rPr>
              <a:t>WHI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6880" y="4425840"/>
            <a:ext cx="173988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7000" y="2879640"/>
            <a:ext cx="118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6000" y="3946680"/>
            <a:ext cx="101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057040" y="35053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35053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556272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5053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35053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885840" y="2209680"/>
            <a:ext cx="305280" cy="609840"/>
            <a:chOff x="3885840" y="2209680"/>
            <a:chExt cx="305280" cy="609840"/>
          </a:xfrm>
        </p:grpSpPr>
        <p:sp>
          <p:nvSpPr>
            <p:cNvPr id="119" name=""/>
            <p:cNvSpPr/>
            <p:nvPr/>
          </p:nvSpPr>
          <p:spPr>
            <a:xfrm>
              <a:off x="4038480" y="22096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038480" y="2666880"/>
              <a:ext cx="15264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885840" y="26668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038480" y="4114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038480" y="4267080"/>
            <a:ext cx="1526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885840" y="4267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49528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57800" y="3352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350532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52960" y="4479840"/>
            <a:ext cx="162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85840" y="5562720"/>
            <a:ext cx="305280" cy="609480"/>
            <a:chOff x="3885840" y="5562720"/>
            <a:chExt cx="305280" cy="609480"/>
          </a:xfrm>
        </p:grpSpPr>
        <p:sp>
          <p:nvSpPr>
            <p:cNvPr id="130" name=""/>
            <p:cNvSpPr/>
            <p:nvPr/>
          </p:nvSpPr>
          <p:spPr>
            <a:xfrm>
              <a:off x="4038480" y="55627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038480" y="601920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885840" y="60192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19520" y="2819520"/>
            <a:ext cx="2438280" cy="1295280"/>
          </a:xfrm>
          <a:prstGeom prst="flowChartDecision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6240" y="32004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Courier New"/>
              </a:rPr>
              <a:t>an initialization of the loop control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an expression to test for continuing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37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bc3700"/>
                </a:solidFill>
                <a:latin typeface="Courier New"/>
              </a:rPr>
              <a:t>an update of the loop control</a:t>
            </a:r>
            <a:r>
              <a:rPr b="1" lang="en-US" sz="3200" spc="-1" strike="noStrike">
                <a:solidFill>
                  <a:srgbClr val="bc37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bc3700"/>
                </a:solidFill>
                <a:latin typeface="Courier New"/>
              </a:rPr>
              <a:t>variable to be executed with each iteration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0280" y="639720"/>
            <a:ext cx="77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nt-controlled loop 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05T01:48:41Z</dcterms:created>
  <dc:creator>Sylvia Sorkin</dc:creator>
  <dc:description/>
  <dc:language>en-US</dc:language>
  <cp:lastModifiedBy>Administrator</cp:lastModifiedBy>
  <cp:lastPrinted>1995-10-04T21:26:14Z</cp:lastPrinted>
  <dcterms:modified xsi:type="dcterms:W3CDTF">2002-02-10T22:10:18Z</dcterms:modified>
  <cp:revision>107</cp:revision>
  <dc:subject>C++ while loops, nested loops, count-controlled, event-controlled, sentinel, end-of-file, flag, complexity</dc:subject>
  <dc:title>Programming and Problem Solving with C++, 2/e</dc:title>
</cp:coreProperties>
</file>