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7CA61-8719-4C74-BF28-B17FBBE6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82C4A-348F-4173-A72A-E0E4BC0C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34840-8500-4F7E-B485-E661D8F8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B7FC7-9844-4DEF-AEF0-67A14E58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E3829-CE8A-4653-A328-3E71E3D9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FC1F7-F6CF-4E19-BB94-53AAF4AB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4FFF4-1A2C-4641-95F9-13203BE0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D3BDD-D2B8-4132-9634-A1D6B16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FEA76-40E7-43AA-A5D4-C005AC8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D6FBA-96A2-4BAA-ACAC-75FFB61C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11C50-CF1E-4485-B6A5-1737D631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71F61-EC9A-4490-BC09-417D6AAA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808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808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17520" y="625608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B72C-87F6-4509-BFA4-027BEE7F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D749-B4E3-48B1-988A-10B0F57FE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0033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00808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PS17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6th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20880" y="2673360"/>
            <a:ext cx="714996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at is in a heading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30040" y="2255760"/>
            <a:ext cx="4039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  Cube  ( int  n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133720"/>
            <a:ext cx="0" cy="914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" y="1630440"/>
            <a:ext cx="359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eneva"/>
              </a:rPr>
              <a:t>type of value retu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90920" y="2437920"/>
            <a:ext cx="1676160" cy="7621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89480" y="198108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eneva"/>
              </a:rPr>
              <a:t>name of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2209680"/>
            <a:ext cx="3353040" cy="914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32680" y="1782720"/>
            <a:ext cx="283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eneva"/>
              </a:rPr>
              <a:t>parameter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4203720"/>
            <a:ext cx="7467840" cy="13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at is in a prototype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676520"/>
            <a:ext cx="7543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prototype looks like a heading but must end with a semicol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d its parameter list just needs to contain the type of each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  Cube( int  );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// prot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en a function is called,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memory is set up ( for its value parameters and any local variables, and also for the function’s name if the return type is not void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30"/>
                </a:solidFill>
                <a:latin typeface="Arial"/>
              </a:rPr>
              <a:t>Then the flow of control passes to the first statement in the function’s body.  The called function’s body statements are executed until one of these occ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002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50028"/>
                </a:solidFill>
                <a:latin typeface="Arial"/>
              </a:rPr>
              <a:t>return statement (with or without a return valu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002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50028"/>
                </a:solidFill>
                <a:latin typeface="Arial"/>
              </a:rPr>
              <a:t>closing brace of function bo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Then control goes back to where the function was c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52280"/>
            <a:ext cx="8534160" cy="66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152280"/>
            <a:ext cx="830556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t Cube ( int ) ;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 main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yourNumber ;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myNumbe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Number = 14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Number    =   9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My Number = “ &lt;&lt; myNumbe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its cube is “ &lt;&lt; Cube (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y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35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Your Number = “ &lt;&lt; yourNumbe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its cube is “ &lt;&lt; Cube (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our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f000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324480" y="2819520"/>
            <a:ext cx="1143000" cy="213336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553080" y="2819160"/>
            <a:ext cx="1295640" cy="327636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2286000"/>
            <a:ext cx="2590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o Compile Successfully,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a function is called in your program, the compiler must previously process either the function’s prototype, or the function’s definition (heading and bod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 C++ function can retur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its identifier at most 1 value of the type which was specified (called the return type) in its heading and prototy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, a void-function cannot return any value in its ident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rite a </a:t>
            </a:r>
            <a:r>
              <a:rPr b="1" lang="en-US" sz="4400" spc="-1" strike="noStrike">
                <a:solidFill>
                  <a:srgbClr val="003366"/>
                </a:solidFill>
                <a:latin typeface="Courier New"/>
              </a:rPr>
              <a:t>void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fun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lled  DisplayMessage ( ) which you can call from main ( ) to describe the pollution index value it receives as a par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city describes a pollution I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than 35 as “Pleasant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through 60 as “Unpleasant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bove 60 as “Health Hazar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urier New"/>
              </a:rPr>
              <a:t>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DisplayMessage( int inde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index &lt; 35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Pleasant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if ( index &lt;= 6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Unpleasant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Health Hazard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028840" y="1066680"/>
            <a:ext cx="1143000" cy="83844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1523880"/>
            <a:ext cx="853416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120" y="159840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void DisplayMessage (int);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main (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pollutionIndex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Enter air pollution index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&gt;&gt; pollutionInde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playMessage(pollutionIndex);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77880" y="503280"/>
            <a:ext cx="6091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Rest of th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029200" y="3504960"/>
            <a:ext cx="1447920" cy="198108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urier New"/>
              </a:rPr>
              <a:t>return;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valid only in the body block of void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control to leave the function and immediately return to the calling block leaving any subsequent statements in the function body unexecu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enda (Monday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M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Header files contain declarations of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d constants lik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nst  int  INT_MAX = 3276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 prototypes like</a:t>
            </a:r>
            <a:r>
              <a:rPr b="1" lang="en-US" sz="2800" spc="-1" strike="noStrike">
                <a:solidFill>
                  <a:srgbClr val="e500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00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500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loat  sqrt( float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tring, ostream, i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in, cout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74800" y="1905120"/>
            <a:ext cx="5321160" cy="869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74800" y="4191120"/>
            <a:ext cx="532116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334120"/>
            <a:ext cx="5321520" cy="1022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22860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gram with Several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86080" y="434340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quare 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86080" y="5600880"/>
            <a:ext cx="59436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ube 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638360"/>
            <a:ext cx="6686640" cy="50101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74800" y="3092400"/>
            <a:ext cx="5321160" cy="870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62040" y="2095560"/>
            <a:ext cx="59436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unction prot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1523880"/>
            <a:ext cx="853416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Value-returning Fun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82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  Square ( int ) ;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/ prot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  Cube ( int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main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The square of 27 is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quare (27)</a:t>
            </a:r>
            <a:r>
              <a:rPr b="1" lang="en-US" sz="2400" spc="-1" strike="noStrike">
                <a:solidFill>
                  <a:srgbClr val="00353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  endl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// functio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The cube of 27 is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ube (27)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  endl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// function cal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st of Prog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72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t Square ( int  n )</a:t>
            </a:r>
            <a:r>
              <a:rPr b="1" lang="en-US" sz="2400" spc="-1" strike="noStrike">
                <a:solidFill>
                  <a:srgbClr val="00353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53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// header an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turn   n * 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t Cube ( int  n )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// header an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turn  n * n * 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523880"/>
            <a:ext cx="853416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 void function call stands alo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25320"/>
            <a:ext cx="7848720" cy="49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void  DisplayMessage ( int ) ; </a:t>
            </a:r>
            <a:r>
              <a:rPr b="1" lang="en-US" sz="2400" spc="-1" strike="noStrike">
                <a:solidFill>
                  <a:srgbClr val="3366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66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66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6633"/>
                </a:solidFill>
                <a:latin typeface="Arial"/>
              </a:rPr>
              <a:t>//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main ( 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playMessage(15);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// functio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Good Bye“  &lt;&lt;    endl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080" y="1584360"/>
            <a:ext cx="8550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09880" y="4114800"/>
            <a:ext cx="1295640" cy="38088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1981080"/>
            <a:ext cx="853416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3366"/>
                </a:solidFill>
                <a:latin typeface="Courier New"/>
              </a:rPr>
              <a:t>void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function does NOT return a val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54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id  DisplayMessage ( int  n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t  &lt;&lt;  “I have liked math for  “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&lt;  n  &lt;&lt;  “ years”  &lt;&lt; endl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10080" y="2362320"/>
            <a:ext cx="1143000" cy="38088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rameter Li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means used for a function to share information with the block containing the c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7520" y="1911240"/>
            <a:ext cx="8521560" cy="4254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assified by Lo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743200"/>
            <a:ext cx="37339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appear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990066"/>
                </a:solidFill>
                <a:latin typeface="Arial"/>
              </a:rPr>
              <a:t>function 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in the calling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819520"/>
            <a:ext cx="37335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530"/>
                </a:solidFill>
                <a:latin typeface="Arial"/>
              </a:rPr>
              <a:t>Always appear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530"/>
                </a:solidFill>
                <a:latin typeface="Arial"/>
              </a:rPr>
              <a:t>the function </a:t>
            </a:r>
            <a:r>
              <a:rPr b="1" lang="en-US" sz="3200" spc="-1" strike="noStrike">
                <a:solidFill>
                  <a:srgbClr val="990066"/>
                </a:solidFill>
                <a:latin typeface="Arial"/>
              </a:rPr>
              <a:t>heading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530"/>
                </a:solidFill>
                <a:latin typeface="Arial"/>
              </a:rPr>
              <a:t> or function </a:t>
            </a:r>
            <a:r>
              <a:rPr b="1" lang="en-US" sz="3200" spc="-1" strike="noStrike">
                <a:solidFill>
                  <a:srgbClr val="990066"/>
                </a:solidFill>
                <a:latin typeface="Arial"/>
              </a:rPr>
              <a:t>prototype</a:t>
            </a:r>
            <a:r>
              <a:rPr b="1" lang="en-US" sz="3200" spc="-1" strike="noStrike">
                <a:solidFill>
                  <a:srgbClr val="0035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66"/>
                </a:solidFill>
                <a:latin typeface="Arial"/>
              </a:rPr>
              <a:t>Arguments      </a:t>
            </a:r>
            <a:r>
              <a:rPr b="1" lang="en-US" sz="3200" spc="-1" strike="noStrike">
                <a:solidFill>
                  <a:srgbClr val="99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66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9051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5909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me C++ Tex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term “actual parameters” fo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ose books then refer to parameters as “formal 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alue Parameter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ence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16002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080" y="2444760"/>
            <a:ext cx="3568680" cy="4102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3560" y="2444760"/>
            <a:ext cx="4406760" cy="4102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0360" y="2575080"/>
            <a:ext cx="3252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value (25)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rgu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s pa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the function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 is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8640" y="2575080"/>
            <a:ext cx="4215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memory address (4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f the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s pa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o the function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t is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838080"/>
            <a:ext cx="534960" cy="527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7720" y="914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1920" y="374760"/>
            <a:ext cx="8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Rounded MT Bold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720" y="1295280"/>
            <a:ext cx="7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45720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45720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8000" y="4632480"/>
            <a:ext cx="2963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n this case,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rgument can b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variable 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nst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r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24680" y="4861080"/>
            <a:ext cx="3947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is case, the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ust be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dentifier.</a:t>
            </a:r>
            <a:r>
              <a:rPr b="1" lang="en-US" sz="2400" spc="-1" strike="noStrike">
                <a:solidFill>
                  <a:srgbClr val="0054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8320" y="380880"/>
            <a:ext cx="373752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rg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 Calling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dnes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3: exercise on function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By default, paramete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of simple types like int, char, float, double) are always value parameters, unless you do something to change that.  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o get a reference parame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need to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lace &amp; after the typ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e function heading and prototyp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en to Use Reference Parameter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 parameters should be used when you want your function to give a value to, or change the value of, a variable from the calling block without an assignment statement in the call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ing a Reference Parameter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like giving someone the key to your home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key can be used by the other person to change the contents of your ho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953400" y="3124080"/>
            <a:ext cx="104112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 PROGRAM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21240" y="1763640"/>
            <a:ext cx="868320" cy="1615680"/>
            <a:chOff x="3621240" y="1763640"/>
            <a:chExt cx="868320" cy="1615680"/>
          </a:xfrm>
        </p:grpSpPr>
        <p:sp>
          <p:nvSpPr>
            <p:cNvPr id="204" name=""/>
            <p:cNvSpPr/>
            <p:nvPr/>
          </p:nvSpPr>
          <p:spPr>
            <a:xfrm>
              <a:off x="3664080" y="2216160"/>
              <a:ext cx="825480" cy="673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26000" y="2287440"/>
              <a:ext cx="66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0049"/>
                  </a:solidFill>
                  <a:latin typeface="Arial Rounded MT Bold"/>
                </a:rPr>
                <a:t> </a:t>
              </a:r>
              <a:r>
                <a:rPr b="1" lang="en-US" sz="2800" spc="-1" strike="noStrike">
                  <a:solidFill>
                    <a:srgbClr val="280049"/>
                  </a:solidFill>
                  <a:latin typeface="Arial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21960" y="176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4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21240" y="292104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09480" y="3581280"/>
            <a:ext cx="7848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pass only a copy of 25 to a function, it is calle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pass-by-value”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 function will not be able to change the contents of age.  It is still 25 when you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 PROGRAM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58128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, if you pass 4000, the address of age to a function, it is called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pass-by-reference”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 function will be able to change the contents of age.  It could be 23 or 90 when you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621240" y="1763640"/>
            <a:ext cx="868320" cy="1615680"/>
            <a:chOff x="3621240" y="1763640"/>
            <a:chExt cx="868320" cy="1615680"/>
          </a:xfrm>
        </p:grpSpPr>
        <p:sp>
          <p:nvSpPr>
            <p:cNvPr id="212" name=""/>
            <p:cNvSpPr/>
            <p:nvPr/>
          </p:nvSpPr>
          <p:spPr>
            <a:xfrm>
              <a:off x="3664080" y="2216160"/>
              <a:ext cx="825480" cy="673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26000" y="2287440"/>
              <a:ext cx="66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0049"/>
                  </a:solidFill>
                  <a:latin typeface="Arial Rounded MT Bold"/>
                </a:rPr>
                <a:t> </a:t>
              </a:r>
              <a:r>
                <a:rPr b="1" lang="en-US" sz="2800" spc="-1" strike="noStrike">
                  <a:solidFill>
                    <a:srgbClr val="280049"/>
                  </a:solidFill>
                  <a:latin typeface="Arial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21960" y="176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4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21240" y="292104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s-by-reference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is also called . . 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-by-address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-by-lo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Example of Pass-by-Referen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ant to find 2 real roots for a quadratic equation with coefficients a,b,c.  Write a prototype for a void function named GetRoots( ) with 5 parameters.  The first 3 parameters are type float.  The last 2 are reference parameters of type fl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oid  GetRoots ( float ,    float ,    float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loat&amp; , float&amp;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rite the function definition using this information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unction uses 3 incoming values a, b, c from  the calling block.  It calculates 2 outgoing values root1 and root2 for the calling block.  They are the 2 real roots of the quadratic equation with coefficients a, b, 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3808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/ prototy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523880"/>
            <a:ext cx="8458200" cy="502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 GetRoots( float a,  float b,  float c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float&amp; root1, float&amp; root2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loat te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// local vari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temp = b * b - 4.0 * a * c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oot1 = (-b + sqrt(temp) ) / ( 2.0 * a 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oot2 = (-b - sqrt(temp) ) / ( 2.0 * a )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763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tion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76276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f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void GetRoots(float, float, float, float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&amp;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, float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&amp;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800" spc="-1" strike="noStrike">
                <a:solidFill>
                  <a:srgbClr val="0099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 ( 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50028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ifstream myInf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 myOutf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a, b, c, first, second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// ope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count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&lt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 myInfile &gt;&gt; a &gt;&gt; b &gt;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GetRoots(a, b, c, first, second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//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Outfile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co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++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// clos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...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1558800"/>
            <a:ext cx="66484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808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e/Weems/Head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s-by-val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9480" y="2597040"/>
            <a:ext cx="2273040" cy="234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6560" y="2597040"/>
            <a:ext cx="2273400" cy="234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08040" y="310824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C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44360" y="3260880"/>
            <a:ext cx="191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30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UNCTIO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43200" y="2971440"/>
            <a:ext cx="3581280" cy="305280"/>
            <a:chOff x="2743200" y="2971440"/>
            <a:chExt cx="3581280" cy="305280"/>
          </a:xfrm>
        </p:grpSpPr>
        <p:sp>
          <p:nvSpPr>
            <p:cNvPr id="233" name=""/>
            <p:cNvSpPr/>
            <p:nvPr/>
          </p:nvSpPr>
          <p:spPr>
            <a:xfrm>
              <a:off x="2743200" y="2971800"/>
              <a:ext cx="3581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171840" y="2971440"/>
              <a:ext cx="152280" cy="305280"/>
              <a:chOff x="6171840" y="2971440"/>
              <a:chExt cx="152280" cy="305280"/>
            </a:xfrm>
          </p:grpSpPr>
          <p:sp>
            <p:nvSpPr>
              <p:cNvPr id="235" name=""/>
              <p:cNvSpPr/>
              <p:nvPr/>
            </p:nvSpPr>
            <p:spPr>
              <a:xfrm flipH="1" flipV="1">
                <a:off x="6171840" y="297144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171840" y="31240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3411720" y="1736640"/>
            <a:ext cx="184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incom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32280" y="2193840"/>
            <a:ext cx="157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value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s-by-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480" y="2597040"/>
            <a:ext cx="2273040" cy="234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6560" y="2597040"/>
            <a:ext cx="2273400" cy="234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310824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C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46160" y="3336840"/>
            <a:ext cx="192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UNCTIO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3048120"/>
            <a:ext cx="3581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171840" y="304776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71840" y="32004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952000" y="1736640"/>
            <a:ext cx="2609640" cy="1281240"/>
            <a:chOff x="2952000" y="1736640"/>
            <a:chExt cx="2609640" cy="1281240"/>
          </a:xfrm>
        </p:grpSpPr>
        <p:sp>
          <p:nvSpPr>
            <p:cNvPr id="248" name=""/>
            <p:cNvSpPr/>
            <p:nvPr/>
          </p:nvSpPr>
          <p:spPr>
            <a:xfrm>
              <a:off x="3411720" y="1736640"/>
              <a:ext cx="184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0049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280049"/>
                  </a:solidFill>
                  <a:latin typeface="Arial"/>
                </a:rPr>
                <a:t>incoming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52000" y="2193840"/>
              <a:ext cx="260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0049"/>
                  </a:solidFill>
                  <a:latin typeface="Arial"/>
                </a:rPr>
                <a:t>original value 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0049"/>
                  </a:solidFill>
                  <a:latin typeface="Arial"/>
                </a:rPr>
                <a:t>arg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411360" y="447984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utgo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3800" y="4937040"/>
            <a:ext cx="284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nged  value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057400" y="4343400"/>
            <a:ext cx="3733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057400" y="4267080"/>
            <a:ext cx="3049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441972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75680" y="5364000"/>
            <a:ext cx="1087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s-by-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9480" y="2597040"/>
            <a:ext cx="2273040" cy="234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6560" y="2597040"/>
            <a:ext cx="2273400" cy="234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08040" y="310824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C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46160" y="3336840"/>
            <a:ext cx="192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UNCTIO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79640" y="1752480"/>
            <a:ext cx="2835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has no value y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when call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11360" y="447984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utgo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52720" y="4937040"/>
            <a:ext cx="218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w  value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057400" y="2895480"/>
            <a:ext cx="4191120" cy="1676520"/>
            <a:chOff x="2057400" y="2895480"/>
            <a:chExt cx="4191120" cy="1676520"/>
          </a:xfrm>
        </p:grpSpPr>
        <p:sp>
          <p:nvSpPr>
            <p:cNvPr id="265" name=""/>
            <p:cNvSpPr/>
            <p:nvPr/>
          </p:nvSpPr>
          <p:spPr>
            <a:xfrm flipH="1">
              <a:off x="2057400" y="4343400"/>
              <a:ext cx="40370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057400" y="42670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57400" y="4419720"/>
              <a:ext cx="3049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38480" y="3048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4280" y="30481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4120" y="30481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3048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19920" y="2895480"/>
              <a:ext cx="2286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019560" y="304812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95480" y="30481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52680" y="3048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1905120"/>
            <a:ext cx="8369280" cy="4254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ta Flow Determines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sing-Mechan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2743200"/>
            <a:ext cx="822960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/* in *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Pass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/* out *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Pass-by-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ing/outgoing           Pass-by-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/* inout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arameter Data Flow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    Passing-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25909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 function used for a t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ut down on the amount of detail in your main program (encapsul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e function call another fun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function even call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that is called recursion.  It is very useful and requires special care in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make any difference what names you use for parame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Just use them in functio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arameter names and argument names have to be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dvantage of that?  It seems confu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tions are written to specifi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ations state the return type, the parameter types,  whether an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are “outgoing,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task the function is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with its parame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vantage is that teamwork can occur without knowing what the argument identifiers (names) will b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rite prototype and function definition f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void function called GetRating( ) with one reference parameter of type ch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ction repeatedly prompts the user to enter a character at the keyboard until one of these has been entered: E, G, A, P to represent Excellent, Good, Average, Po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33520" y="1447920"/>
            <a:ext cx="8076960" cy="518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void GetRating( char&amp; );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990000"/>
                </a:solidFill>
                <a:latin typeface="Arial"/>
              </a:rPr>
              <a:t>// prototype</a:t>
            </a:r>
            <a:r>
              <a:rPr b="0" lang="en-US" sz="3600" spc="-1" strike="noStrike">
                <a:solidFill>
                  <a:srgbClr val="b5006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b5006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b5006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b5006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b5006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b5006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b5006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GetRating (char&amp;   le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Enter employee rating.”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Use E, G, A, or P : ”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&gt;&gt; let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 (letter  !=  ‘E’)  &amp;&amp;  (letter  !=  ‘G’)  &amp;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(letter  !=  ‘A’)  &amp;&amp;  (letter  !=  ‘P’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Rating invalid.  Enter again: 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 &gt;&gt; let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at is a driver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 short main program whose only purpose is to call a function you wrote, so you can determine whether it meets specifications and works as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a driver for function GetRating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3880" y="5076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hapter 7 Top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6720" y="1604880"/>
            <a:ext cx="77724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ing a Program Using Functional De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ing a Void Function for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Function Arguments and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erences between Value Parameters and Referenc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Local Variables in 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 Preconditions and Post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380880"/>
            <a:ext cx="8610480" cy="601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void  GetRating( char&amp; );      //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char  rating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rating = ‘X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GetRating(rating);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//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 &lt;&lt; “That was rating = 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rating &lt;&lt; endl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n Asser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560" y="167472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truth-valued statement--one that is either true or false (not necessarily in C++ code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Count  &gt;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is assigned  &amp;&amp;  count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e == ‘y’ or ‘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 &lt;= deptSales &lt;= 2500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a == beta @ entry *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econditions and Postcondi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econdi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n assertion describing everything that the function requires to be true at the moment  the function is invok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stcondition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s the state at the moment the function finishes exec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caller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is responsible for ensuring the precond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nction co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ust ensure the post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98080" y="6004080"/>
            <a:ext cx="289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R EXAMPL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unction with Postcondi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GetRating (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ou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har&amp;   le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//  Precondition:   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Postcondition:  User has been prompted to enter a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&amp;&amp;   letter == one of these input values: E,G,A, or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cout  &lt;&lt; “Enter employee rating.”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“Use E, G, A, or P : ”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&gt;&gt; le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 (letter != ‘E’) &amp;&amp; (letter != ‘G’) &amp;&amp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(letter != ‘A’) &amp;&amp; (letter != ‘P’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“Rating invalid. Enter again: 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  &gt;&gt; le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28600" y="1447920"/>
            <a:ext cx="8763120" cy="53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unction with Preconditions and Postcondi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GetRoots(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loat  a,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loat  b,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loat  c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ou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loat&amp;  root1,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ou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loat&amp;  root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//  Precondition:   a, b, and c are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//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&amp;&amp;   a != 0    &amp;&amp;   b*b - 4*a*c !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Postcondition:    root1 and root2 are assigne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 &amp;&amp;  root1 and root2 are roots of quadratic with coefficient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float temp; 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temp = b * b - 4.0 * a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1 = (-b + sqrt(temp) ) / ( 2.0 * a );</a:t>
            </a:r>
            <a:br>
              <a:rPr sz="20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root2 = (-b - sqrt(temp) ) / ( 2.0 * a ); </a:t>
            </a:r>
            <a:br>
              <a:rPr sz="20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880" y="1447920"/>
            <a:ext cx="8458200" cy="510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Function with Preconditions and Postcondi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Swap(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ou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&amp;   firstInt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ou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&amp;   secondI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//  Precondition:   firstInt and secondInt are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Postcondition:    firstInt == secondInt@entr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&amp;&amp;  secondInt == firstInt@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nt  temporaryInt ; 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temporaryInt = firstIn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Int = secondInt 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Int = temporaryInt 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++ program must have a function called ma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execution always begins with function m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other functions are subprograms and must b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tion Ca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function calls another by using the name of the called function next to ( ) enclosing an argument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call temporarily transfers control from the calling function to the called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00280" y="1809720"/>
            <a:ext cx="7581600" cy="1162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987560"/>
            <a:ext cx="2826000" cy="61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56288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Name (  Argument List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gument list is a way for functions to communicate with each other by passing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gument list can contain 0, 1, or more arguments, separated by commas, depending on the func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09120" y="19044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tion Call Synt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057400"/>
            <a:ext cx="777240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wo Parts of Function Defin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  Cube ( int  n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Bookman Old Style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Bookman Old Style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 n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*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0" y="2666880"/>
            <a:ext cx="1295280" cy="2590920"/>
            <a:chOff x="4572000" y="2666880"/>
            <a:chExt cx="1295280" cy="2590920"/>
          </a:xfrm>
        </p:grpSpPr>
        <p:sp>
          <p:nvSpPr>
            <p:cNvPr id="106" name=""/>
            <p:cNvSpPr/>
            <p:nvPr/>
          </p:nvSpPr>
          <p:spPr>
            <a:xfrm flipH="1">
              <a:off x="4647960" y="2666880"/>
              <a:ext cx="10666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72000" y="3276720"/>
              <a:ext cx="1295280" cy="1981080"/>
              <a:chOff x="4572000" y="3276720"/>
              <a:chExt cx="1295280" cy="1981080"/>
            </a:xfrm>
          </p:grpSpPr>
          <p:sp>
            <p:nvSpPr>
              <p:cNvPr id="108" name=""/>
              <p:cNvSpPr/>
              <p:nvPr/>
            </p:nvSpPr>
            <p:spPr>
              <a:xfrm>
                <a:off x="4800600" y="3276720"/>
                <a:ext cx="1066680" cy="106668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572000" y="4343400"/>
                <a:ext cx="1295280" cy="91440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5T22:01:27Z</dcterms:created>
  <dc:creator>Sylvia Sorkin</dc:creator>
  <dc:description/>
  <dc:language>en-US</dc:language>
  <cp:lastModifiedBy>Victor R. Volkman</cp:lastModifiedBy>
  <dcterms:modified xsi:type="dcterms:W3CDTF">2001-02-25T19:40:32Z</dcterms:modified>
  <cp:revision>149</cp:revision>
  <dc:subject>C++ functions, arguments, value and reference parameters, preconditions, postconditions</dc:subject>
  <dc:title>Programming and Problem Solving with C++, 2/e</dc:title>
</cp:coreProperties>
</file>