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4A4-D562-4130-B64D-9245B48E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A30-2C6F-491E-BB8B-BC525ED4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88A-18F4-400B-B15C-641D7637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DCC-AE0D-4133-AA72-DE9B39F9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8842-3681-4C94-B8D8-99DABAAA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D53C-D983-41BE-9B05-84466B1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D268-D466-431D-8FA4-FDD7E856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1D59-10F1-4686-ACF0-096356E6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788-DAE5-4464-B8AD-2234DEE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ECA-C050-467C-9959-23BDCCDD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FDBD-2281-46D0-9734-D42D5D1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E5D-2703-4F43-8F76-4C264A4B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0176-E4FC-4135-9306-52602AD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ABBF-1D51-45C7-89D9-6CE89CF7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6EE3-976C-459A-8553-069346A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EF3A-2898-489E-B0FC-E2CC71BD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EE74-B577-479C-8E7F-DE9F0854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707-F18D-4CF8-BE29-15BECF6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6FD-B832-4E9D-A507-D0FCC89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B8D-B6F0-4A93-9E6B-C6D791C0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571-5CCB-4D2B-9B47-37C46CCC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BC5-D97E-4DE2-8BFC-65A9B9AC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488-F3D6-41A7-A231-7B54C1B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68E-8F6F-4609-BAB9-B8C730AB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9989-FAA9-4EAA-A5C5-FC6923BE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FCD4-B36F-4669-B826-02388BAE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6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660066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990099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8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PS 171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5th,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C52-21A7-49E0-98BE-0CD62F4C1B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Namespace Sco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cope of an identifier declared in a namespace definition extends from the point of declaration to the end of the namespace body, and its scope includes the scope of a using directive specifying that name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B65-BE12-418A-A8A1-01F332F936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5791320"/>
            <a:ext cx="381024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4267080"/>
            <a:ext cx="381024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2971800"/>
            <a:ext cx="3810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2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3 Ways to Use Namespace Identifiers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qualified 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ing of the namespace, the scope resolution operator :: and the desired the identifi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  =  std :: abs( beta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using decla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std::ab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  = abs( bet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0099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using dire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cally or glob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  =  abs( beta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BA6-D7CD-4720-9328-8E084B7BE7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Name Precedence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(or Name Hiding)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a function declares a local identifier with the same name as a global identifier, the local identifier takes precedence within that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44D-89C6-4123-9C88-4D54720C92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1523880"/>
            <a:ext cx="807696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ese allocate memory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someInt 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// for the glob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Square (int n)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/ for instructions i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result ;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// for the lo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 =  n * n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 resul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136-03EE-459A-89AD-6DA50D2E1F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1523880"/>
            <a:ext cx="807696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ese do NOT allocate memory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Square (int n) 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function 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  int  someInt 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// someInt is globa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      // variable defined in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      // anoth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E60-268C-4AA1-B87C-5774C2988C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ifetime of a Variabl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fetime of a variable is the time during program execution when an identifier actually has memory allocated to 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EE0-0976-435D-A799-2A1A370749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Lifetime of Local Automatic Variabl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storage is created (allocated) when control enters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local variables are “alive” while function is exec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storage is destroyed (deallocated) when function ex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5CE-428B-4BFE-8B23-BD75B37DD1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Lifetime of Global Variabl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ir lifetime is the lifetime of the entir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memory is allocated when program begins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memory is deallocated when the entire program ter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E78-7CEF-411C-8686-D9724FFE9C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utomatic vs. Static Variabl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58720" y="2082960"/>
            <a:ext cx="3759120" cy="3149280"/>
          </a:xfrm>
          <a:prstGeom prst="rect">
            <a:avLst/>
          </a:prstGeom>
          <a:solidFill>
            <a:srgbClr val="ffcc99"/>
          </a:solidFill>
          <a:ln w="50760">
            <a:solidFill>
              <a:srgbClr val="00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for automatic variable is allocated at block entry and deallocated at block ex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8000" y="2082960"/>
            <a:ext cx="3797280" cy="3149280"/>
          </a:xfrm>
          <a:prstGeom prst="rect">
            <a:avLst/>
          </a:prstGeom>
          <a:solidFill>
            <a:srgbClr val="ffcc99"/>
          </a:solidFill>
          <a:ln w="50760">
            <a:solidFill>
              <a:srgbClr val="cc33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for static variable remains allocated throughout execution of the entir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DA3-60F8-47B8-AD78-1F208AB220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By default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local variables are autom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obtain a static local variable, you must use the reserved 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its decl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BB8-C8F2-468A-A0C8-8B80B1119E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genda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4 due on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in Lab 3 some time this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- Scope and storag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s.zip - func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E2F-756A-4D4B-8AB4-30542D847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1981080"/>
            <a:ext cx="807696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Static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and 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Automatic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Local Variabl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popularSquare( int 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 int   timesCalled = 0 ;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// initialized only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     result  =  n * n ;</a:t>
            </a:r>
            <a:r>
              <a:rPr b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33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// initializ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Called  =  timesCalled + 1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“Call # “  &lt;&lt; timesCalled  &lt;&lt; endl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 resul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E98-D25E-41F1-8E4A-FBCFF363B7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2133720"/>
            <a:ext cx="8369280" cy="4254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Data Flow Determines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assing-Mechanism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2971800"/>
            <a:ext cx="822960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Pass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Pass-by-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ing/outgoing           Pass-by-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/* inout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arameter Data Flow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   Passing-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13372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81952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9528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74800" y="1905120"/>
            <a:ext cx="5321160" cy="869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74800" y="4191120"/>
            <a:ext cx="532116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334120"/>
            <a:ext cx="5321520" cy="1022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22860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gram with Several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86080" y="43434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quare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86080" y="5600880"/>
            <a:ext cx="5943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ube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638360"/>
            <a:ext cx="6686640" cy="50101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4800" y="3092400"/>
            <a:ext cx="5321160" cy="870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62040" y="2095560"/>
            <a:ext cx="59436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unction prot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 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462-951E-40CD-8E9F-452613F8AA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523880"/>
            <a:ext cx="853416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Value-returning Function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82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  Square ( int ) ;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/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  Cube ( int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square of 27 is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quare (27)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 endl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// function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t  &lt;&lt;  “The cube of 27 is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Cube (27)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&lt;    endl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// function cal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st of Program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848720" cy="472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t  Square ( int  n )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53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// header an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turn   n *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int  Cube ( int  n )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8004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33"/>
                </a:solidFill>
                <a:latin typeface="Arial"/>
              </a:rPr>
              <a:t>// header an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return  n * n *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514600"/>
            <a:ext cx="73915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totype for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float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Func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10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mountDue( ) with 2 par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is type char, the other is type 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 AmountDue ( char,  int 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unction will find and return the amount due for local phone calls. A char value ‘U’ or ‘L’ indicates Unlimited or Limited service, and the int holds the number of call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Unlimited service is $40.50 per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service is $19.38 for up to 30 calls, and $.09 per additional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131-913C-4ED0-A1E0-E80C17BA58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76320"/>
            <a:ext cx="853416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52280"/>
            <a:ext cx="83214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AmountDue (char  kind,   int call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// 2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    result ;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// 1 local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  float  UNLIM_RATE = 40.5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_RATE = 19.3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= .09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kind ==‘U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= UNLIM_RAT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( ( kind == ‘L’ ) &amp;&amp; ( calls &lt;= 30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= LIM_RAT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 = LIM_RATE + (calls - 30) * EXTRA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resul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F14-667F-4DFE-8F5B-230770B33D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76320"/>
            <a:ext cx="853416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76320"/>
            <a:ext cx="8305920" cy="66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io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include  &lt;fstre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AmountDue ( char,  int ) 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  ifstream   myInfile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stream  myOutfile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areaCode, Exchange, phoneNumber, call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       count  =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       bil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         service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 count &lt; 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Infile  &gt;&gt;  service  &gt;&gt; phoneNumber  &gt;&gt; call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ill  =  AmountDue (service, calls) ;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utfile  &lt;&lt;  phoneNumber &lt;&lt;  bill  &lt;&lt; endl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++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clos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CF8-966E-4E18-A6E6-642AB5220D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o handle the call</a:t>
            </a:r>
            <a:br>
              <a:rPr sz="4400"/>
            </a:b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AmountDue(service, calls)</a:t>
            </a:r>
            <a:endParaRPr b="1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5960" y="1987560"/>
            <a:ext cx="7988400" cy="2120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960" y="4425840"/>
            <a:ext cx="7988400" cy="21970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45320" y="2117880"/>
            <a:ext cx="414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AIN PROGRA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33600" y="4632480"/>
            <a:ext cx="641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RARY MEMORY for function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" y="2651040"/>
            <a:ext cx="157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" y="5165640"/>
            <a:ext cx="157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73360" y="3130560"/>
            <a:ext cx="1054080" cy="59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73560" y="3130560"/>
            <a:ext cx="1892160" cy="59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4480" y="3130560"/>
            <a:ext cx="1130040" cy="59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3360" y="5492880"/>
            <a:ext cx="1054080" cy="59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492880"/>
            <a:ext cx="1892160" cy="59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64480" y="5492880"/>
            <a:ext cx="1130040" cy="59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48520" y="3718080"/>
            <a:ext cx="540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22320" y="6156360"/>
            <a:ext cx="506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k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160" y="2651040"/>
            <a:ext cx="503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0           4002                      4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34920" y="5105520"/>
            <a:ext cx="503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7000           7002                      7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03680" y="3138480"/>
            <a:ext cx="77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13360" y="313848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6720" y="3138480"/>
            <a:ext cx="63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F7-FD1D-4B7C-9EAE-CC462CE317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andling Function Call</a:t>
            </a:r>
            <a:br>
              <a:rPr sz="4000"/>
            </a:b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bill</a:t>
            </a:r>
            <a:r>
              <a:rPr b="1" lang="en-US" sz="48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Courier New"/>
              </a:rPr>
              <a:t>= AmountDue(service, calls);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s by evaluating each argu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py of the value of each is sent to temporary memory which is created and waiting for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ction body determines res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 is returned and assigned to b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857-A401-402F-B0B0-58BFCD8206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84836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165-8DC1-40FE-AF82-EC49FDDC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1558800"/>
            <a:ext cx="664848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ope, Lifetime, and More on Functions</a:t>
            </a:r>
            <a:r>
              <a:rPr b="0" lang="en-US" sz="3200" spc="-1" strike="noStrike">
                <a:solidFill>
                  <a:srgbClr val="990099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e/Weems/Head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304920"/>
            <a:ext cx="8153280" cy="601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080" y="457200"/>
            <a:ext cx="766800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Power (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t   x 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Bas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t   n   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Power to raise bas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This function computes x to the 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Precon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  x is assigned  &amp;&amp;  n &gt;= 0  &amp;&amp;  (x to the n) &lt;= INT_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Postcond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//    Function value  ==  x to the 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result 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// Holds intermediate powers of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 = 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 ( n &gt;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 =  result  *  x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-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 resul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65F-4474-4FB2-80DC-E934332EA8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20880" y="2292480"/>
            <a:ext cx="7232400" cy="3270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2590920"/>
            <a:ext cx="228600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429000"/>
            <a:ext cx="167652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590920"/>
            <a:ext cx="1676160" cy="380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yntax Template for </a:t>
            </a:r>
            <a:br>
              <a:rPr sz="4400"/>
            </a:b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unction Defini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Type   FunctionName  (  Parameter List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37E-352A-4138-B1D5-903563EE9D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1523880"/>
            <a:ext cx="8153280" cy="480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Using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bool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ype with a Loop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  .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  dataOK 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declare Boolea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      temperatur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  .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OK = true 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// initialize the Boolea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 dataOK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.   .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temperature  &gt;  500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OK = false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C63-EA72-42EF-8AE0-BFDE79775B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1523880"/>
            <a:ext cx="8458200" cy="518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 Boolean Functio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   IsTriangle (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* in *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loat  angle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loat  angle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loat  angle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Function checks if 3 incoming values add up to 180 degre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forming a valid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PRECONDITION:   angle1, angle2, angle 3 are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 POSTCONDITIO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== true, if sum is within 0.000001 of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     180.0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== false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( fabs( angle1 + angle2 + angle3 - 180.0 )  &lt;  0.000001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24C6-636D-4069-BC78-A1F95902EE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533520" y="1371600"/>
            <a:ext cx="8076960" cy="5410080"/>
            <a:chOff x="533520" y="1371600"/>
            <a:chExt cx="8076960" cy="5410080"/>
          </a:xfrm>
        </p:grpSpPr>
        <p:sp>
          <p:nvSpPr>
            <p:cNvPr id="201" name=""/>
            <p:cNvSpPr/>
            <p:nvPr/>
          </p:nvSpPr>
          <p:spPr>
            <a:xfrm>
              <a:off x="533520" y="1371600"/>
              <a:ext cx="8076960" cy="541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520" y="40384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520" y="54100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520" y="2666880"/>
              <a:ext cx="807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ome Prototypes in Header File &lt; cctype &gt;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isalpha (char  ch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 FCTNVAL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nonzero, if ch is an alphabet lett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zero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 isdigit ( char  ch)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nonzero, if ch is a digit ( ‘0’ - ‘9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zero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islower ( char  ch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nonzero, if ch is a lowercase letter (‘a’ - ‘z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zero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 isupper ( char ch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nonzero, if ch is an uppercase letter (‘A’ - ‘Z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== zero,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182-1324-4BEF-A793-9A76A5C709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1523880"/>
            <a:ext cx="8458200" cy="5105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ome Prototypes in Header File &lt; cmath &gt;</a:t>
            </a:r>
            <a:endParaRPr b="1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  cos ( double  x )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 FCTNVAL  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== trigonometric cosine of angle x ra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  exp ( double  x 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== the value e (2.718 . . .) raised to the power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  log ( double x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== natural (base e) logarithm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  log10 ( double x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== common (base 10) logarithm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  pow ( double  x, double y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//  FCTNVAL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0066"/>
                </a:solidFill>
                <a:latin typeface="Arial"/>
              </a:rPr>
              <a:t>== x raised to the powe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59092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57200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56272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00E-44EC-4E2D-A426-6194CE8106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12790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What will the function do with your argument?”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3560" y="3048120"/>
            <a:ext cx="6643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swer determi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ther your function parame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be value or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follows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7AE-CB0C-4F2F-8896-33F5AE71CF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When to Use Value-Returning Functions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it must return more than one value or modify any of the caller’s arguments, do not use a value-returning fun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it must perform I/O, do not use a value-returning fun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only one value returned, and it is Boolean, a value-returning function i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is only one value returned, and that value will be used immediately in an expression, a value-returning function i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in doubt, use a void function.  You can recode any value-returning function as a void function by adding an extra outgoing parame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5000"/>
              <a:buFont typeface="Arial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both void and value-returning are acceptable, use the one you pre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083-19DC-451C-9689-52D296B143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11040" y="1606680"/>
            <a:ext cx="8369280" cy="4254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43800" y="2575080"/>
            <a:ext cx="461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* in */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valu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/* out */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referenc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using 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* inout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eferenc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What will the function do with your argument?</a:t>
            </a:r>
            <a:endParaRPr b="1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080" y="2575080"/>
            <a:ext cx="33062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ill only use it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will give it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change its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3160" y="1736640"/>
            <a:ext cx="352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FUNCTION-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43828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5053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472428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58672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47400" y="1736640"/>
            <a:ext cx="443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 PARAMETER IS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3320" y="6126120"/>
            <a:ext cx="674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:  I/O stream variables and arrays are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160020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E33-DCE7-4349-969D-305798F3E6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71520" y="1066680"/>
            <a:ext cx="8445600" cy="564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ConvertDates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This program reads dates in American form: mm/dd/yyy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from an input file and writes them to an output f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in American, British: dd/mm/yyyy, and ISO: yyyy-mm-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 formats. No data validation is done on the input 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****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cout and en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iomanip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se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fstream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file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ring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r string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ing namespace st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Get2Digits( ifstream&amp;, string&amp; );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proto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GetYear( ifstream&amp;, string&amp;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OpenForInput( ifstream&amp; 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OpenForOutput( ofstream&amp;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 Write( ofstream&amp;, string, string, string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2560" y="152280"/>
            <a:ext cx="7848720" cy="9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onvertDates Program 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091-5203-4C51-AD1A-A2869CB584A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880" y="50760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hapter 8 Topic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6720" y="160488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Scope vs. Global Scope of an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ed Scope Rules to Determine which Variables are Accessible in a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the Lifetim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ing a Value-Returning Function fo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Value-Returning Functions with Prototypes in Header Fil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ctyp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m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ing and Using a Module Structur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b Testing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136-E310-4A6D-8509-CEE3A741085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71520" y="1066680"/>
            <a:ext cx="8445600" cy="538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ConvertDates Continued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680" y="1295280"/>
            <a:ext cx="8169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main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   month;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Both digits of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   day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Both digits of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   year;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Four digits of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stream  dataIn;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Input file of 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fstream  dataOut;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Output file of 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ForInput(dataI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ForOutput(dataOu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Check fi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!dataIn  || !dataOu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Write hea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Out &lt;&lt; setw(20) &lt;&lt; “American Forma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setw(20) &lt;&lt; “British Forma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&lt; setw(20) &lt;&lt; “ISO Format”  &lt;&lt; endl &lt;&lt; 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29A-D3A5-437B-9019-A5F1261330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1520" y="1752480"/>
            <a:ext cx="844560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8000" y="210600"/>
            <a:ext cx="78483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End of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main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680" y="2205000"/>
            <a:ext cx="80928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2Digits( dataIn, month ) 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Priming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 dataIn 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Courier New"/>
              </a:rPr>
              <a:t>// While last read success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2Digits( dataIn,  day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ear( dataIn,  year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 dataOut, month, day, year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2Digits( dataIn, month );  </a:t>
            </a:r>
            <a:r>
              <a:rPr b="1" lang="en-US" sz="1800" spc="-1" strike="noStrike">
                <a:solidFill>
                  <a:srgbClr val="990000"/>
                </a:solidFill>
                <a:latin typeface="Courier New"/>
              </a:rPr>
              <a:t>// Read nex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 0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CDF-816C-480F-BDF6-C54452D165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43120" y="1905120"/>
            <a:ext cx="5800680" cy="396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8000" y="363240"/>
            <a:ext cx="78483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ample Input Data Fil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9280" y="1828800"/>
            <a:ext cx="5502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/11/19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 1  /  2  3    /  1  9  2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/2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5   /  28    / 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/   3/   19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6F4-07D6-49A1-9EAE-7FF45106DD6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715000" y="4724280"/>
            <a:ext cx="14479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35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828800"/>
            <a:ext cx="20574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35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3920" y="4724280"/>
            <a:ext cx="1523880" cy="99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35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724280"/>
            <a:ext cx="1523880" cy="99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35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4724280"/>
            <a:ext cx="16002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35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4724280"/>
            <a:ext cx="1524240" cy="99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3500000" blurRad="0" rotWithShape="0">
              <a:srgbClr val="99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53880" y="4792680"/>
            <a:ext cx="1231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70720" y="4792680"/>
            <a:ext cx="136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odule Structure Chart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97880" y="1935000"/>
            <a:ext cx="76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29680" y="47847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2880" y="4792680"/>
            <a:ext cx="1315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4080" y="4784760"/>
            <a:ext cx="1315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4382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2832120"/>
            <a:ext cx="0" cy="18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2819520"/>
            <a:ext cx="754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819520"/>
            <a:ext cx="0" cy="18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819520"/>
            <a:ext cx="0" cy="18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2819520"/>
            <a:ext cx="0" cy="18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960" y="39006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43000" y="3733920"/>
            <a:ext cx="0" cy="761400"/>
            <a:chOff x="1143000" y="3733920"/>
            <a:chExt cx="0" cy="761400"/>
          </a:xfrm>
        </p:grpSpPr>
        <p:sp>
          <p:nvSpPr>
            <p:cNvPr id="262" name=""/>
            <p:cNvSpPr/>
            <p:nvPr/>
          </p:nvSpPr>
          <p:spPr>
            <a:xfrm flipV="1">
              <a:off x="1143000" y="37339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43000" y="4267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332080" y="39006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895480" y="3733920"/>
            <a:ext cx="0" cy="761400"/>
            <a:chOff x="2895480" y="3733920"/>
            <a:chExt cx="0" cy="761400"/>
          </a:xfrm>
        </p:grpSpPr>
        <p:sp>
          <p:nvSpPr>
            <p:cNvPr id="266" name=""/>
            <p:cNvSpPr/>
            <p:nvPr/>
          </p:nvSpPr>
          <p:spPr>
            <a:xfrm flipV="1">
              <a:off x="2895480" y="37339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95480" y="4267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39960" y="39006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14800" y="3733920"/>
            <a:ext cx="0" cy="761400"/>
            <a:chOff x="4114800" y="3733920"/>
            <a:chExt cx="0" cy="761400"/>
          </a:xfrm>
        </p:grpSpPr>
        <p:sp>
          <p:nvSpPr>
            <p:cNvPr id="270" name=""/>
            <p:cNvSpPr/>
            <p:nvPr/>
          </p:nvSpPr>
          <p:spPr>
            <a:xfrm flipV="1">
              <a:off x="4114800" y="37339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267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421520" y="39006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Ch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528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46720" y="39006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8502480" y="3733920"/>
            <a:ext cx="0" cy="761400"/>
            <a:chOff x="8502480" y="3733920"/>
            <a:chExt cx="0" cy="761400"/>
          </a:xfrm>
        </p:grpSpPr>
        <p:sp>
          <p:nvSpPr>
            <p:cNvPr id="276" name=""/>
            <p:cNvSpPr/>
            <p:nvPr/>
          </p:nvSpPr>
          <p:spPr>
            <a:xfrm flipV="1">
              <a:off x="8502480" y="37339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02480" y="4267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019920" y="3733920"/>
            <a:ext cx="0" cy="761400"/>
            <a:chOff x="6019920" y="3733920"/>
            <a:chExt cx="0" cy="761400"/>
          </a:xfrm>
        </p:grpSpPr>
        <p:sp>
          <p:nvSpPr>
            <p:cNvPr id="279" name=""/>
            <p:cNvSpPr/>
            <p:nvPr/>
          </p:nvSpPr>
          <p:spPr>
            <a:xfrm flipV="1">
              <a:off x="6019920" y="37339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42670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11320" y="39006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73740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21040" y="39006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20880" y="3352680"/>
            <a:ext cx="88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6201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012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3740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76320"/>
            <a:ext cx="868680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GetYear (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* inout *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fstream  dataIn,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ring&amp;   year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Function reads characters from dataIn and returns four dig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characters in the year st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PRECONDITION:   dataIn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POSTCONDITION:  year 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  digitChar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 One digit of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loopCount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 Loop control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 =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“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// null string to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Count  = 1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 ( loopCount  &lt;=  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In  &gt;&gt;  digitChar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 =  year  + digitChar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pCount++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24D-2DD5-4D04-B411-B1F511A879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Use Stubs in Testing a Program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1905120"/>
            <a:ext cx="724212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tub is a dummy function with a very simple body, often just an output statement that this function was reached, and a return value (if any is required) of the correct type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name and parameter list is the same as a function that will actually be called by the program being tes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1ED-037B-4109-B5E0-E0011DEB36C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A Stub for Function </a:t>
            </a:r>
            <a:r>
              <a:rPr b="1" lang="en-US" sz="4400" spc="-1" strike="noStrike">
                <a:solidFill>
                  <a:srgbClr val="660066"/>
                </a:solidFill>
                <a:latin typeface="Courier New"/>
              </a:rPr>
              <a:t>GetYear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  GetYear (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* inout *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stream data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/* out *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string&amp;   year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 Stub to test GetYear function in ConvertDates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//  PRECONDITION:   dataIn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// POSTCONDITION:  year  as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t  &lt;&lt; “GetYear was called.  Returning \”1948\”.”  &lt;&lt; end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ar  = “1948”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5C8-73C3-4C00-BAB9-A8A8E2A5FB6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cope of Identifier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ope of an identifier                 (or named constant) means    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he region of program code where it is legal to u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identifier for any purp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BA7-0020-4848-87BB-0ADAB8A5FB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Local Scope  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vs.   </a:t>
            </a:r>
            <a:r>
              <a:rPr b="1" lang="en-US" sz="4400" spc="-1" strike="noStrike">
                <a:solidFill>
                  <a:srgbClr val="006666"/>
                </a:solidFill>
                <a:latin typeface="Times New Roman"/>
              </a:rPr>
              <a:t>Global Sco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34920"/>
            <a:ext cx="3803760" cy="4406760"/>
          </a:xfrm>
          <a:prstGeom prst="rect">
            <a:avLst/>
          </a:prstGeom>
          <a:solidFill>
            <a:srgbClr val="ffffcc"/>
          </a:solidFill>
          <a:ln w="28440">
            <a:solidFill>
              <a:srgbClr val="99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ope of an identifier that is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eclared inside a 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is includes function parameters) extends from the point of declaration to the end of the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23920" y="1834920"/>
            <a:ext cx="3962520" cy="4406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66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ope of an identifier that is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clared outside of all namespaces, functions and cl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nds from point of declaration to the end of the entire file containing program c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A0A-C70C-4D5F-A442-C0C0EA5FF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76320"/>
            <a:ext cx="8153280" cy="66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9440" y="152280"/>
            <a:ext cx="748044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   float   TAX_RATE = 0.05 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// global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  tipRate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// global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 handle ( int,  float )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function prot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 namespace  std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main (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    age 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age and bill local to this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 bill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a, b, and tax cannot be used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66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// TAX_RATE and tipRate can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(age, bill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 0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 handle (int a,  float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  tax ;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// a, b, and tax local to this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age and bill cannot be used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6666"/>
                </a:solidFill>
                <a:latin typeface="Arial"/>
              </a:rPr>
              <a:t>// TAX_RATE and tipRate can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BAC-CFAB-422C-AAD0-CB26866D81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Detailed Scope Rules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8892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name has global scop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 parameter scope is identical to scope of a local variable declared in the outermost block of the function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variable (or constant) scope extends from declaration to the end of the file, except as noted in rule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5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variable (or constant) scope extends from declaration to the end of the block where declared.  This scope includes any nested blocks, except as noted in rule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5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dentifier’s scope does not include any nested block that contains a locally declared identifier with the same name (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ocal identifiers have name prece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7B1-D5D9-463E-85FE-B11D806D2B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Name Precedence Implemented by Compiler Determines Scope</a:t>
            </a:r>
            <a:endParaRPr b="1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expression refers to an identifier, the compiler first checks the local decla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identifier isn’t local, compiler works outward through each level of nesting until it finds an identifier with same name.  There it st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identifier with the same name declared at a level further out is never re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ompiler reaches global declarations and still can’t find the identifier, an error message resul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18E-7AC7-47F1-B869-5FCD24D7C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2:40Z</dcterms:created>
  <dc:creator>Sylvia Sorkin</dc:creator>
  <dc:description/>
  <dc:language>en-US</dc:language>
  <cp:lastModifiedBy>Victor R. Volkman</cp:lastModifiedBy>
  <cp:lastPrinted>1999-05-12T06:07:32Z</cp:lastPrinted>
  <dcterms:modified xsi:type="dcterms:W3CDTF">2001-03-04T19:42:31Z</dcterms:modified>
  <cp:revision>137</cp:revision>
  <dc:subject>C++ local and global scope, lifetime, static and automatic variables</dc:subject>
  <dc:title>Programming and Problem Solving with C++, 2/e</dc:title>
</cp:coreProperties>
</file>