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845-79A0-40CA-8408-DCC000A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878-E189-4240-9A88-D074BBD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81C-148C-473D-B305-1371072A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E24-201A-4856-8EF1-50511D7C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0578-0F19-488B-B34C-DBDF7FFB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09E9-B2FC-4023-9DA9-6F92A75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858-DB8B-4A1D-970D-17EF2F9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1E15-FDC8-4C9C-A421-3D87DE6C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FB81-F033-411E-819F-D5880B7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4D0C-2347-4EAE-BF47-009F5A5E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13C-5CE0-43DF-8C5E-0F8E3D6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143-8D2E-4FE7-9147-8EF1EE9F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44DA-0565-49DF-8E71-6D8780C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704-C913-461C-B38F-60249DC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282-4333-4E5E-8429-69B3382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FCE-8647-4A8D-AD8C-93C0F729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E000-E872-432B-91EF-85EE6735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1A9-EC52-420C-8794-BF20E8D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A35-1BE9-41A9-80E5-26CE2173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611-A1A5-46E9-9854-EF72E802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FD8-3CF7-41A4-8576-A7539ECC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64E-BD81-43E0-9F6D-C8099EF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6B6-83C2-48BB-A153-D14DC98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72D-0107-4433-B58C-C782FA4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6B3-31E6-4FE1-8A4E-AE630A8C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7A50-9069-4685-ACDF-D2531DA6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33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33cc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PS 171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9th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8B3F-D909-4E1E-84AC-904A884D0C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54240" y="3664080"/>
            <a:ext cx="2578320" cy="977760"/>
          </a:xfrm>
          <a:prstGeom prst="diamond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Do-While Loop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expression is tested and found to be false, the loop is exited and control passes to the statement that follows the do-whil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82840" y="2521080"/>
            <a:ext cx="2273400" cy="67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0320" y="265104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3160" y="3886200"/>
            <a:ext cx="176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752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2120" y="17366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32608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04240" y="4784760"/>
            <a:ext cx="11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2160" y="4251240"/>
            <a:ext cx="101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648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1911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10280" y="289512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562360" y="28954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D85-666D-428C-ADE1-636004855E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for() loop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24E-2807-4381-9FB2-0C2DEC78C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92280" y="2825640"/>
            <a:ext cx="7988040" cy="295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A Count-Controlled Loop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initializ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est expression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pd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or more statements to 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9D0-ABCC-4033-AEED-DED392BE58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he for loop co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993300"/>
                </a:solidFill>
                <a:latin typeface="Courier New"/>
              </a:rPr>
              <a:t>an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an expression to test for contin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37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n update to execute after each iteration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198-92BA-4E2F-8740-D767586C0BA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1828800"/>
            <a:ext cx="723888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67820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34C-BDD6-4580-98A2-2454BE14A5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58760" y="1600200"/>
            <a:ext cx="6865920" cy="838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8240" y="628560"/>
            <a:ext cx="45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876920"/>
            <a:ext cx="44956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E29-7B35-4FF6-BE44-92D7F8898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438280"/>
            <a:ext cx="2438640" cy="762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4876920"/>
            <a:ext cx="44956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96F-B1D6-413D-B52C-97292BFFF0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438280"/>
            <a:ext cx="182880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5760" y="1944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876920"/>
            <a:ext cx="44956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BD2-1CEF-42ED-9B30-6C46BC8F35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58760" y="3276720"/>
            <a:ext cx="6865920" cy="838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167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60600" y="5021280"/>
              <a:ext cx="18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D1D-3D72-4E20-8228-C9CF09846C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438280"/>
            <a:ext cx="259056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178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0600" y="5021280"/>
              <a:ext cx="1806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451-7B18-47DC-9BFD-B5046B198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Agenda for Monday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CPS171 tutoring in LA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hapter 9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fall.cpp, guess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ing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8F1-0D6D-47CF-A7EC-676CE00B7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5760" y="1944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438280"/>
            <a:ext cx="182880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189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60600" y="5021280"/>
              <a:ext cx="1806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BC6-6D9F-4BD2-819B-153C5802B7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58760" y="3276720"/>
            <a:ext cx="6865920" cy="838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01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CD3-145E-4CB1-A329-12D098DEA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438280"/>
            <a:ext cx="259056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12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044-5C50-4AA5-A541-36573F2D7D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5760" y="1944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22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05320" y="2438280"/>
            <a:ext cx="182880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F7E-89B1-45F1-B3E8-524AD6A3C5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8760" y="3276720"/>
            <a:ext cx="6865920" cy="838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57200"/>
            <a:ext cx="680760" cy="665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35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BDA-30D5-4D98-82DD-8AEC53F5D3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2438280"/>
            <a:ext cx="259056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46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C74-DDAF-4EEB-9E62-0D8FA1CA04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47240" y="42307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5760" y="1944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0" y="4876920"/>
            <a:ext cx="4495680" cy="1752480"/>
            <a:chOff x="2286000" y="4876920"/>
            <a:chExt cx="4495680" cy="1752480"/>
          </a:xfrm>
        </p:grpSpPr>
        <p:sp>
          <p:nvSpPr>
            <p:cNvPr id="256" name=""/>
            <p:cNvSpPr/>
            <p:nvPr/>
          </p:nvSpPr>
          <p:spPr>
            <a:xfrm>
              <a:off x="2286000" y="4876920"/>
              <a:ext cx="4495680" cy="17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60600" y="5021280"/>
              <a:ext cx="1806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o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505320" y="2438280"/>
            <a:ext cx="182880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128-E1C8-4763-BEAB-DA08A69A16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1616040"/>
            <a:ext cx="6858000" cy="249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22280" y="174600"/>
            <a:ext cx="6762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Example of Repetition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25600" y="490680"/>
            <a:ext cx="681120" cy="664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120" y="676440"/>
            <a:ext cx="91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1760" y="43308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the loop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evaluated and has value fals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op is said to be “satisfied”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 passes to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llowing the For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88240" y="628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5760" y="1944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2438280"/>
            <a:ext cx="1828800" cy="838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38040" y="1766880"/>
            <a:ext cx="638172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um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 &lt;= 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+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num  &lt;&lt;  “Potato”  &lt;&lt; 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DF3-27CF-449C-9E98-056FA2D1D4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The output was: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2117880"/>
            <a:ext cx="3978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Pot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Pot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Pot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CF7-344D-41F1-AD05-CE8B39744C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990720"/>
            <a:ext cx="8458200" cy="35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cou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( count = 4 ; count &gt; 0 ; cou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t  &lt;&lt;  count &lt;&lt;  endl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lt;&lt;  “Done”  &lt;&lt;  end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ount-controlled Loop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040" y="4784760"/>
            <a:ext cx="277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082-F801-437D-AC20-4E80607F9D8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Wednesday 2/21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3 due on Wed. 3/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4 already posted on class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  work on 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43A-F8CE-43F9-8286-D4A37B8E6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920" y="1523880"/>
            <a:ext cx="8458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What is output?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 cou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unt =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ount &lt; 10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nt++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t  &lt;&lt;  “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206-12ED-46E9-B4FD-F31B7AC0F06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240" y="2041560"/>
            <a:ext cx="4969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*****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120" y="4327560"/>
            <a:ext cx="733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the 10 asterisks are all on one line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C85-1CCC-482D-93BC-811D23141E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1523880"/>
            <a:ext cx="845820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What output from this loop?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 cou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(count = 0;  count &lt; 10;  count++) </a:t>
            </a:r>
            <a:r>
              <a:rPr b="1" lang="en-US" sz="3200" spc="-1" strike="noStrike">
                <a:solidFill>
                  <a:srgbClr val="336633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t  &lt;&lt;  “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15C-B575-4BC6-AF50-76DBF94821E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output from the for loop!    Why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; right after the (  ) means that the body statement is a null stat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 general, the Body of the for loop is whatever statement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immediately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follows the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tatement can be a single statement, a block, or a null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ly, the code outputs one * after the loop completes its counting to 10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OUTPU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828-C889-4895-BCA8-C6078C752B1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04920" y="1523880"/>
            <a:ext cx="845820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Several Statements in Body Block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 int  MONTHS = 12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c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bill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sum = 0.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count = 1;  count &lt;= MONTHS;  count++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t &lt;&lt; “Enter bill: “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in   &gt;&gt;  bil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m = sum + bil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Your total bill is : “  &lt;&lt; sum &lt;&lt; 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77C-0805-4071-83F5-53C9829C35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Break Statemen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15328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statement can be used with Switch or any of the 3 looping 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uses an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mediate ex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e Switch, While, Do-While, or For statement in which it ap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break is inside nested structures, control exits only th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nermost struc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tain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970-B2BD-4EA3-BA85-1B3D958752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ontinue Statemen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valid only within lo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rminates the current loop iteration, but not the entire 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For or While, continue causes the rest of the body statement to be skipped--in a For statement, the update is d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o-While, the exit condition is tested, and if true, the next loop iteration is begu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84C-08ED-4227-A2F7-4D18DCDE9B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Imagine using . . .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aracter, a length, and a width to draw a box, for examp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values ‘&amp;’, 4, and 6 would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&amp;&amp;&amp;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&amp;&amp;&amp;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&amp;&amp;&amp;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&amp;&amp;&amp;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8D7-37A2-4AF7-BCDF-A60047349DE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Write prototype for void function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ed  DrawBox ( ) with 3 parame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is type char,  the other 2 are type int.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oid DrawBox( char,  int ,  in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 Some C++ books include identifiers in prototypes.  Any valid C++ identifiers, as long as each is different, can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oid DrawBox( char  letter,  int  num1,  int  num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320" y="37339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D30-D156-413A-B7E3-F19D99BABD2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458200" cy="60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rawBox(char what, int down, int acros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// 3 function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ow, col;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// 2 loc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row = 0; row &lt; down; row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col = 0; col &lt; across; col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wh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B00-AEF6-4CB9-A373-B509BC942C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Control Structures</a:t>
            </a:r>
            <a:r>
              <a:rPr b="0" lang="en-US" sz="3200" spc="-1" strike="noStrike">
                <a:solidFill>
                  <a:srgbClr val="0033cc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6FB-CA7A-4B9D-BB14-1FE0B8343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1523880"/>
            <a:ext cx="8382240" cy="48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void DrawBox (char, int, int);   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//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 (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50028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letter = ‘&amp;’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50028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awBox(letter, 4, 2*3);  </a:t>
            </a:r>
            <a:r>
              <a:rPr b="1" i="1" lang="en-US" sz="2000" spc="-1" strike="noStrike">
                <a:solidFill>
                  <a:srgbClr val="e50028"/>
                </a:solidFill>
                <a:latin typeface="Courier New"/>
              </a:rPr>
              <a:t>//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awBox(‘V’, 9, 3);       </a:t>
            </a:r>
            <a:r>
              <a:rPr b="1" i="1" lang="en-US" sz="2000" spc="-1" strike="noStrike">
                <a:solidFill>
                  <a:srgbClr val="e50028"/>
                </a:solidFill>
                <a:latin typeface="Courier New"/>
              </a:rPr>
              <a:t>// appear i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1680" y="426960"/>
            <a:ext cx="486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IV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577-4B85-4B61-9E72-2BA9D3A631F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1600200"/>
            <a:ext cx="7772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Write a function using prototype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void DisplayTable ( int ) ;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//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 displays a specified multiplication table.   For example, the call DisplayTable(6) displays this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x 6  =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x 6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x 6 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x 6  =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1C3-FCC4-4C5B-B22A-1A9CE55795C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Looping Workshee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BDF0-A257-4417-80D2-4540D171A0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hapter 9 Topics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78105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witch Statement for Multi-way Branch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lready covered last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-While Statement for L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tatement for L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brea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95D-F03A-49B4-8CEB-5ADC8024FF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do-while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t the bottom of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E3C-4077-4820-970C-6AD6B44EB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4560" y="3587760"/>
            <a:ext cx="6769080" cy="2197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Do-While Statemen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 a looping control structure in which the loop condition is tested after each iteration of the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while (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Express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 body statement can be a single statement or a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A72-AC8C-458D-829D-3ED4459AA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45820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520" y="1579680"/>
            <a:ext cx="695016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GetYesOrNo (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har&amp;  respons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Inputs a character from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 Postcondition:           response has been inpu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       &amp;&amp;  response  ==  ‘y’  or  ‘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&gt;&gt;  response ;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skips leading whit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( response  !=  ‘y’ )  &amp;&amp;  ( response  !=  ‘n’ )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Please type  y or n : “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while ( ( response  !=  ‘y’ )  &amp;&amp;  ( response  !=  ‘n’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90360" y="411120"/>
            <a:ext cx="5714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Function Using Do-W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7DD-E1B5-4199-B4D9-B19064711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o-While Loop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vs. 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ile Loop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9760" y="2006640"/>
            <a:ext cx="4064040" cy="41400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EST loop (exit-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ing condition is tested after executing the loop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body is always executed at leas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2006640"/>
            <a:ext cx="3987720" cy="4140000"/>
          </a:xfrm>
          <a:prstGeom prst="rect">
            <a:avLst/>
          </a:prstGeom>
          <a:solidFill>
            <a:srgbClr val="ffffcc"/>
          </a:solidFill>
          <a:ln w="50760">
            <a:solidFill>
              <a:srgbClr val="ff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loop (entry-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ing condition is tested before executing the loop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body may not be executed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3EF-36F1-48F2-9E54-654B71C9F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2:40Z</dcterms:created>
  <dc:creator>Sylvia Sorkin</dc:creator>
  <dc:description/>
  <dc:language>en-US</dc:language>
  <cp:lastModifiedBy>Victor R. Volkman</cp:lastModifiedBy>
  <cp:lastPrinted>1999-05-14T02:37:13Z</cp:lastPrinted>
  <dcterms:modified xsi:type="dcterms:W3CDTF">2001-02-18T22:28:31Z</dcterms:modified>
  <cp:revision>150</cp:revision>
  <dc:subject>C++ Switch, Do-While, For statement, break, continue</dc:subject>
  <dc:title>Programming and Problem Solving with C++, 2/e</dc:title>
</cp:coreProperties>
</file>